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907588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815976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5000" y="4165920"/>
            <a:ext cx="815976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6040" y="1888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5000" y="4165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6040" y="4165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262728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4040" y="1888920"/>
            <a:ext cx="262728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3080" y="1888920"/>
            <a:ext cx="262728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5000" y="4165920"/>
            <a:ext cx="262728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4040" y="4165920"/>
            <a:ext cx="262728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3080" y="4165920"/>
            <a:ext cx="262728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5000" y="188892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39816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6040" y="1888920"/>
            <a:ext cx="39816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595440"/>
            <a:ext cx="7309080" cy="57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6040" y="1888920"/>
            <a:ext cx="39816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5000" y="4165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398160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6040" y="1888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6040" y="4165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6040" y="1888920"/>
            <a:ext cx="398160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5000" y="4165920"/>
            <a:ext cx="8159760" cy="207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320" y="533520"/>
            <a:ext cx="7155000" cy="468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5000" y="188892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33cc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692280" cy="0"/>
          </a:xfrm>
          <a:prstGeom prst="line">
            <a:avLst/>
          </a:prstGeom>
          <a:ln w="763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20080" y="838080"/>
            <a:ext cx="1817640" cy="0"/>
          </a:xfrm>
          <a:prstGeom prst="line">
            <a:avLst/>
          </a:prstGeom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3040" y="6327720"/>
            <a:ext cx="1205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For external rel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8040" y="6327720"/>
            <a:ext cx="1187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41A5-9375-467F-BAED-499263A20526}" type="datetime3">
              <a:rPr b="0" lang="en-US" sz="900" spc="-1" strike="noStrike">
                <a:solidFill>
                  <a:srgbClr val="063de8"/>
                </a:solidFill>
                <a:latin typeface="Arial"/>
              </a:rPr>
              <a:t>July 29, 2026</a:t>
            </a:fld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 </a:t>
            </a:r>
            <a:fld id="{C6CE31C1-9A71-4A8C-BC75-62F440BFC24E}" type="datetime10">
              <a:rPr b="0" lang="en-US" sz="900" spc="-1" strike="noStrike">
                <a:solidFill>
                  <a:srgbClr val="063de8"/>
                </a:solidFill>
                <a:latin typeface="Arial"/>
              </a:rPr>
              <a:t>12:25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379040" y="6327720"/>
            <a:ext cx="1024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Slide: </a:t>
            </a:r>
            <a:fld id="{CDE73161-AB94-4255-9FD0-2E4F8B8D5D79}" type="slidenum">
              <a:rPr b="0" lang="en-US" sz="900" spc="-1" strike="noStrike">
                <a:solidFill>
                  <a:srgbClr val="063de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 Standard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an Dickins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ent Technology Group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P Laboratories, Bristol, U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jd@hplb.hpl.hp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7320" y="3581280"/>
            <a:ext cx="901692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Reference application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968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 travel ass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 assist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rovisioning an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ff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udio/Video Entertainment and Broadca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467480" y="2286000"/>
            <a:ext cx="838440" cy="1752480"/>
            <a:chOff x="7467480" y="2286000"/>
            <a:chExt cx="838440" cy="1752480"/>
          </a:xfrm>
        </p:grpSpPr>
        <p:sp>
          <p:nvSpPr>
            <p:cNvPr id="141" name=""/>
            <p:cNvSpPr/>
            <p:nvPr/>
          </p:nvSpPr>
          <p:spPr>
            <a:xfrm>
              <a:off x="7467480" y="2286000"/>
              <a:ext cx="0" cy="174780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05920" y="2290320"/>
              <a:ext cx="0" cy="174780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286000"/>
              <a:ext cx="83844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7480" y="4038480"/>
              <a:ext cx="83844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05520" y="2057400"/>
            <a:ext cx="2132640" cy="2292120"/>
            <a:chOff x="5105520" y="2057400"/>
            <a:chExt cx="2132640" cy="2292120"/>
          </a:xfrm>
        </p:grpSpPr>
        <p:sp>
          <p:nvSpPr>
            <p:cNvPr id="146" name=""/>
            <p:cNvSpPr/>
            <p:nvPr/>
          </p:nvSpPr>
          <p:spPr>
            <a:xfrm>
              <a:off x="5105520" y="2057400"/>
              <a:ext cx="0" cy="228600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160" y="2063520"/>
              <a:ext cx="0" cy="228600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520" y="2057400"/>
              <a:ext cx="213264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5520" y="4349520"/>
              <a:ext cx="213264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257800" y="3498840"/>
            <a:ext cx="914400" cy="2292120"/>
            <a:chOff x="5257800" y="3498840"/>
            <a:chExt cx="914400" cy="2292120"/>
          </a:xfrm>
        </p:grpSpPr>
        <p:sp>
          <p:nvSpPr>
            <p:cNvPr id="151" name=""/>
            <p:cNvSpPr/>
            <p:nvPr/>
          </p:nvSpPr>
          <p:spPr>
            <a:xfrm>
              <a:off x="5257800" y="3498840"/>
              <a:ext cx="0" cy="228600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3504960"/>
              <a:ext cx="0" cy="228600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7800" y="3498840"/>
              <a:ext cx="91440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57800" y="5790960"/>
              <a:ext cx="91440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152920" y="4038480"/>
            <a:ext cx="304920" cy="380880"/>
            <a:chOff x="8152920" y="4038480"/>
            <a:chExt cx="304920" cy="380880"/>
          </a:xfrm>
        </p:grpSpPr>
        <p:sp>
          <p:nvSpPr>
            <p:cNvPr id="156" name=""/>
            <p:cNvSpPr/>
            <p:nvPr/>
          </p:nvSpPr>
          <p:spPr>
            <a:xfrm flipH="1">
              <a:off x="8152560" y="4101480"/>
              <a:ext cx="304920" cy="31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52560" y="4038480"/>
              <a:ext cx="30492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409360" y="518148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Gothic"/>
              </a:rPr>
              <a:t>U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65904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User Profile Ag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400080" y="365904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VOD controller wrap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080" y="289548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MS Gothic"/>
              </a:rPr>
              <a:t>Control Ag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400080" y="2133720"/>
            <a:ext cx="685800" cy="53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uner wrapp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34120" y="2133720"/>
            <a:ext cx="838080" cy="53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DSM wrapp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09360" y="289548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nterface Ag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923960" y="1676520"/>
            <a:ext cx="1143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1520" y="3505320"/>
            <a:ext cx="304920" cy="380520"/>
            <a:chOff x="8381520" y="3505320"/>
            <a:chExt cx="304920" cy="380520"/>
          </a:xfrm>
        </p:grpSpPr>
        <p:sp>
          <p:nvSpPr>
            <p:cNvPr id="167" name=""/>
            <p:cNvSpPr/>
            <p:nvPr/>
          </p:nvSpPr>
          <p:spPr>
            <a:xfrm flipH="1">
              <a:off x="8381160" y="3568320"/>
              <a:ext cx="30492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381160" y="3505320"/>
              <a:ext cx="30492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534520" y="3962520"/>
            <a:ext cx="304560" cy="380520"/>
            <a:chOff x="8534520" y="3962520"/>
            <a:chExt cx="304560" cy="380520"/>
          </a:xfrm>
        </p:grpSpPr>
        <p:sp>
          <p:nvSpPr>
            <p:cNvPr id="170" name=""/>
            <p:cNvSpPr/>
            <p:nvPr/>
          </p:nvSpPr>
          <p:spPr>
            <a:xfrm flipH="1">
              <a:off x="8534520" y="4025520"/>
              <a:ext cx="30456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8534520" y="3962520"/>
              <a:ext cx="30456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7923960" y="3429000"/>
            <a:ext cx="1143000" cy="1143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543080" y="335268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Guide Agent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543080" y="2438280"/>
            <a:ext cx="685800" cy="53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Guide Agent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476400" y="16002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????"/>
              </a:rPr>
              <a:t>TU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409360" y="1600200"/>
            <a:ext cx="801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????"/>
              </a:rPr>
              <a:t>Digital Storag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MS P????"/>
              </a:rPr>
              <a:t>Media (DS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81320" y="26668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781320" y="3429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5909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934600" y="3395160"/>
            <a:ext cx="583200" cy="28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715000" y="3429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095520" y="31240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8132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781320" y="4191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715000" y="1905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28191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90200" y="3285000"/>
            <a:ext cx="464760" cy="32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6440" y="4191120"/>
            <a:ext cx="5040" cy="99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9880" y="2666880"/>
          <a:ext cx="627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627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495680" y="3200400"/>
            <a:ext cx="914400" cy="0"/>
          </a:xfrm>
          <a:prstGeom prst="line">
            <a:avLst/>
          </a:prstGeom>
          <a:ln w="2844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4648320"/>
            <a:ext cx="11052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 Narrow"/>
                <a:ea typeface="MS P????"/>
              </a:rPr>
              <a:t>User Group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720" y="3032280"/>
            <a:ext cx="1466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0000"/>
                </a:solidFill>
                <a:latin typeface="Arial"/>
                <a:ea typeface="MS P????"/>
              </a:rPr>
              <a:t>Content Provider Do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153280" y="1905120"/>
            <a:ext cx="228600" cy="304560"/>
            <a:chOff x="8153280" y="1905120"/>
            <a:chExt cx="228600" cy="304560"/>
          </a:xfrm>
        </p:grpSpPr>
        <p:sp>
          <p:nvSpPr>
            <p:cNvPr id="195" name=""/>
            <p:cNvSpPr/>
            <p:nvPr/>
          </p:nvSpPr>
          <p:spPr>
            <a:xfrm flipV="1">
              <a:off x="8153280" y="1905120"/>
              <a:ext cx="228600" cy="126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7400" y="1905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58200" y="1828440"/>
            <a:ext cx="228600" cy="305280"/>
            <a:chOff x="8458200" y="1828440"/>
            <a:chExt cx="228600" cy="305280"/>
          </a:xfrm>
        </p:grpSpPr>
        <p:sp>
          <p:nvSpPr>
            <p:cNvPr id="198" name=""/>
            <p:cNvSpPr/>
            <p:nvPr/>
          </p:nvSpPr>
          <p:spPr>
            <a:xfrm flipV="1">
              <a:off x="8458200" y="1828080"/>
              <a:ext cx="228600" cy="127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72320" y="1828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534520" y="2285640"/>
            <a:ext cx="228600" cy="305280"/>
            <a:chOff x="8534520" y="2285640"/>
            <a:chExt cx="228600" cy="305280"/>
          </a:xfrm>
        </p:grpSpPr>
        <p:sp>
          <p:nvSpPr>
            <p:cNvPr id="201" name=""/>
            <p:cNvSpPr/>
            <p:nvPr/>
          </p:nvSpPr>
          <p:spPr>
            <a:xfrm flipV="1">
              <a:off x="8534520" y="2285280"/>
              <a:ext cx="228600" cy="127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4864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H="1" flipV="1">
            <a:off x="7086600" y="1752480"/>
            <a:ext cx="914400" cy="15264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6211440" y="1749600"/>
            <a:ext cx="265320" cy="28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86600" y="4343400"/>
            <a:ext cx="914400" cy="2286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49720" y="510552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0080" y="530856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50080" y="5513400"/>
            <a:ext cx="304920" cy="1440"/>
          </a:xfrm>
          <a:prstGeom prst="line">
            <a:avLst/>
          </a:prstGeom>
          <a:ln w="2844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4952880"/>
            <a:ext cx="663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????"/>
              </a:rPr>
              <a:t>: A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515628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????"/>
              </a:rPr>
              <a:t>: non-ACC A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58200" y="27432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????"/>
              </a:rPr>
              <a:t>Provider Type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58200" y="44956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MS P????"/>
              </a:rPr>
              <a:t>Provider Type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9810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????"/>
              </a:rPr>
              <a:t>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876560" y="1752480"/>
            <a:ext cx="533160" cy="3049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724280" y="4572000"/>
            <a:ext cx="15624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24280" y="2514240"/>
            <a:ext cx="0" cy="20574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2666880"/>
            <a:ext cx="7891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 Narrow"/>
                <a:ea typeface="MS P????"/>
              </a:rPr>
              <a:t>User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105520" y="4952880"/>
            <a:ext cx="2133000" cy="152640"/>
            <a:chOff x="5105520" y="4952880"/>
            <a:chExt cx="2133000" cy="152640"/>
          </a:xfrm>
        </p:grpSpPr>
        <p:sp>
          <p:nvSpPr>
            <p:cNvPr id="219" name=""/>
            <p:cNvSpPr/>
            <p:nvPr/>
          </p:nvSpPr>
          <p:spPr>
            <a:xfrm flipV="1">
              <a:off x="5105520" y="4952880"/>
              <a:ext cx="0" cy="15264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520" y="4952880"/>
              <a:ext cx="2133000" cy="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8520" y="4952880"/>
              <a:ext cx="0" cy="15264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238880" y="5181480"/>
            <a:ext cx="0" cy="609480"/>
            <a:chOff x="7238880" y="5181480"/>
            <a:chExt cx="0" cy="609480"/>
          </a:xfrm>
        </p:grpSpPr>
        <p:sp>
          <p:nvSpPr>
            <p:cNvPr id="223" name=""/>
            <p:cNvSpPr/>
            <p:nvPr/>
          </p:nvSpPr>
          <p:spPr>
            <a:xfrm>
              <a:off x="7238880" y="5181480"/>
              <a:ext cx="0" cy="15228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8880" y="5410080"/>
              <a:ext cx="0" cy="15228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38880" y="5638680"/>
              <a:ext cx="0" cy="15228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105520" y="5181480"/>
            <a:ext cx="0" cy="609480"/>
            <a:chOff x="5105520" y="5181480"/>
            <a:chExt cx="0" cy="609480"/>
          </a:xfrm>
        </p:grpSpPr>
        <p:sp>
          <p:nvSpPr>
            <p:cNvPr id="227" name=""/>
            <p:cNvSpPr/>
            <p:nvPr/>
          </p:nvSpPr>
          <p:spPr>
            <a:xfrm>
              <a:off x="5105520" y="5181480"/>
              <a:ext cx="0" cy="15228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5410080"/>
              <a:ext cx="0" cy="15228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05520" y="5638680"/>
              <a:ext cx="0" cy="152280"/>
            </a:xfrm>
            <a:prstGeom prst="line">
              <a:avLst/>
            </a:prstGeom>
            <a:ln w="22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V="1">
            <a:off x="6781680" y="1447560"/>
            <a:ext cx="0" cy="1522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00240" y="1447920"/>
            <a:ext cx="19810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1447920"/>
            <a:ext cx="0" cy="53316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772040" y="5715000"/>
            <a:ext cx="2286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556272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????"/>
              </a:rPr>
              <a:t>: A/V str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92880" y="5334120"/>
            <a:ext cx="11793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 Narrow"/>
                <a:ea typeface="MS P????"/>
              </a:rPr>
              <a:t>Another User 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7320" y="5359320"/>
            <a:ext cx="1447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????"/>
              </a:rPr>
              <a:t>: human inter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4952880"/>
            <a:ext cx="1600200" cy="91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09588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MS P????"/>
              </a:rPr>
              <a:t>Video on Deman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MS P????"/>
              </a:rPr>
              <a:t>(VO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FIPA 97 Technologie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technology areas are specified in the standar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ne: ag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 better title might be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agent platform services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two: agent communic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three: agent-softwar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se of presentation, part two is described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Agent Communication Language</a:t>
            </a:r>
            <a:endParaRPr b="1" i="1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5000" y="1219320"/>
            <a:ext cx="81597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message based communication between independently developed agents by specif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tandard message format (encoding and syntax)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ell-defined semantics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ragmatics to support common, generic operations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common conversation structures to enable simpler agent implementations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ver-committed to a given implemen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a wide range of usefu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Structure of an ACL Message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consists of a communicative act (CA) and parameters, encoded as key value pairs, including the sender, receiver and content of the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ve acts form a  special class of actions, corresponding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eech 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20 different communicative acts are defined in the standard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ing of the act is specified formally in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al log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ith reference to the sender, receiver, CA type and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n addition to standard logical primitives, the logical model contains modal operators for the mental attitudes of </a:t>
            </a: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belief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intention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having the goal that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being uncertain of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6640" y="1143000"/>
          <a:ext cx="792000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143000"/>
                    <a:ext cx="792000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CL review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5000" y="1294920"/>
            <a:ext cx="815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a formal semantics is good, but compliance testing remains an open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ctic similarity to KQML was a requested feature, but may now be confu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ill developers react to the subtleties of the underlying logical mod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encoding is flexible and easy to debug, but inefficient (e.g. inappropriate for GSM SMS which is limited to 256 by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goal of independence from any given implementation been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s over the mental attitudes used in the semantic model, and whether they necessarily must have an intensional representation in the ag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 Management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5000" y="1294920"/>
            <a:ext cx="85312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the basic infrastructure for an agent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entering and leaving a community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eting other agents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mmunicating with distant agents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different underlying agent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te pages via Agent Name Server (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llow pages via Directory Facilitator (D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gistration in the DF defines a </a:t>
            </a:r>
            <a:r>
              <a:rPr b="0" i="1" lang="en-US" sz="1600" spc="-1" strike="noStrike">
                <a:solidFill>
                  <a:srgbClr val="0066ff"/>
                </a:solidFill>
                <a:latin typeface="Arial"/>
              </a:rPr>
              <a:t>domain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(i.e. agent community)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 and DF are each agents so communication with them uses the 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gical “place” in the agent universe, containing ANS, DF, management tools and 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-platform communications are conducted via the Agent Communication Channel (ACC), which defaults to CORBA II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 management review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5000" y="1371240"/>
            <a:ext cx="8159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 services are simple and straightforward, but adequate for most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 agent communication channel (ACC) is defined as an agent which is probl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communications channel properties cannot be stated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quires treating inter-platform and intra-platform messages differently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OP may not be acceptable to all developers, particularly in lightweight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ty support is patchy and not properly integr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is essential but not yet addres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-software integration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1371240"/>
            <a:ext cx="83026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n agent system effectively to incorporate non-agent software systems and applications, including legacy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common way to encapsulate non-agent systems and expose them to the agent community as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only the appearance of the wrapped service to the ag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he details of the connection between wrapper agent and wrapped service are left to the implementor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agent resource broker and wrapper as specia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pre-defined actions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ing service descrip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voking servic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rapper agent may dynamically alter the set of services it is man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-s/w integration: example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98440" y="1905120"/>
          <a:ext cx="727236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1905120"/>
                    <a:ext cx="72723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-s/w integration: Review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with existing legacy systems (and new non-agent applications) is essential for real-world agent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tion of the wrapper and (to a lesser extent) ARB roles adds useful consistency to typ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-h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 is sti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wrap the underlying service in a way that conforms to the semantics of the wrapper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ell will the service description language enable genuine resource discover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Overview of presentation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Standard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e, objective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PA 97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issues and future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19191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gent Standard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Rationale, objective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FI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19191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FIPA 97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Key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Referenc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pen issues and future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Principal open issue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5000" y="1294920"/>
            <a:ext cx="815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standard is theoretical; i.e. it has not been tested by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 trials during 1998 will develop systems according to the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field trials will be used to refine the standards for an update release in October ‘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technology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uthentication, privacy, non-repudiation, defence against malicious/incompetent agents, trust, auditing, accountability, etc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y description and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rmance to ACL formal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mobile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between making giving design freedom and making specific, testabl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Future work: FIPA in 1998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5000" y="1294920"/>
            <a:ext cx="815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 proposals for new technologies for the FIPA 98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the three main technology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enabling technologies for the existing referenc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technologies for new reference applications: manufacturing and 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 to be reviewed at January meeting in Palo Alto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ngoing work in field-trial groups, and amend existing documents where necess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5000" y="1447920"/>
            <a:ext cx="81597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sation is a good mechanism to develop and promote a new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uild critical mass quickly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independent systems can inter-operate effectively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A has released the first version of a standard for enabling technologies for agent comm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asis for ongoing future work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pparently the only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active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agent standardisation activity underway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ard work is yet to be done if the agent “dream” is to be reali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we need to move beyond basic interaction mechanisms to knowledge level and social interactions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FIPA web site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590920"/>
            <a:ext cx="769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://drogo.cselt.it/fipa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Supporting material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5000" y="188892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use these slides only to answer supplementary questions from the aud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Success measure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4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A 97 should enable a development team to design and construct an agent society in wh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ultiple, heterogeneous ag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i.e. agents with different implementation strategies 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nd cognitive structures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 can interact by exchange of messages whose semantics is defined only by recourse to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 can register with agent domain servers, and use the domain server to advertise their own services and discover availab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 can encapsulate and represent non-agent software systems as servic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rs have creative freedom in design; only external behaviours are mand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CL communicative act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24200" y="1895400"/>
          <a:ext cx="6914880" cy="39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895400"/>
                    <a:ext cx="69148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CL semantic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162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L logical frame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 first order predicate calculus with modal oper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i="1" lang="en-GB" sz="1800" spc="-1" strike="noStrike" baseline="-5000">
                <a:solidFill>
                  <a:srgbClr val="0066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- agent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believes that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U</a:t>
            </a:r>
            <a:r>
              <a:rPr b="0" i="1" lang="en-GB" sz="1800" spc="-1" strike="noStrike" baseline="-5000">
                <a:solidFill>
                  <a:srgbClr val="0066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- agent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is uncertain of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, but believes that p is more likely than </a:t>
            </a:r>
            <a:r>
              <a:rPr b="0" sz="1800" spc="-1" strike="noStrike">
                <a:solidFill>
                  <a:srgbClr val="0066ff"/>
                </a:solidFill>
                <a:latin typeface="Symbol"/>
                <a:ea typeface="Symbol"/>
              </a:rPr>
              <a:t>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0" i="1" lang="en-GB" sz="1800" spc="-1" strike="noStrike" baseline="-5000">
                <a:solidFill>
                  <a:srgbClr val="0066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- agent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intends to make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true of the world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&lt;i,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act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&gt; - the action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act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 performed by agent i, with given feasibility preconditions (FP) and rational effect (RE)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action operators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Done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Feasible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66ff"/>
                </a:solidFill>
                <a:latin typeface="Arial"/>
              </a:rPr>
              <a:t>|</a:t>
            </a: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i="1" lang="en-GB" sz="1800" spc="-1" strike="noStrike">
                <a:solidFill>
                  <a:srgbClr val="0066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inform(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j,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))&gt;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FP: B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(Bif</a:t>
            </a:r>
            <a:r>
              <a:rPr b="0" i="1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Uif</a:t>
            </a:r>
            <a:r>
              <a:rPr b="0" i="1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Arial"/>
              </a:rPr>
              <a:t>RE: B</a:t>
            </a:r>
            <a:r>
              <a:rPr b="0" i="1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Example message exchange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62080" y="1371600"/>
          <a:ext cx="6048360" cy="49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1371600"/>
                    <a:ext cx="60483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Rationale for Agent Standard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: standards facilitate the development of a market, developing the market furthers development of the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s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too soon to standardis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is still devel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lack of broad agreement on definitions, models, theories, etc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any disparate active areas of research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needs are commonly 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andardisation debate is valuable i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emphasis in agent systems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n, heterogeneous syste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mergent proper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scale 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properties are expected (hypothesised) to deliver robustness, scalability and flexibility, but are difficu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gent management example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66800" y="1295280"/>
          <a:ext cx="7759800" cy="49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295280"/>
                    <a:ext cx="7759800" cy="49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Agent-s/w integration: Technologies</a:t>
            </a:r>
            <a:endParaRPr b="1" i="1" lang="en-US" sz="32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5000" y="1294920"/>
            <a:ext cx="815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gent Resource Broker (ARB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service which can be registered by an agent with a directory facilit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B registers and makes available to other agents the set of all wrapped software services available at a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n ontology for service descriptions, and the set of actions that an agent in the ARB role mus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rapper 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o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rapper agent encapsulates the softwar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ccepts instance-based invocations of the underlying service by other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3962520"/>
            <a:ext cx="160020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3962520"/>
            <a:ext cx="838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gent</a:t>
            </a:r>
            <a:br>
              <a:rPr sz="1800"/>
            </a:b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a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1371600"/>
            <a:ext cx="160020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14479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gent a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371600"/>
            <a:ext cx="160020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Some of the problems to solve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887400" cy="7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609480" y="2514600"/>
          <a:ext cx="107316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14600"/>
                    <a:ext cx="10731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71600" y="1523880"/>
            <a:ext cx="5382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6553080" y="1905120"/>
            <a:ext cx="795240" cy="1044000"/>
            <a:chOff x="6553080" y="1905120"/>
            <a:chExt cx="795240" cy="1044000"/>
          </a:xfrm>
        </p:grpSpPr>
        <p:sp>
          <p:nvSpPr>
            <p:cNvPr id="62" name=""/>
            <p:cNvSpPr/>
            <p:nvPr/>
          </p:nvSpPr>
          <p:spPr>
            <a:xfrm>
              <a:off x="6900840" y="2252520"/>
              <a:ext cx="185760" cy="367920"/>
            </a:xfrm>
            <a:custGeom>
              <a:avLst/>
              <a:gdLst/>
              <a:ahLst/>
              <a:rect l="l" t="t" r="r" b="b"/>
              <a:pathLst>
                <a:path w="350" h="697">
                  <a:moveTo>
                    <a:pt x="83" y="55"/>
                  </a:moveTo>
                  <a:lnTo>
                    <a:pt x="121" y="14"/>
                  </a:lnTo>
                  <a:lnTo>
                    <a:pt x="192" y="0"/>
                  </a:lnTo>
                  <a:lnTo>
                    <a:pt x="254" y="14"/>
                  </a:lnTo>
                  <a:lnTo>
                    <a:pt x="288" y="37"/>
                  </a:lnTo>
                  <a:lnTo>
                    <a:pt x="315" y="83"/>
                  </a:lnTo>
                  <a:lnTo>
                    <a:pt x="339" y="163"/>
                  </a:lnTo>
                  <a:lnTo>
                    <a:pt x="350" y="251"/>
                  </a:lnTo>
                  <a:lnTo>
                    <a:pt x="350" y="408"/>
                  </a:lnTo>
                  <a:lnTo>
                    <a:pt x="315" y="544"/>
                  </a:lnTo>
                  <a:lnTo>
                    <a:pt x="264" y="622"/>
                  </a:lnTo>
                  <a:lnTo>
                    <a:pt x="213" y="666"/>
                  </a:lnTo>
                  <a:lnTo>
                    <a:pt x="155" y="697"/>
                  </a:lnTo>
                  <a:lnTo>
                    <a:pt x="73" y="694"/>
                  </a:lnTo>
                  <a:lnTo>
                    <a:pt x="8" y="647"/>
                  </a:lnTo>
                  <a:lnTo>
                    <a:pt x="0" y="591"/>
                  </a:lnTo>
                  <a:lnTo>
                    <a:pt x="32" y="508"/>
                  </a:lnTo>
                  <a:lnTo>
                    <a:pt x="59" y="415"/>
                  </a:lnTo>
                  <a:lnTo>
                    <a:pt x="70" y="294"/>
                  </a:lnTo>
                  <a:lnTo>
                    <a:pt x="53" y="192"/>
                  </a:lnTo>
                  <a:lnTo>
                    <a:pt x="53" y="117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73920" y="2581200"/>
              <a:ext cx="210960" cy="363240"/>
            </a:xfrm>
            <a:custGeom>
              <a:avLst/>
              <a:gdLst/>
              <a:ahLst/>
              <a:rect l="l" t="t" r="r" b="b"/>
              <a:pathLst>
                <a:path w="400" h="687">
                  <a:moveTo>
                    <a:pt x="133" y="28"/>
                  </a:moveTo>
                  <a:lnTo>
                    <a:pt x="85" y="0"/>
                  </a:lnTo>
                  <a:lnTo>
                    <a:pt x="23" y="0"/>
                  </a:lnTo>
                  <a:lnTo>
                    <a:pt x="0" y="37"/>
                  </a:lnTo>
                  <a:lnTo>
                    <a:pt x="10" y="93"/>
                  </a:lnTo>
                  <a:lnTo>
                    <a:pt x="64" y="147"/>
                  </a:lnTo>
                  <a:lnTo>
                    <a:pt x="177" y="198"/>
                  </a:lnTo>
                  <a:lnTo>
                    <a:pt x="307" y="304"/>
                  </a:lnTo>
                  <a:lnTo>
                    <a:pt x="327" y="351"/>
                  </a:lnTo>
                  <a:lnTo>
                    <a:pt x="317" y="373"/>
                  </a:lnTo>
                  <a:lnTo>
                    <a:pt x="218" y="443"/>
                  </a:lnTo>
                  <a:lnTo>
                    <a:pt x="102" y="527"/>
                  </a:lnTo>
                  <a:lnTo>
                    <a:pt x="75" y="564"/>
                  </a:lnTo>
                  <a:lnTo>
                    <a:pt x="75" y="601"/>
                  </a:lnTo>
                  <a:lnTo>
                    <a:pt x="163" y="641"/>
                  </a:lnTo>
                  <a:lnTo>
                    <a:pt x="300" y="687"/>
                  </a:lnTo>
                  <a:lnTo>
                    <a:pt x="347" y="687"/>
                  </a:lnTo>
                  <a:lnTo>
                    <a:pt x="400" y="656"/>
                  </a:lnTo>
                  <a:lnTo>
                    <a:pt x="400" y="632"/>
                  </a:lnTo>
                  <a:lnTo>
                    <a:pt x="361" y="620"/>
                  </a:lnTo>
                  <a:lnTo>
                    <a:pt x="187" y="601"/>
                  </a:lnTo>
                  <a:lnTo>
                    <a:pt x="122" y="586"/>
                  </a:lnTo>
                  <a:lnTo>
                    <a:pt x="116" y="558"/>
                  </a:lnTo>
                  <a:lnTo>
                    <a:pt x="228" y="481"/>
                  </a:lnTo>
                  <a:lnTo>
                    <a:pt x="351" y="407"/>
                  </a:lnTo>
                  <a:lnTo>
                    <a:pt x="378" y="380"/>
                  </a:lnTo>
                  <a:lnTo>
                    <a:pt x="388" y="342"/>
                  </a:lnTo>
                  <a:lnTo>
                    <a:pt x="378" y="290"/>
                  </a:lnTo>
                  <a:lnTo>
                    <a:pt x="341" y="250"/>
                  </a:lnTo>
                  <a:lnTo>
                    <a:pt x="218" y="114"/>
                  </a:lnTo>
                  <a:lnTo>
                    <a:pt x="13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94560" y="2562120"/>
              <a:ext cx="263520" cy="387000"/>
            </a:xfrm>
            <a:custGeom>
              <a:avLst/>
              <a:gdLst/>
              <a:ahLst/>
              <a:rect l="l" t="t" r="r" b="b"/>
              <a:pathLst>
                <a:path w="498" h="732">
                  <a:moveTo>
                    <a:pt x="271" y="99"/>
                  </a:moveTo>
                  <a:lnTo>
                    <a:pt x="350" y="37"/>
                  </a:lnTo>
                  <a:lnTo>
                    <a:pt x="425" y="0"/>
                  </a:lnTo>
                  <a:lnTo>
                    <a:pt x="473" y="6"/>
                  </a:lnTo>
                  <a:lnTo>
                    <a:pt x="498" y="37"/>
                  </a:lnTo>
                  <a:lnTo>
                    <a:pt x="498" y="71"/>
                  </a:lnTo>
                  <a:lnTo>
                    <a:pt x="483" y="109"/>
                  </a:lnTo>
                  <a:lnTo>
                    <a:pt x="432" y="130"/>
                  </a:lnTo>
                  <a:lnTo>
                    <a:pt x="329" y="182"/>
                  </a:lnTo>
                  <a:lnTo>
                    <a:pt x="267" y="247"/>
                  </a:lnTo>
                  <a:lnTo>
                    <a:pt x="227" y="325"/>
                  </a:lnTo>
                  <a:lnTo>
                    <a:pt x="216" y="370"/>
                  </a:lnTo>
                  <a:lnTo>
                    <a:pt x="271" y="426"/>
                  </a:lnTo>
                  <a:lnTo>
                    <a:pt x="329" y="507"/>
                  </a:lnTo>
                  <a:lnTo>
                    <a:pt x="371" y="581"/>
                  </a:lnTo>
                  <a:lnTo>
                    <a:pt x="381" y="627"/>
                  </a:lnTo>
                  <a:lnTo>
                    <a:pt x="381" y="655"/>
                  </a:lnTo>
                  <a:lnTo>
                    <a:pt x="354" y="673"/>
                  </a:lnTo>
                  <a:lnTo>
                    <a:pt x="267" y="676"/>
                  </a:lnTo>
                  <a:lnTo>
                    <a:pt x="137" y="704"/>
                  </a:lnTo>
                  <a:lnTo>
                    <a:pt x="113" y="729"/>
                  </a:lnTo>
                  <a:lnTo>
                    <a:pt x="92" y="732"/>
                  </a:lnTo>
                  <a:lnTo>
                    <a:pt x="0" y="704"/>
                  </a:lnTo>
                  <a:lnTo>
                    <a:pt x="0" y="676"/>
                  </a:lnTo>
                  <a:lnTo>
                    <a:pt x="41" y="655"/>
                  </a:lnTo>
                  <a:lnTo>
                    <a:pt x="206" y="627"/>
                  </a:lnTo>
                  <a:lnTo>
                    <a:pt x="291" y="636"/>
                  </a:lnTo>
                  <a:lnTo>
                    <a:pt x="333" y="636"/>
                  </a:lnTo>
                  <a:lnTo>
                    <a:pt x="344" y="621"/>
                  </a:lnTo>
                  <a:lnTo>
                    <a:pt x="308" y="552"/>
                  </a:lnTo>
                  <a:lnTo>
                    <a:pt x="237" y="464"/>
                  </a:lnTo>
                  <a:lnTo>
                    <a:pt x="186" y="399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99" y="213"/>
                  </a:lnTo>
                  <a:lnTo>
                    <a:pt x="230" y="155"/>
                  </a:lnTo>
                  <a:lnTo>
                    <a:pt x="27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3080" y="2252520"/>
              <a:ext cx="355680" cy="288720"/>
            </a:xfrm>
            <a:custGeom>
              <a:avLst/>
              <a:gdLst/>
              <a:ahLst/>
              <a:rect l="l" t="t" r="r" b="b"/>
              <a:pathLst>
                <a:path w="673" h="546">
                  <a:moveTo>
                    <a:pt x="404" y="546"/>
                  </a:moveTo>
                  <a:lnTo>
                    <a:pt x="446" y="541"/>
                  </a:lnTo>
                  <a:lnTo>
                    <a:pt x="458" y="511"/>
                  </a:lnTo>
                  <a:lnTo>
                    <a:pt x="470" y="400"/>
                  </a:lnTo>
                  <a:lnTo>
                    <a:pt x="532" y="270"/>
                  </a:lnTo>
                  <a:lnTo>
                    <a:pt x="597" y="211"/>
                  </a:lnTo>
                  <a:lnTo>
                    <a:pt x="673" y="150"/>
                  </a:lnTo>
                  <a:lnTo>
                    <a:pt x="666" y="107"/>
                  </a:lnTo>
                  <a:lnTo>
                    <a:pt x="621" y="84"/>
                  </a:lnTo>
                  <a:lnTo>
                    <a:pt x="564" y="107"/>
                  </a:lnTo>
                  <a:lnTo>
                    <a:pt x="501" y="169"/>
                  </a:lnTo>
                  <a:lnTo>
                    <a:pt x="443" y="306"/>
                  </a:lnTo>
                  <a:lnTo>
                    <a:pt x="418" y="412"/>
                  </a:lnTo>
                  <a:lnTo>
                    <a:pt x="401" y="467"/>
                  </a:lnTo>
                  <a:lnTo>
                    <a:pt x="354" y="447"/>
                  </a:lnTo>
                  <a:lnTo>
                    <a:pt x="300" y="356"/>
                  </a:lnTo>
                  <a:lnTo>
                    <a:pt x="256" y="229"/>
                  </a:lnTo>
                  <a:lnTo>
                    <a:pt x="264" y="173"/>
                  </a:lnTo>
                  <a:lnTo>
                    <a:pt x="289" y="112"/>
                  </a:lnTo>
                  <a:lnTo>
                    <a:pt x="299" y="68"/>
                  </a:lnTo>
                  <a:lnTo>
                    <a:pt x="190" y="66"/>
                  </a:lnTo>
                  <a:lnTo>
                    <a:pt x="81" y="47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40" y="104"/>
                  </a:lnTo>
                  <a:lnTo>
                    <a:pt x="127" y="113"/>
                  </a:lnTo>
                  <a:lnTo>
                    <a:pt x="222" y="123"/>
                  </a:lnTo>
                  <a:lnTo>
                    <a:pt x="224" y="194"/>
                  </a:lnTo>
                  <a:lnTo>
                    <a:pt x="233" y="277"/>
                  </a:lnTo>
                  <a:lnTo>
                    <a:pt x="265" y="371"/>
                  </a:lnTo>
                  <a:lnTo>
                    <a:pt x="305" y="463"/>
                  </a:lnTo>
                  <a:lnTo>
                    <a:pt x="365" y="524"/>
                  </a:lnTo>
                  <a:lnTo>
                    <a:pt x="404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84800" y="1905120"/>
              <a:ext cx="263520" cy="390240"/>
            </a:xfrm>
            <a:custGeom>
              <a:avLst/>
              <a:gdLst/>
              <a:ahLst/>
              <a:rect l="l" t="t" r="r" b="b"/>
              <a:pathLst>
                <a:path w="496" h="738">
                  <a:moveTo>
                    <a:pt x="0" y="732"/>
                  </a:moveTo>
                  <a:lnTo>
                    <a:pt x="0" y="683"/>
                  </a:lnTo>
                  <a:lnTo>
                    <a:pt x="31" y="645"/>
                  </a:lnTo>
                  <a:lnTo>
                    <a:pt x="165" y="602"/>
                  </a:lnTo>
                  <a:lnTo>
                    <a:pt x="331" y="566"/>
                  </a:lnTo>
                  <a:lnTo>
                    <a:pt x="427" y="544"/>
                  </a:lnTo>
                  <a:lnTo>
                    <a:pt x="438" y="525"/>
                  </a:lnTo>
                  <a:lnTo>
                    <a:pt x="392" y="470"/>
                  </a:lnTo>
                  <a:lnTo>
                    <a:pt x="303" y="389"/>
                  </a:lnTo>
                  <a:lnTo>
                    <a:pt x="211" y="321"/>
                  </a:lnTo>
                  <a:lnTo>
                    <a:pt x="138" y="284"/>
                  </a:lnTo>
                  <a:lnTo>
                    <a:pt x="97" y="247"/>
                  </a:lnTo>
                  <a:lnTo>
                    <a:pt x="93" y="220"/>
                  </a:lnTo>
                  <a:lnTo>
                    <a:pt x="117" y="195"/>
                  </a:lnTo>
                  <a:lnTo>
                    <a:pt x="175" y="182"/>
                  </a:lnTo>
                  <a:lnTo>
                    <a:pt x="248" y="135"/>
                  </a:lnTo>
                  <a:lnTo>
                    <a:pt x="258" y="90"/>
                  </a:lnTo>
                  <a:lnTo>
                    <a:pt x="258" y="25"/>
                  </a:lnTo>
                  <a:lnTo>
                    <a:pt x="251" y="0"/>
                  </a:lnTo>
                  <a:lnTo>
                    <a:pt x="279" y="6"/>
                  </a:lnTo>
                  <a:lnTo>
                    <a:pt x="317" y="62"/>
                  </a:lnTo>
                  <a:lnTo>
                    <a:pt x="331" y="121"/>
                  </a:lnTo>
                  <a:lnTo>
                    <a:pt x="289" y="164"/>
                  </a:lnTo>
                  <a:lnTo>
                    <a:pt x="251" y="176"/>
                  </a:lnTo>
                  <a:lnTo>
                    <a:pt x="179" y="211"/>
                  </a:lnTo>
                  <a:lnTo>
                    <a:pt x="165" y="229"/>
                  </a:lnTo>
                  <a:lnTo>
                    <a:pt x="175" y="247"/>
                  </a:lnTo>
                  <a:lnTo>
                    <a:pt x="241" y="297"/>
                  </a:lnTo>
                  <a:lnTo>
                    <a:pt x="311" y="324"/>
                  </a:lnTo>
                  <a:lnTo>
                    <a:pt x="403" y="395"/>
                  </a:lnTo>
                  <a:lnTo>
                    <a:pt x="465" y="479"/>
                  </a:lnTo>
                  <a:lnTo>
                    <a:pt x="496" y="544"/>
                  </a:lnTo>
                  <a:lnTo>
                    <a:pt x="486" y="566"/>
                  </a:lnTo>
                  <a:lnTo>
                    <a:pt x="465" y="580"/>
                  </a:lnTo>
                  <a:lnTo>
                    <a:pt x="386" y="609"/>
                  </a:lnTo>
                  <a:lnTo>
                    <a:pt x="228" y="655"/>
                  </a:lnTo>
                  <a:lnTo>
                    <a:pt x="128" y="695"/>
                  </a:lnTo>
                  <a:lnTo>
                    <a:pt x="63" y="729"/>
                  </a:lnTo>
                  <a:lnTo>
                    <a:pt x="21" y="738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27760" y="1963800"/>
              <a:ext cx="204840" cy="277200"/>
            </a:xfrm>
            <a:custGeom>
              <a:avLst/>
              <a:gdLst/>
              <a:ahLst/>
              <a:rect l="l" t="t" r="r" b="b"/>
              <a:pathLst>
                <a:path w="386" h="526">
                  <a:moveTo>
                    <a:pt x="78" y="427"/>
                  </a:moveTo>
                  <a:lnTo>
                    <a:pt x="122" y="474"/>
                  </a:lnTo>
                  <a:lnTo>
                    <a:pt x="195" y="517"/>
                  </a:lnTo>
                  <a:lnTo>
                    <a:pt x="257" y="526"/>
                  </a:lnTo>
                  <a:lnTo>
                    <a:pt x="303" y="517"/>
                  </a:lnTo>
                  <a:lnTo>
                    <a:pt x="359" y="481"/>
                  </a:lnTo>
                  <a:lnTo>
                    <a:pt x="379" y="405"/>
                  </a:lnTo>
                  <a:lnTo>
                    <a:pt x="386" y="350"/>
                  </a:lnTo>
                  <a:lnTo>
                    <a:pt x="369" y="297"/>
                  </a:lnTo>
                  <a:lnTo>
                    <a:pt x="337" y="233"/>
                  </a:lnTo>
                  <a:lnTo>
                    <a:pt x="308" y="177"/>
                  </a:lnTo>
                  <a:lnTo>
                    <a:pt x="303" y="164"/>
                  </a:lnTo>
                  <a:lnTo>
                    <a:pt x="317" y="99"/>
                  </a:lnTo>
                  <a:lnTo>
                    <a:pt x="359" y="35"/>
                  </a:lnTo>
                  <a:lnTo>
                    <a:pt x="366" y="15"/>
                  </a:lnTo>
                  <a:lnTo>
                    <a:pt x="344" y="0"/>
                  </a:lnTo>
                  <a:lnTo>
                    <a:pt x="317" y="0"/>
                  </a:lnTo>
                  <a:lnTo>
                    <a:pt x="287" y="85"/>
                  </a:lnTo>
                  <a:lnTo>
                    <a:pt x="274" y="139"/>
                  </a:lnTo>
                  <a:lnTo>
                    <a:pt x="236" y="103"/>
                  </a:lnTo>
                  <a:lnTo>
                    <a:pt x="204" y="74"/>
                  </a:lnTo>
                  <a:lnTo>
                    <a:pt x="139" y="53"/>
                  </a:lnTo>
                  <a:lnTo>
                    <a:pt x="92" y="53"/>
                  </a:lnTo>
                  <a:lnTo>
                    <a:pt x="20" y="85"/>
                  </a:lnTo>
                  <a:lnTo>
                    <a:pt x="0" y="173"/>
                  </a:lnTo>
                  <a:lnTo>
                    <a:pt x="17" y="288"/>
                  </a:lnTo>
                  <a:lnTo>
                    <a:pt x="47" y="396"/>
                  </a:lnTo>
                  <a:lnTo>
                    <a:pt x="7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610480" y="1981080"/>
            <a:ext cx="330480" cy="122400"/>
          </a:xfrm>
          <a:custGeom>
            <a:avLst/>
            <a:gdLst/>
            <a:ahLst/>
            <a:rect l="l" t="t" r="r" b="b"/>
            <a:pathLst>
              <a:path w="624" h="231">
                <a:moveTo>
                  <a:pt x="23" y="206"/>
                </a:moveTo>
                <a:lnTo>
                  <a:pt x="53" y="210"/>
                </a:lnTo>
                <a:lnTo>
                  <a:pt x="129" y="205"/>
                </a:lnTo>
                <a:lnTo>
                  <a:pt x="147" y="184"/>
                </a:lnTo>
                <a:lnTo>
                  <a:pt x="139" y="150"/>
                </a:lnTo>
                <a:lnTo>
                  <a:pt x="120" y="127"/>
                </a:lnTo>
                <a:lnTo>
                  <a:pt x="120" y="111"/>
                </a:lnTo>
                <a:lnTo>
                  <a:pt x="167" y="91"/>
                </a:lnTo>
                <a:lnTo>
                  <a:pt x="224" y="90"/>
                </a:lnTo>
                <a:lnTo>
                  <a:pt x="297" y="99"/>
                </a:lnTo>
                <a:lnTo>
                  <a:pt x="355" y="123"/>
                </a:lnTo>
                <a:lnTo>
                  <a:pt x="385" y="139"/>
                </a:lnTo>
                <a:lnTo>
                  <a:pt x="383" y="154"/>
                </a:lnTo>
                <a:lnTo>
                  <a:pt x="377" y="179"/>
                </a:lnTo>
                <a:lnTo>
                  <a:pt x="382" y="211"/>
                </a:lnTo>
                <a:lnTo>
                  <a:pt x="413" y="226"/>
                </a:lnTo>
                <a:lnTo>
                  <a:pt x="478" y="231"/>
                </a:lnTo>
                <a:lnTo>
                  <a:pt x="525" y="203"/>
                </a:lnTo>
                <a:lnTo>
                  <a:pt x="533" y="177"/>
                </a:lnTo>
                <a:lnTo>
                  <a:pt x="519" y="136"/>
                </a:lnTo>
                <a:lnTo>
                  <a:pt x="496" y="115"/>
                </a:lnTo>
                <a:lnTo>
                  <a:pt x="499" y="90"/>
                </a:lnTo>
                <a:lnTo>
                  <a:pt x="524" y="85"/>
                </a:lnTo>
                <a:lnTo>
                  <a:pt x="549" y="77"/>
                </a:lnTo>
                <a:lnTo>
                  <a:pt x="557" y="42"/>
                </a:lnTo>
                <a:lnTo>
                  <a:pt x="576" y="16"/>
                </a:lnTo>
                <a:lnTo>
                  <a:pt x="624" y="21"/>
                </a:lnTo>
                <a:lnTo>
                  <a:pt x="623" y="8"/>
                </a:lnTo>
                <a:lnTo>
                  <a:pt x="578" y="0"/>
                </a:lnTo>
                <a:lnTo>
                  <a:pt x="559" y="4"/>
                </a:lnTo>
                <a:lnTo>
                  <a:pt x="550" y="24"/>
                </a:lnTo>
                <a:lnTo>
                  <a:pt x="545" y="49"/>
                </a:lnTo>
                <a:lnTo>
                  <a:pt x="538" y="69"/>
                </a:lnTo>
                <a:lnTo>
                  <a:pt x="511" y="75"/>
                </a:lnTo>
                <a:lnTo>
                  <a:pt x="488" y="76"/>
                </a:lnTo>
                <a:lnTo>
                  <a:pt x="480" y="106"/>
                </a:lnTo>
                <a:lnTo>
                  <a:pt x="457" y="84"/>
                </a:lnTo>
                <a:lnTo>
                  <a:pt x="372" y="61"/>
                </a:lnTo>
                <a:lnTo>
                  <a:pt x="283" y="42"/>
                </a:lnTo>
                <a:lnTo>
                  <a:pt x="205" y="38"/>
                </a:lnTo>
                <a:lnTo>
                  <a:pt x="138" y="48"/>
                </a:lnTo>
                <a:lnTo>
                  <a:pt x="83" y="62"/>
                </a:lnTo>
                <a:lnTo>
                  <a:pt x="31" y="79"/>
                </a:lnTo>
                <a:lnTo>
                  <a:pt x="2" y="139"/>
                </a:lnTo>
                <a:lnTo>
                  <a:pt x="0" y="164"/>
                </a:lnTo>
                <a:lnTo>
                  <a:pt x="4" y="186"/>
                </a:lnTo>
                <a:lnTo>
                  <a:pt x="23" y="2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610480" y="2895480"/>
            <a:ext cx="338400" cy="406440"/>
            <a:chOff x="8610480" y="2895480"/>
            <a:chExt cx="338400" cy="406440"/>
          </a:xfrm>
        </p:grpSpPr>
        <p:sp>
          <p:nvSpPr>
            <p:cNvPr id="70" name=""/>
            <p:cNvSpPr/>
            <p:nvPr/>
          </p:nvSpPr>
          <p:spPr>
            <a:xfrm>
              <a:off x="8613720" y="2900520"/>
              <a:ext cx="243000" cy="399960"/>
            </a:xfrm>
            <a:custGeom>
              <a:avLst/>
              <a:gdLst/>
              <a:ahLst/>
              <a:rect l="l" t="t" r="r" b="b"/>
              <a:pathLst>
                <a:path w="459" h="756">
                  <a:moveTo>
                    <a:pt x="261" y="0"/>
                  </a:moveTo>
                  <a:lnTo>
                    <a:pt x="194" y="3"/>
                  </a:lnTo>
                  <a:lnTo>
                    <a:pt x="156" y="64"/>
                  </a:lnTo>
                  <a:lnTo>
                    <a:pt x="48" y="162"/>
                  </a:lnTo>
                  <a:lnTo>
                    <a:pt x="0" y="217"/>
                  </a:lnTo>
                  <a:lnTo>
                    <a:pt x="32" y="360"/>
                  </a:lnTo>
                  <a:lnTo>
                    <a:pt x="57" y="469"/>
                  </a:lnTo>
                  <a:lnTo>
                    <a:pt x="121" y="594"/>
                  </a:lnTo>
                  <a:lnTo>
                    <a:pt x="233" y="682"/>
                  </a:lnTo>
                  <a:lnTo>
                    <a:pt x="357" y="756"/>
                  </a:lnTo>
                  <a:lnTo>
                    <a:pt x="360" y="737"/>
                  </a:lnTo>
                  <a:lnTo>
                    <a:pt x="369" y="734"/>
                  </a:lnTo>
                  <a:lnTo>
                    <a:pt x="369" y="725"/>
                  </a:lnTo>
                  <a:lnTo>
                    <a:pt x="369" y="714"/>
                  </a:lnTo>
                  <a:lnTo>
                    <a:pt x="369" y="705"/>
                  </a:lnTo>
                  <a:lnTo>
                    <a:pt x="369" y="696"/>
                  </a:lnTo>
                  <a:lnTo>
                    <a:pt x="380" y="693"/>
                  </a:lnTo>
                  <a:lnTo>
                    <a:pt x="389" y="693"/>
                  </a:lnTo>
                  <a:lnTo>
                    <a:pt x="399" y="693"/>
                  </a:lnTo>
                  <a:lnTo>
                    <a:pt x="408" y="686"/>
                  </a:lnTo>
                  <a:lnTo>
                    <a:pt x="408" y="677"/>
                  </a:lnTo>
                  <a:lnTo>
                    <a:pt x="408" y="667"/>
                  </a:lnTo>
                  <a:lnTo>
                    <a:pt x="408" y="657"/>
                  </a:lnTo>
                  <a:lnTo>
                    <a:pt x="418" y="654"/>
                  </a:lnTo>
                  <a:lnTo>
                    <a:pt x="427" y="654"/>
                  </a:lnTo>
                  <a:lnTo>
                    <a:pt x="436" y="654"/>
                  </a:lnTo>
                  <a:lnTo>
                    <a:pt x="443" y="645"/>
                  </a:lnTo>
                  <a:lnTo>
                    <a:pt x="440" y="635"/>
                  </a:lnTo>
                  <a:lnTo>
                    <a:pt x="440" y="626"/>
                  </a:lnTo>
                  <a:lnTo>
                    <a:pt x="450" y="619"/>
                  </a:lnTo>
                  <a:lnTo>
                    <a:pt x="459" y="616"/>
                  </a:lnTo>
                  <a:lnTo>
                    <a:pt x="290" y="542"/>
                  </a:lnTo>
                  <a:lnTo>
                    <a:pt x="124" y="329"/>
                  </a:lnTo>
                  <a:lnTo>
                    <a:pt x="131" y="201"/>
                  </a:lnTo>
                  <a:lnTo>
                    <a:pt x="245" y="67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47200" y="2897280"/>
              <a:ext cx="296640" cy="328680"/>
            </a:xfrm>
            <a:custGeom>
              <a:avLst/>
              <a:gdLst/>
              <a:ahLst/>
              <a:rect l="l" t="t" r="r" b="b"/>
              <a:pathLst>
                <a:path w="559" h="623">
                  <a:moveTo>
                    <a:pt x="218" y="67"/>
                  </a:moveTo>
                  <a:lnTo>
                    <a:pt x="249" y="173"/>
                  </a:lnTo>
                  <a:lnTo>
                    <a:pt x="287" y="221"/>
                  </a:lnTo>
                  <a:lnTo>
                    <a:pt x="373" y="275"/>
                  </a:lnTo>
                  <a:lnTo>
                    <a:pt x="498" y="288"/>
                  </a:lnTo>
                  <a:lnTo>
                    <a:pt x="559" y="291"/>
                  </a:lnTo>
                  <a:lnTo>
                    <a:pt x="550" y="390"/>
                  </a:lnTo>
                  <a:lnTo>
                    <a:pt x="504" y="505"/>
                  </a:lnTo>
                  <a:lnTo>
                    <a:pt x="425" y="598"/>
                  </a:lnTo>
                  <a:lnTo>
                    <a:pt x="400" y="623"/>
                  </a:lnTo>
                  <a:lnTo>
                    <a:pt x="246" y="602"/>
                  </a:lnTo>
                  <a:lnTo>
                    <a:pt x="128" y="538"/>
                  </a:lnTo>
                  <a:lnTo>
                    <a:pt x="73" y="473"/>
                  </a:lnTo>
                  <a:lnTo>
                    <a:pt x="25" y="333"/>
                  </a:lnTo>
                  <a:lnTo>
                    <a:pt x="0" y="221"/>
                  </a:lnTo>
                  <a:lnTo>
                    <a:pt x="138" y="84"/>
                  </a:lnTo>
                  <a:lnTo>
                    <a:pt x="205" y="0"/>
                  </a:lnTo>
                  <a:lnTo>
                    <a:pt x="218" y="6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610480" y="2895480"/>
              <a:ext cx="338400" cy="406440"/>
            </a:xfrm>
            <a:custGeom>
              <a:avLst/>
              <a:gdLst/>
              <a:ahLst/>
              <a:rect l="l" t="t" r="r" b="b"/>
              <a:pathLst>
                <a:path w="639" h="770">
                  <a:moveTo>
                    <a:pt x="64" y="217"/>
                  </a:moveTo>
                  <a:lnTo>
                    <a:pt x="153" y="130"/>
                  </a:lnTo>
                  <a:lnTo>
                    <a:pt x="194" y="86"/>
                  </a:lnTo>
                  <a:lnTo>
                    <a:pt x="246" y="19"/>
                  </a:lnTo>
                  <a:lnTo>
                    <a:pt x="208" y="22"/>
                  </a:lnTo>
                  <a:lnTo>
                    <a:pt x="166" y="86"/>
                  </a:lnTo>
                  <a:lnTo>
                    <a:pt x="125" y="121"/>
                  </a:lnTo>
                  <a:lnTo>
                    <a:pt x="44" y="198"/>
                  </a:lnTo>
                  <a:lnTo>
                    <a:pt x="16" y="229"/>
                  </a:lnTo>
                  <a:lnTo>
                    <a:pt x="39" y="323"/>
                  </a:lnTo>
                  <a:lnTo>
                    <a:pt x="64" y="422"/>
                  </a:lnTo>
                  <a:lnTo>
                    <a:pt x="74" y="479"/>
                  </a:lnTo>
                  <a:lnTo>
                    <a:pt x="95" y="533"/>
                  </a:lnTo>
                  <a:lnTo>
                    <a:pt x="122" y="584"/>
                  </a:lnTo>
                  <a:lnTo>
                    <a:pt x="160" y="623"/>
                  </a:lnTo>
                  <a:lnTo>
                    <a:pt x="227" y="671"/>
                  </a:lnTo>
                  <a:lnTo>
                    <a:pt x="288" y="712"/>
                  </a:lnTo>
                  <a:lnTo>
                    <a:pt x="344" y="744"/>
                  </a:lnTo>
                  <a:lnTo>
                    <a:pt x="358" y="744"/>
                  </a:lnTo>
                  <a:lnTo>
                    <a:pt x="358" y="731"/>
                  </a:lnTo>
                  <a:lnTo>
                    <a:pt x="277" y="683"/>
                  </a:lnTo>
                  <a:lnTo>
                    <a:pt x="185" y="626"/>
                  </a:lnTo>
                  <a:lnTo>
                    <a:pt x="134" y="578"/>
                  </a:lnTo>
                  <a:lnTo>
                    <a:pt x="95" y="505"/>
                  </a:lnTo>
                  <a:lnTo>
                    <a:pt x="83" y="441"/>
                  </a:lnTo>
                  <a:lnTo>
                    <a:pt x="102" y="489"/>
                  </a:lnTo>
                  <a:lnTo>
                    <a:pt x="141" y="565"/>
                  </a:lnTo>
                  <a:lnTo>
                    <a:pt x="185" y="604"/>
                  </a:lnTo>
                  <a:lnTo>
                    <a:pt x="227" y="632"/>
                  </a:lnTo>
                  <a:lnTo>
                    <a:pt x="275" y="661"/>
                  </a:lnTo>
                  <a:lnTo>
                    <a:pt x="332" y="703"/>
                  </a:lnTo>
                  <a:lnTo>
                    <a:pt x="362" y="712"/>
                  </a:lnTo>
                  <a:lnTo>
                    <a:pt x="367" y="696"/>
                  </a:lnTo>
                  <a:lnTo>
                    <a:pt x="294" y="655"/>
                  </a:lnTo>
                  <a:lnTo>
                    <a:pt x="342" y="671"/>
                  </a:lnTo>
                  <a:lnTo>
                    <a:pt x="380" y="687"/>
                  </a:lnTo>
                  <a:lnTo>
                    <a:pt x="399" y="687"/>
                  </a:lnTo>
                  <a:lnTo>
                    <a:pt x="402" y="664"/>
                  </a:lnTo>
                  <a:lnTo>
                    <a:pt x="316" y="642"/>
                  </a:lnTo>
                  <a:lnTo>
                    <a:pt x="249" y="620"/>
                  </a:lnTo>
                  <a:lnTo>
                    <a:pt x="194" y="584"/>
                  </a:lnTo>
                  <a:lnTo>
                    <a:pt x="160" y="546"/>
                  </a:lnTo>
                  <a:lnTo>
                    <a:pt x="138" y="501"/>
                  </a:lnTo>
                  <a:lnTo>
                    <a:pt x="185" y="552"/>
                  </a:lnTo>
                  <a:lnTo>
                    <a:pt x="246" y="597"/>
                  </a:lnTo>
                  <a:lnTo>
                    <a:pt x="310" y="623"/>
                  </a:lnTo>
                  <a:lnTo>
                    <a:pt x="374" y="639"/>
                  </a:lnTo>
                  <a:lnTo>
                    <a:pt x="402" y="648"/>
                  </a:lnTo>
                  <a:lnTo>
                    <a:pt x="422" y="651"/>
                  </a:lnTo>
                  <a:lnTo>
                    <a:pt x="438" y="651"/>
                  </a:lnTo>
                  <a:lnTo>
                    <a:pt x="441" y="639"/>
                  </a:lnTo>
                  <a:lnTo>
                    <a:pt x="438" y="629"/>
                  </a:lnTo>
                  <a:lnTo>
                    <a:pt x="355" y="616"/>
                  </a:lnTo>
                  <a:lnTo>
                    <a:pt x="291" y="600"/>
                  </a:lnTo>
                  <a:lnTo>
                    <a:pt x="261" y="584"/>
                  </a:lnTo>
                  <a:lnTo>
                    <a:pt x="217" y="556"/>
                  </a:lnTo>
                  <a:lnTo>
                    <a:pt x="192" y="540"/>
                  </a:lnTo>
                  <a:lnTo>
                    <a:pt x="169" y="514"/>
                  </a:lnTo>
                  <a:lnTo>
                    <a:pt x="141" y="482"/>
                  </a:lnTo>
                  <a:lnTo>
                    <a:pt x="115" y="422"/>
                  </a:lnTo>
                  <a:lnTo>
                    <a:pt x="95" y="360"/>
                  </a:lnTo>
                  <a:lnTo>
                    <a:pt x="76" y="287"/>
                  </a:lnTo>
                  <a:lnTo>
                    <a:pt x="64" y="240"/>
                  </a:lnTo>
                  <a:lnTo>
                    <a:pt x="67" y="229"/>
                  </a:lnTo>
                  <a:lnTo>
                    <a:pt x="76" y="236"/>
                  </a:lnTo>
                  <a:lnTo>
                    <a:pt x="95" y="316"/>
                  </a:lnTo>
                  <a:lnTo>
                    <a:pt x="115" y="383"/>
                  </a:lnTo>
                  <a:lnTo>
                    <a:pt x="141" y="450"/>
                  </a:lnTo>
                  <a:lnTo>
                    <a:pt x="169" y="494"/>
                  </a:lnTo>
                  <a:lnTo>
                    <a:pt x="205" y="533"/>
                  </a:lnTo>
                  <a:lnTo>
                    <a:pt x="261" y="568"/>
                  </a:lnTo>
                  <a:lnTo>
                    <a:pt x="310" y="588"/>
                  </a:lnTo>
                  <a:lnTo>
                    <a:pt x="364" y="604"/>
                  </a:lnTo>
                  <a:lnTo>
                    <a:pt x="422" y="611"/>
                  </a:lnTo>
                  <a:lnTo>
                    <a:pt x="470" y="613"/>
                  </a:lnTo>
                  <a:lnTo>
                    <a:pt x="512" y="572"/>
                  </a:lnTo>
                  <a:lnTo>
                    <a:pt x="540" y="537"/>
                  </a:lnTo>
                  <a:lnTo>
                    <a:pt x="572" y="492"/>
                  </a:lnTo>
                  <a:lnTo>
                    <a:pt x="595" y="443"/>
                  </a:lnTo>
                  <a:lnTo>
                    <a:pt x="610" y="392"/>
                  </a:lnTo>
                  <a:lnTo>
                    <a:pt x="616" y="344"/>
                  </a:lnTo>
                  <a:lnTo>
                    <a:pt x="620" y="300"/>
                  </a:lnTo>
                  <a:lnTo>
                    <a:pt x="549" y="293"/>
                  </a:lnTo>
                  <a:lnTo>
                    <a:pt x="501" y="291"/>
                  </a:lnTo>
                  <a:lnTo>
                    <a:pt x="466" y="287"/>
                  </a:lnTo>
                  <a:lnTo>
                    <a:pt x="438" y="277"/>
                  </a:lnTo>
                  <a:lnTo>
                    <a:pt x="399" y="261"/>
                  </a:lnTo>
                  <a:lnTo>
                    <a:pt x="364" y="240"/>
                  </a:lnTo>
                  <a:lnTo>
                    <a:pt x="329" y="210"/>
                  </a:lnTo>
                  <a:lnTo>
                    <a:pt x="307" y="172"/>
                  </a:lnTo>
                  <a:lnTo>
                    <a:pt x="297" y="137"/>
                  </a:lnTo>
                  <a:lnTo>
                    <a:pt x="281" y="76"/>
                  </a:lnTo>
                  <a:lnTo>
                    <a:pt x="268" y="35"/>
                  </a:lnTo>
                  <a:lnTo>
                    <a:pt x="268" y="25"/>
                  </a:lnTo>
                  <a:lnTo>
                    <a:pt x="275" y="6"/>
                  </a:lnTo>
                  <a:lnTo>
                    <a:pt x="288" y="51"/>
                  </a:lnTo>
                  <a:lnTo>
                    <a:pt x="297" y="83"/>
                  </a:lnTo>
                  <a:lnTo>
                    <a:pt x="310" y="130"/>
                  </a:lnTo>
                  <a:lnTo>
                    <a:pt x="326" y="172"/>
                  </a:lnTo>
                  <a:lnTo>
                    <a:pt x="348" y="208"/>
                  </a:lnTo>
                  <a:lnTo>
                    <a:pt x="377" y="226"/>
                  </a:lnTo>
                  <a:lnTo>
                    <a:pt x="412" y="245"/>
                  </a:lnTo>
                  <a:lnTo>
                    <a:pt x="444" y="261"/>
                  </a:lnTo>
                  <a:lnTo>
                    <a:pt x="482" y="268"/>
                  </a:lnTo>
                  <a:lnTo>
                    <a:pt x="533" y="275"/>
                  </a:lnTo>
                  <a:lnTo>
                    <a:pt x="588" y="281"/>
                  </a:lnTo>
                  <a:lnTo>
                    <a:pt x="632" y="284"/>
                  </a:lnTo>
                  <a:lnTo>
                    <a:pt x="639" y="284"/>
                  </a:lnTo>
                  <a:lnTo>
                    <a:pt x="639" y="303"/>
                  </a:lnTo>
                  <a:lnTo>
                    <a:pt x="632" y="376"/>
                  </a:lnTo>
                  <a:lnTo>
                    <a:pt x="616" y="450"/>
                  </a:lnTo>
                  <a:lnTo>
                    <a:pt x="581" y="510"/>
                  </a:lnTo>
                  <a:lnTo>
                    <a:pt x="556" y="549"/>
                  </a:lnTo>
                  <a:lnTo>
                    <a:pt x="524" y="588"/>
                  </a:lnTo>
                  <a:lnTo>
                    <a:pt x="492" y="620"/>
                  </a:lnTo>
                  <a:lnTo>
                    <a:pt x="480" y="642"/>
                  </a:lnTo>
                  <a:lnTo>
                    <a:pt x="460" y="651"/>
                  </a:lnTo>
                  <a:lnTo>
                    <a:pt x="460" y="664"/>
                  </a:lnTo>
                  <a:lnTo>
                    <a:pt x="454" y="674"/>
                  </a:lnTo>
                  <a:lnTo>
                    <a:pt x="444" y="680"/>
                  </a:lnTo>
                  <a:lnTo>
                    <a:pt x="429" y="680"/>
                  </a:lnTo>
                  <a:lnTo>
                    <a:pt x="425" y="687"/>
                  </a:lnTo>
                  <a:lnTo>
                    <a:pt x="425" y="696"/>
                  </a:lnTo>
                  <a:lnTo>
                    <a:pt x="415" y="706"/>
                  </a:lnTo>
                  <a:lnTo>
                    <a:pt x="396" y="706"/>
                  </a:lnTo>
                  <a:lnTo>
                    <a:pt x="390" y="722"/>
                  </a:lnTo>
                  <a:lnTo>
                    <a:pt x="387" y="735"/>
                  </a:lnTo>
                  <a:lnTo>
                    <a:pt x="380" y="744"/>
                  </a:lnTo>
                  <a:lnTo>
                    <a:pt x="371" y="761"/>
                  </a:lnTo>
                  <a:lnTo>
                    <a:pt x="351" y="770"/>
                  </a:lnTo>
                  <a:lnTo>
                    <a:pt x="304" y="741"/>
                  </a:lnTo>
                  <a:lnTo>
                    <a:pt x="221" y="690"/>
                  </a:lnTo>
                  <a:lnTo>
                    <a:pt x="182" y="655"/>
                  </a:lnTo>
                  <a:lnTo>
                    <a:pt x="127" y="616"/>
                  </a:lnTo>
                  <a:lnTo>
                    <a:pt x="102" y="584"/>
                  </a:lnTo>
                  <a:lnTo>
                    <a:pt x="80" y="537"/>
                  </a:lnTo>
                  <a:lnTo>
                    <a:pt x="60" y="489"/>
                  </a:lnTo>
                  <a:lnTo>
                    <a:pt x="48" y="454"/>
                  </a:lnTo>
                  <a:lnTo>
                    <a:pt x="39" y="386"/>
                  </a:lnTo>
                  <a:lnTo>
                    <a:pt x="23" y="319"/>
                  </a:lnTo>
                  <a:lnTo>
                    <a:pt x="3" y="259"/>
                  </a:lnTo>
                  <a:lnTo>
                    <a:pt x="0" y="220"/>
                  </a:lnTo>
                  <a:lnTo>
                    <a:pt x="58" y="159"/>
                  </a:lnTo>
                  <a:lnTo>
                    <a:pt x="115" y="108"/>
                  </a:lnTo>
                  <a:lnTo>
                    <a:pt x="157" y="70"/>
                  </a:lnTo>
                  <a:lnTo>
                    <a:pt x="173" y="41"/>
                  </a:lnTo>
                  <a:lnTo>
                    <a:pt x="194" y="0"/>
                  </a:lnTo>
                  <a:lnTo>
                    <a:pt x="275" y="6"/>
                  </a:lnTo>
                  <a:lnTo>
                    <a:pt x="249" y="44"/>
                  </a:lnTo>
                  <a:lnTo>
                    <a:pt x="214" y="89"/>
                  </a:lnTo>
                  <a:lnTo>
                    <a:pt x="153" y="146"/>
                  </a:lnTo>
                  <a:lnTo>
                    <a:pt x="109" y="188"/>
                  </a:lnTo>
                  <a:lnTo>
                    <a:pt x="64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80320" y="2962440"/>
              <a:ext cx="223920" cy="226800"/>
            </a:xfrm>
            <a:custGeom>
              <a:avLst/>
              <a:gdLst/>
              <a:ahLst/>
              <a:rect l="l" t="t" r="r" b="b"/>
              <a:pathLst>
                <a:path w="425" h="430">
                  <a:moveTo>
                    <a:pt x="0" y="125"/>
                  </a:moveTo>
                  <a:lnTo>
                    <a:pt x="121" y="0"/>
                  </a:lnTo>
                  <a:lnTo>
                    <a:pt x="135" y="58"/>
                  </a:lnTo>
                  <a:lnTo>
                    <a:pt x="157" y="118"/>
                  </a:lnTo>
                  <a:lnTo>
                    <a:pt x="192" y="157"/>
                  </a:lnTo>
                  <a:lnTo>
                    <a:pt x="246" y="187"/>
                  </a:lnTo>
                  <a:lnTo>
                    <a:pt x="310" y="208"/>
                  </a:lnTo>
                  <a:lnTo>
                    <a:pt x="371" y="208"/>
                  </a:lnTo>
                  <a:lnTo>
                    <a:pt x="425" y="212"/>
                  </a:lnTo>
                  <a:lnTo>
                    <a:pt x="423" y="254"/>
                  </a:lnTo>
                  <a:lnTo>
                    <a:pt x="403" y="317"/>
                  </a:lnTo>
                  <a:lnTo>
                    <a:pt x="368" y="369"/>
                  </a:lnTo>
                  <a:lnTo>
                    <a:pt x="329" y="411"/>
                  </a:lnTo>
                  <a:lnTo>
                    <a:pt x="313" y="430"/>
                  </a:lnTo>
                  <a:lnTo>
                    <a:pt x="231" y="423"/>
                  </a:lnTo>
                  <a:lnTo>
                    <a:pt x="157" y="407"/>
                  </a:lnTo>
                  <a:lnTo>
                    <a:pt x="102" y="372"/>
                  </a:lnTo>
                  <a:lnTo>
                    <a:pt x="74" y="333"/>
                  </a:lnTo>
                  <a:lnTo>
                    <a:pt x="45" y="286"/>
                  </a:lnTo>
                  <a:lnTo>
                    <a:pt x="26" y="228"/>
                  </a:lnTo>
                  <a:lnTo>
                    <a:pt x="10" y="1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691480" y="2997360"/>
              <a:ext cx="58680" cy="6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02640" y="3029040"/>
              <a:ext cx="60480" cy="730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115" y="0"/>
                  </a:moveTo>
                  <a:lnTo>
                    <a:pt x="73" y="57"/>
                  </a:lnTo>
                  <a:lnTo>
                    <a:pt x="21" y="114"/>
                  </a:lnTo>
                  <a:lnTo>
                    <a:pt x="0" y="1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24960" y="3052800"/>
              <a:ext cx="61920" cy="87480"/>
            </a:xfrm>
            <a:custGeom>
              <a:avLst/>
              <a:gdLst/>
              <a:ahLst/>
              <a:rect l="l" t="t" r="r" b="b"/>
              <a:pathLst>
                <a:path w="117" h="166">
                  <a:moveTo>
                    <a:pt x="117" y="0"/>
                  </a:moveTo>
                  <a:lnTo>
                    <a:pt x="92" y="54"/>
                  </a:lnTo>
                  <a:lnTo>
                    <a:pt x="48" y="121"/>
                  </a:lnTo>
                  <a:lnTo>
                    <a:pt x="0" y="16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58080" y="3068640"/>
              <a:ext cx="63720" cy="104760"/>
            </a:xfrm>
            <a:custGeom>
              <a:avLst/>
              <a:gdLst/>
              <a:ahLst/>
              <a:rect l="l" t="t" r="r" b="b"/>
              <a:pathLst>
                <a:path w="120" h="197">
                  <a:moveTo>
                    <a:pt x="120" y="0"/>
                  </a:moveTo>
                  <a:lnTo>
                    <a:pt x="101" y="71"/>
                  </a:lnTo>
                  <a:lnTo>
                    <a:pt x="63" y="127"/>
                  </a:lnTo>
                  <a:lnTo>
                    <a:pt x="22" y="174"/>
                  </a:lnTo>
                  <a:lnTo>
                    <a:pt x="0" y="19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99480" y="3078360"/>
              <a:ext cx="63360" cy="10620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0"/>
                  </a:moveTo>
                  <a:lnTo>
                    <a:pt x="113" y="45"/>
                  </a:lnTo>
                  <a:lnTo>
                    <a:pt x="93" y="96"/>
                  </a:lnTo>
                  <a:lnTo>
                    <a:pt x="55" y="142"/>
                  </a:lnTo>
                  <a:lnTo>
                    <a:pt x="30" y="170"/>
                  </a:lnTo>
                  <a:lnTo>
                    <a:pt x="0" y="20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2880" y="2982960"/>
              <a:ext cx="166680" cy="117360"/>
            </a:xfrm>
            <a:custGeom>
              <a:avLst/>
              <a:gdLst/>
              <a:ahLst/>
              <a:rect l="l" t="t" r="r" b="b"/>
              <a:pathLst>
                <a:path w="317" h="222">
                  <a:moveTo>
                    <a:pt x="0" y="0"/>
                  </a:moveTo>
                  <a:lnTo>
                    <a:pt x="6" y="51"/>
                  </a:lnTo>
                  <a:lnTo>
                    <a:pt x="19" y="102"/>
                  </a:lnTo>
                  <a:lnTo>
                    <a:pt x="38" y="141"/>
                  </a:lnTo>
                  <a:lnTo>
                    <a:pt x="63" y="170"/>
                  </a:lnTo>
                  <a:lnTo>
                    <a:pt x="112" y="186"/>
                  </a:lnTo>
                  <a:lnTo>
                    <a:pt x="153" y="202"/>
                  </a:lnTo>
                  <a:lnTo>
                    <a:pt x="195" y="215"/>
                  </a:lnTo>
                  <a:lnTo>
                    <a:pt x="255" y="218"/>
                  </a:lnTo>
                  <a:lnTo>
                    <a:pt x="317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12360" y="3003480"/>
              <a:ext cx="180720" cy="127080"/>
            </a:xfrm>
            <a:custGeom>
              <a:avLst/>
              <a:gdLst/>
              <a:ahLst/>
              <a:rect l="l" t="t" r="r" b="b"/>
              <a:pathLst>
                <a:path w="342" h="240">
                  <a:moveTo>
                    <a:pt x="0" y="0"/>
                  </a:moveTo>
                  <a:lnTo>
                    <a:pt x="16" y="77"/>
                  </a:lnTo>
                  <a:lnTo>
                    <a:pt x="35" y="122"/>
                  </a:lnTo>
                  <a:lnTo>
                    <a:pt x="58" y="157"/>
                  </a:lnTo>
                  <a:lnTo>
                    <a:pt x="95" y="182"/>
                  </a:lnTo>
                  <a:lnTo>
                    <a:pt x="141" y="205"/>
                  </a:lnTo>
                  <a:lnTo>
                    <a:pt x="196" y="224"/>
                  </a:lnTo>
                  <a:lnTo>
                    <a:pt x="272" y="234"/>
                  </a:lnTo>
                  <a:lnTo>
                    <a:pt x="342" y="2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6160" y="3024360"/>
              <a:ext cx="154080" cy="134640"/>
            </a:xfrm>
            <a:custGeom>
              <a:avLst/>
              <a:gdLst/>
              <a:ahLst/>
              <a:rect l="l" t="t" r="r" b="b"/>
              <a:pathLst>
                <a:path w="291" h="255">
                  <a:moveTo>
                    <a:pt x="0" y="0"/>
                  </a:moveTo>
                  <a:lnTo>
                    <a:pt x="29" y="112"/>
                  </a:lnTo>
                  <a:lnTo>
                    <a:pt x="73" y="172"/>
                  </a:lnTo>
                  <a:lnTo>
                    <a:pt x="128" y="216"/>
                  </a:lnTo>
                  <a:lnTo>
                    <a:pt x="179" y="239"/>
                  </a:lnTo>
                  <a:lnTo>
                    <a:pt x="234" y="251"/>
                  </a:lnTo>
                  <a:lnTo>
                    <a:pt x="291" y="25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534520" y="1066680"/>
            <a:ext cx="337680" cy="331920"/>
            <a:chOff x="8534520" y="1066680"/>
            <a:chExt cx="337680" cy="331920"/>
          </a:xfrm>
        </p:grpSpPr>
        <p:grpSp>
          <p:nvGrpSpPr>
            <p:cNvPr id="83" name=""/>
            <p:cNvGrpSpPr/>
            <p:nvPr/>
          </p:nvGrpSpPr>
          <p:grpSpPr>
            <a:xfrm>
              <a:off x="8534520" y="1066680"/>
              <a:ext cx="288720" cy="193680"/>
              <a:chOff x="8534520" y="1066680"/>
              <a:chExt cx="288720" cy="193680"/>
            </a:xfrm>
          </p:grpSpPr>
          <p:sp>
            <p:nvSpPr>
              <p:cNvPr id="84" name=""/>
              <p:cNvSpPr/>
              <p:nvPr/>
            </p:nvSpPr>
            <p:spPr>
              <a:xfrm>
                <a:off x="8540640" y="1071720"/>
                <a:ext cx="277560" cy="183960"/>
              </a:xfrm>
              <a:custGeom>
                <a:avLst/>
                <a:gdLst/>
                <a:ahLst/>
                <a:rect l="l" t="t" r="r" b="b"/>
                <a:pathLst>
                  <a:path w="527" h="348">
                    <a:moveTo>
                      <a:pt x="40" y="0"/>
                    </a:moveTo>
                    <a:lnTo>
                      <a:pt x="16" y="140"/>
                    </a:lnTo>
                    <a:lnTo>
                      <a:pt x="0" y="235"/>
                    </a:lnTo>
                    <a:lnTo>
                      <a:pt x="2" y="260"/>
                    </a:lnTo>
                    <a:lnTo>
                      <a:pt x="137" y="278"/>
                    </a:lnTo>
                    <a:lnTo>
                      <a:pt x="297" y="311"/>
                    </a:lnTo>
                    <a:lnTo>
                      <a:pt x="394" y="331"/>
                    </a:lnTo>
                    <a:lnTo>
                      <a:pt x="457" y="347"/>
                    </a:lnTo>
                    <a:lnTo>
                      <a:pt x="469" y="348"/>
                    </a:lnTo>
                    <a:lnTo>
                      <a:pt x="479" y="337"/>
                    </a:lnTo>
                    <a:lnTo>
                      <a:pt x="489" y="284"/>
                    </a:lnTo>
                    <a:lnTo>
                      <a:pt x="502" y="227"/>
                    </a:lnTo>
                    <a:lnTo>
                      <a:pt x="513" y="173"/>
                    </a:lnTo>
                    <a:lnTo>
                      <a:pt x="520" y="134"/>
                    </a:lnTo>
                    <a:lnTo>
                      <a:pt x="527" y="99"/>
                    </a:lnTo>
                    <a:lnTo>
                      <a:pt x="517" y="87"/>
                    </a:lnTo>
                    <a:lnTo>
                      <a:pt x="357" y="62"/>
                    </a:lnTo>
                    <a:lnTo>
                      <a:pt x="289" y="49"/>
                    </a:lnTo>
                    <a:lnTo>
                      <a:pt x="170" y="24"/>
                    </a:lnTo>
                    <a:lnTo>
                      <a:pt x="105" y="7"/>
                    </a:lnTo>
                    <a:lnTo>
                      <a:pt x="54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534520" y="1066680"/>
                <a:ext cx="288720" cy="193680"/>
              </a:xfrm>
              <a:custGeom>
                <a:avLst/>
                <a:gdLst/>
                <a:ahLst/>
                <a:rect l="l" t="t" r="r" b="b"/>
                <a:pathLst>
                  <a:path w="548" h="365">
                    <a:moveTo>
                      <a:pt x="57" y="0"/>
                    </a:moveTo>
                    <a:lnTo>
                      <a:pt x="173" y="25"/>
                    </a:lnTo>
                    <a:lnTo>
                      <a:pt x="311" y="57"/>
                    </a:lnTo>
                    <a:lnTo>
                      <a:pt x="396" y="68"/>
                    </a:lnTo>
                    <a:lnTo>
                      <a:pt x="483" y="80"/>
                    </a:lnTo>
                    <a:lnTo>
                      <a:pt x="539" y="88"/>
                    </a:lnTo>
                    <a:lnTo>
                      <a:pt x="548" y="105"/>
                    </a:lnTo>
                    <a:lnTo>
                      <a:pt x="539" y="147"/>
                    </a:lnTo>
                    <a:lnTo>
                      <a:pt x="521" y="239"/>
                    </a:lnTo>
                    <a:lnTo>
                      <a:pt x="508" y="317"/>
                    </a:lnTo>
                    <a:lnTo>
                      <a:pt x="498" y="357"/>
                    </a:lnTo>
                    <a:lnTo>
                      <a:pt x="481" y="365"/>
                    </a:lnTo>
                    <a:lnTo>
                      <a:pt x="201" y="307"/>
                    </a:lnTo>
                    <a:lnTo>
                      <a:pt x="9" y="279"/>
                    </a:lnTo>
                    <a:lnTo>
                      <a:pt x="0" y="267"/>
                    </a:lnTo>
                    <a:lnTo>
                      <a:pt x="19" y="173"/>
                    </a:lnTo>
                    <a:lnTo>
                      <a:pt x="34" y="91"/>
                    </a:lnTo>
                    <a:lnTo>
                      <a:pt x="45" y="16"/>
                    </a:lnTo>
                    <a:lnTo>
                      <a:pt x="58" y="24"/>
                    </a:lnTo>
                    <a:lnTo>
                      <a:pt x="65" y="49"/>
                    </a:lnTo>
                    <a:lnTo>
                      <a:pt x="275" y="209"/>
                    </a:lnTo>
                    <a:lnTo>
                      <a:pt x="533" y="147"/>
                    </a:lnTo>
                    <a:lnTo>
                      <a:pt x="527" y="158"/>
                    </a:lnTo>
                    <a:lnTo>
                      <a:pt x="280" y="229"/>
                    </a:lnTo>
                    <a:lnTo>
                      <a:pt x="265" y="224"/>
                    </a:lnTo>
                    <a:lnTo>
                      <a:pt x="61" y="68"/>
                    </a:lnTo>
                    <a:lnTo>
                      <a:pt x="49" y="76"/>
                    </a:lnTo>
                    <a:lnTo>
                      <a:pt x="32" y="174"/>
                    </a:lnTo>
                    <a:lnTo>
                      <a:pt x="151" y="165"/>
                    </a:lnTo>
                    <a:lnTo>
                      <a:pt x="26" y="188"/>
                    </a:lnTo>
                    <a:lnTo>
                      <a:pt x="20" y="254"/>
                    </a:lnTo>
                    <a:lnTo>
                      <a:pt x="25" y="261"/>
                    </a:lnTo>
                    <a:lnTo>
                      <a:pt x="164" y="286"/>
                    </a:lnTo>
                    <a:lnTo>
                      <a:pt x="298" y="308"/>
                    </a:lnTo>
                    <a:lnTo>
                      <a:pt x="398" y="331"/>
                    </a:lnTo>
                    <a:lnTo>
                      <a:pt x="469" y="352"/>
                    </a:lnTo>
                    <a:lnTo>
                      <a:pt x="486" y="347"/>
                    </a:lnTo>
                    <a:lnTo>
                      <a:pt x="496" y="294"/>
                    </a:lnTo>
                    <a:lnTo>
                      <a:pt x="356" y="207"/>
                    </a:lnTo>
                    <a:lnTo>
                      <a:pt x="369" y="197"/>
                    </a:lnTo>
                    <a:lnTo>
                      <a:pt x="500" y="269"/>
                    </a:lnTo>
                    <a:lnTo>
                      <a:pt x="514" y="207"/>
                    </a:lnTo>
                    <a:lnTo>
                      <a:pt x="530" y="150"/>
                    </a:lnTo>
                    <a:lnTo>
                      <a:pt x="533" y="111"/>
                    </a:lnTo>
                    <a:lnTo>
                      <a:pt x="473" y="102"/>
                    </a:lnTo>
                    <a:lnTo>
                      <a:pt x="316" y="69"/>
                    </a:lnTo>
                    <a:lnTo>
                      <a:pt x="114" y="25"/>
                    </a:lnTo>
                    <a:lnTo>
                      <a:pt x="56" y="1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564400" y="1101600"/>
              <a:ext cx="299880" cy="233640"/>
              <a:chOff x="8564400" y="1101600"/>
              <a:chExt cx="299880" cy="233640"/>
            </a:xfrm>
          </p:grpSpPr>
          <p:sp>
            <p:nvSpPr>
              <p:cNvPr id="87" name=""/>
              <p:cNvSpPr/>
              <p:nvPr/>
            </p:nvSpPr>
            <p:spPr>
              <a:xfrm>
                <a:off x="8570520" y="1106640"/>
                <a:ext cx="290160" cy="223560"/>
              </a:xfrm>
              <a:custGeom>
                <a:avLst/>
                <a:gdLst/>
                <a:ahLst/>
                <a:rect l="l" t="t" r="r" b="b"/>
                <a:pathLst>
                  <a:path w="549" h="422">
                    <a:moveTo>
                      <a:pt x="89" y="0"/>
                    </a:moveTo>
                    <a:lnTo>
                      <a:pt x="39" y="131"/>
                    </a:lnTo>
                    <a:lnTo>
                      <a:pt x="5" y="220"/>
                    </a:lnTo>
                    <a:lnTo>
                      <a:pt x="0" y="247"/>
                    </a:lnTo>
                    <a:lnTo>
                      <a:pt x="131" y="289"/>
                    </a:lnTo>
                    <a:lnTo>
                      <a:pt x="282" y="352"/>
                    </a:lnTo>
                    <a:lnTo>
                      <a:pt x="374" y="390"/>
                    </a:lnTo>
                    <a:lnTo>
                      <a:pt x="433" y="418"/>
                    </a:lnTo>
                    <a:lnTo>
                      <a:pt x="445" y="422"/>
                    </a:lnTo>
                    <a:lnTo>
                      <a:pt x="457" y="413"/>
                    </a:lnTo>
                    <a:lnTo>
                      <a:pt x="477" y="363"/>
                    </a:lnTo>
                    <a:lnTo>
                      <a:pt x="499" y="308"/>
                    </a:lnTo>
                    <a:lnTo>
                      <a:pt x="522" y="259"/>
                    </a:lnTo>
                    <a:lnTo>
                      <a:pt x="537" y="223"/>
                    </a:lnTo>
                    <a:lnTo>
                      <a:pt x="549" y="190"/>
                    </a:lnTo>
                    <a:lnTo>
                      <a:pt x="540" y="174"/>
                    </a:lnTo>
                    <a:lnTo>
                      <a:pt x="389" y="122"/>
                    </a:lnTo>
                    <a:lnTo>
                      <a:pt x="324" y="96"/>
                    </a:lnTo>
                    <a:lnTo>
                      <a:pt x="212" y="48"/>
                    </a:lnTo>
                    <a:lnTo>
                      <a:pt x="150" y="18"/>
                    </a:lnTo>
                    <a:lnTo>
                      <a:pt x="101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564400" y="1101600"/>
                <a:ext cx="299880" cy="233640"/>
              </a:xfrm>
              <a:custGeom>
                <a:avLst/>
                <a:gdLst/>
                <a:ahLst/>
                <a:rect l="l" t="t" r="r" b="b"/>
                <a:pathLst>
                  <a:path w="567" h="440">
                    <a:moveTo>
                      <a:pt x="106" y="0"/>
                    </a:moveTo>
                    <a:lnTo>
                      <a:pt x="215" y="47"/>
                    </a:lnTo>
                    <a:lnTo>
                      <a:pt x="344" y="104"/>
                    </a:lnTo>
                    <a:lnTo>
                      <a:pt x="425" y="132"/>
                    </a:lnTo>
                    <a:lnTo>
                      <a:pt x="507" y="160"/>
                    </a:lnTo>
                    <a:lnTo>
                      <a:pt x="563" y="177"/>
                    </a:lnTo>
                    <a:lnTo>
                      <a:pt x="567" y="195"/>
                    </a:lnTo>
                    <a:lnTo>
                      <a:pt x="550" y="237"/>
                    </a:lnTo>
                    <a:lnTo>
                      <a:pt x="514" y="323"/>
                    </a:lnTo>
                    <a:lnTo>
                      <a:pt x="486" y="398"/>
                    </a:lnTo>
                    <a:lnTo>
                      <a:pt x="469" y="436"/>
                    </a:lnTo>
                    <a:lnTo>
                      <a:pt x="451" y="440"/>
                    </a:lnTo>
                    <a:lnTo>
                      <a:pt x="189" y="330"/>
                    </a:lnTo>
                    <a:lnTo>
                      <a:pt x="6" y="264"/>
                    </a:lnTo>
                    <a:lnTo>
                      <a:pt x="0" y="251"/>
                    </a:lnTo>
                    <a:lnTo>
                      <a:pt x="35" y="162"/>
                    </a:lnTo>
                    <a:lnTo>
                      <a:pt x="66" y="85"/>
                    </a:lnTo>
                    <a:lnTo>
                      <a:pt x="92" y="13"/>
                    </a:lnTo>
                    <a:lnTo>
                      <a:pt x="102" y="23"/>
                    </a:lnTo>
                    <a:lnTo>
                      <a:pt x="104" y="50"/>
                    </a:lnTo>
                    <a:lnTo>
                      <a:pt x="280" y="247"/>
                    </a:lnTo>
                    <a:lnTo>
                      <a:pt x="543" y="235"/>
                    </a:lnTo>
                    <a:lnTo>
                      <a:pt x="536" y="246"/>
                    </a:lnTo>
                    <a:lnTo>
                      <a:pt x="281" y="267"/>
                    </a:lnTo>
                    <a:lnTo>
                      <a:pt x="266" y="261"/>
                    </a:lnTo>
                    <a:lnTo>
                      <a:pt x="98" y="68"/>
                    </a:lnTo>
                    <a:lnTo>
                      <a:pt x="83" y="74"/>
                    </a:lnTo>
                    <a:lnTo>
                      <a:pt x="48" y="166"/>
                    </a:lnTo>
                    <a:lnTo>
                      <a:pt x="168" y="180"/>
                    </a:lnTo>
                    <a:lnTo>
                      <a:pt x="42" y="177"/>
                    </a:lnTo>
                    <a:lnTo>
                      <a:pt x="21" y="242"/>
                    </a:lnTo>
                    <a:lnTo>
                      <a:pt x="26" y="250"/>
                    </a:lnTo>
                    <a:lnTo>
                      <a:pt x="158" y="300"/>
                    </a:lnTo>
                    <a:lnTo>
                      <a:pt x="283" y="348"/>
                    </a:lnTo>
                    <a:lnTo>
                      <a:pt x="376" y="391"/>
                    </a:lnTo>
                    <a:lnTo>
                      <a:pt x="443" y="424"/>
                    </a:lnTo>
                    <a:lnTo>
                      <a:pt x="459" y="423"/>
                    </a:lnTo>
                    <a:lnTo>
                      <a:pt x="478" y="373"/>
                    </a:lnTo>
                    <a:lnTo>
                      <a:pt x="360" y="259"/>
                    </a:lnTo>
                    <a:lnTo>
                      <a:pt x="374" y="253"/>
                    </a:lnTo>
                    <a:lnTo>
                      <a:pt x="489" y="348"/>
                    </a:lnTo>
                    <a:lnTo>
                      <a:pt x="515" y="290"/>
                    </a:lnTo>
                    <a:lnTo>
                      <a:pt x="540" y="237"/>
                    </a:lnTo>
                    <a:lnTo>
                      <a:pt x="550" y="200"/>
                    </a:lnTo>
                    <a:lnTo>
                      <a:pt x="494" y="180"/>
                    </a:lnTo>
                    <a:lnTo>
                      <a:pt x="347" y="117"/>
                    </a:lnTo>
                    <a:lnTo>
                      <a:pt x="158" y="36"/>
                    </a:lnTo>
                    <a:lnTo>
                      <a:pt x="102" y="13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8572320" y="1130400"/>
              <a:ext cx="299880" cy="268200"/>
              <a:chOff x="8572320" y="1130400"/>
              <a:chExt cx="299880" cy="268200"/>
            </a:xfrm>
          </p:grpSpPr>
          <p:sp>
            <p:nvSpPr>
              <p:cNvPr id="90" name=""/>
              <p:cNvSpPr/>
              <p:nvPr/>
            </p:nvSpPr>
            <p:spPr>
              <a:xfrm>
                <a:off x="8578440" y="1133640"/>
                <a:ext cx="288360" cy="260280"/>
              </a:xfrm>
              <a:custGeom>
                <a:avLst/>
                <a:gdLst/>
                <a:ahLst/>
                <a:rect l="l" t="t" r="r" b="b"/>
                <a:pathLst>
                  <a:path w="546" h="491">
                    <a:moveTo>
                      <a:pt x="142" y="0"/>
                    </a:moveTo>
                    <a:lnTo>
                      <a:pt x="64" y="116"/>
                    </a:lnTo>
                    <a:lnTo>
                      <a:pt x="10" y="196"/>
                    </a:lnTo>
                    <a:lnTo>
                      <a:pt x="0" y="220"/>
                    </a:lnTo>
                    <a:lnTo>
                      <a:pt x="117" y="292"/>
                    </a:lnTo>
                    <a:lnTo>
                      <a:pt x="250" y="386"/>
                    </a:lnTo>
                    <a:lnTo>
                      <a:pt x="331" y="444"/>
                    </a:lnTo>
                    <a:lnTo>
                      <a:pt x="382" y="484"/>
                    </a:lnTo>
                    <a:lnTo>
                      <a:pt x="393" y="491"/>
                    </a:lnTo>
                    <a:lnTo>
                      <a:pt x="408" y="484"/>
                    </a:lnTo>
                    <a:lnTo>
                      <a:pt x="438" y="440"/>
                    </a:lnTo>
                    <a:lnTo>
                      <a:pt x="472" y="393"/>
                    </a:lnTo>
                    <a:lnTo>
                      <a:pt x="505" y="350"/>
                    </a:lnTo>
                    <a:lnTo>
                      <a:pt x="526" y="318"/>
                    </a:lnTo>
                    <a:lnTo>
                      <a:pt x="546" y="288"/>
                    </a:lnTo>
                    <a:lnTo>
                      <a:pt x="542" y="271"/>
                    </a:lnTo>
                    <a:lnTo>
                      <a:pt x="407" y="186"/>
                    </a:lnTo>
                    <a:lnTo>
                      <a:pt x="349" y="145"/>
                    </a:lnTo>
                    <a:lnTo>
                      <a:pt x="250" y="73"/>
                    </a:lnTo>
                    <a:lnTo>
                      <a:pt x="198" y="32"/>
                    </a:lnTo>
                    <a:lnTo>
                      <a:pt x="154" y="7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72320" y="1130400"/>
                <a:ext cx="299880" cy="268200"/>
              </a:xfrm>
              <a:custGeom>
                <a:avLst/>
                <a:gdLst/>
                <a:ahLst/>
                <a:rect l="l" t="t" r="r" b="b"/>
                <a:pathLst>
                  <a:path w="567" h="508">
                    <a:moveTo>
                      <a:pt x="160" y="0"/>
                    </a:moveTo>
                    <a:lnTo>
                      <a:pt x="257" y="71"/>
                    </a:lnTo>
                    <a:lnTo>
                      <a:pt x="370" y="155"/>
                    </a:lnTo>
                    <a:lnTo>
                      <a:pt x="443" y="201"/>
                    </a:lnTo>
                    <a:lnTo>
                      <a:pt x="517" y="246"/>
                    </a:lnTo>
                    <a:lnTo>
                      <a:pt x="566" y="276"/>
                    </a:lnTo>
                    <a:lnTo>
                      <a:pt x="567" y="295"/>
                    </a:lnTo>
                    <a:lnTo>
                      <a:pt x="541" y="332"/>
                    </a:lnTo>
                    <a:lnTo>
                      <a:pt x="487" y="407"/>
                    </a:lnTo>
                    <a:lnTo>
                      <a:pt x="444" y="475"/>
                    </a:lnTo>
                    <a:lnTo>
                      <a:pt x="418" y="508"/>
                    </a:lnTo>
                    <a:lnTo>
                      <a:pt x="399" y="508"/>
                    </a:lnTo>
                    <a:lnTo>
                      <a:pt x="168" y="341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57" y="144"/>
                    </a:lnTo>
                    <a:lnTo>
                      <a:pt x="103" y="76"/>
                    </a:lnTo>
                    <a:lnTo>
                      <a:pt x="144" y="10"/>
                    </a:lnTo>
                    <a:lnTo>
                      <a:pt x="152" y="22"/>
                    </a:lnTo>
                    <a:lnTo>
                      <a:pt x="147" y="48"/>
                    </a:lnTo>
                    <a:lnTo>
                      <a:pt x="275" y="280"/>
                    </a:lnTo>
                    <a:lnTo>
                      <a:pt x="536" y="329"/>
                    </a:lnTo>
                    <a:lnTo>
                      <a:pt x="526" y="338"/>
                    </a:lnTo>
                    <a:lnTo>
                      <a:pt x="271" y="301"/>
                    </a:lnTo>
                    <a:lnTo>
                      <a:pt x="259" y="291"/>
                    </a:lnTo>
                    <a:lnTo>
                      <a:pt x="138" y="65"/>
                    </a:lnTo>
                    <a:lnTo>
                      <a:pt x="122" y="68"/>
                    </a:lnTo>
                    <a:lnTo>
                      <a:pt x="68" y="150"/>
                    </a:lnTo>
                    <a:lnTo>
                      <a:pt x="180" y="189"/>
                    </a:lnTo>
                    <a:lnTo>
                      <a:pt x="58" y="160"/>
                    </a:lnTo>
                    <a:lnTo>
                      <a:pt x="25" y="218"/>
                    </a:lnTo>
                    <a:lnTo>
                      <a:pt x="27" y="227"/>
                    </a:lnTo>
                    <a:lnTo>
                      <a:pt x="144" y="305"/>
                    </a:lnTo>
                    <a:lnTo>
                      <a:pt x="255" y="380"/>
                    </a:lnTo>
                    <a:lnTo>
                      <a:pt x="337" y="443"/>
                    </a:lnTo>
                    <a:lnTo>
                      <a:pt x="394" y="491"/>
                    </a:lnTo>
                    <a:lnTo>
                      <a:pt x="411" y="493"/>
                    </a:lnTo>
                    <a:lnTo>
                      <a:pt x="441" y="448"/>
                    </a:lnTo>
                    <a:lnTo>
                      <a:pt x="351" y="310"/>
                    </a:lnTo>
                    <a:lnTo>
                      <a:pt x="367" y="309"/>
                    </a:lnTo>
                    <a:lnTo>
                      <a:pt x="458" y="427"/>
                    </a:lnTo>
                    <a:lnTo>
                      <a:pt x="494" y="375"/>
                    </a:lnTo>
                    <a:lnTo>
                      <a:pt x="532" y="330"/>
                    </a:lnTo>
                    <a:lnTo>
                      <a:pt x="551" y="296"/>
                    </a:lnTo>
                    <a:lnTo>
                      <a:pt x="500" y="262"/>
                    </a:lnTo>
                    <a:lnTo>
                      <a:pt x="369" y="169"/>
                    </a:lnTo>
                    <a:lnTo>
                      <a:pt x="204" y="47"/>
                    </a:lnTo>
                    <a:lnTo>
                      <a:pt x="154" y="12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1981080" y="1371600"/>
            <a:ext cx="838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gent</a:t>
            </a:r>
            <a:br>
              <a:rPr sz="1800"/>
            </a:b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ua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86000"/>
            <a:ext cx="1676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represen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register availabl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76920" y="3809880"/>
            <a:ext cx="2361960" cy="1752840"/>
            <a:chOff x="4876920" y="3809880"/>
            <a:chExt cx="2361960" cy="1752840"/>
          </a:xfrm>
        </p:grpSpPr>
        <p:sp>
          <p:nvSpPr>
            <p:cNvPr id="95" name=""/>
            <p:cNvSpPr/>
            <p:nvPr/>
          </p:nvSpPr>
          <p:spPr>
            <a:xfrm>
              <a:off x="4876920" y="4038480"/>
              <a:ext cx="2361960" cy="1524240"/>
            </a:xfrm>
            <a:prstGeom prst="roundRect">
              <a:avLst>
                <a:gd name="adj" fmla="val 16667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5520" y="4343400"/>
              <a:ext cx="76176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1480" y="4419720"/>
              <a:ext cx="6098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1480" y="4648320"/>
              <a:ext cx="6098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1480" y="4876920"/>
              <a:ext cx="6098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81480" y="5105520"/>
              <a:ext cx="60984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42670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0800" y="4191120"/>
              <a:ext cx="60948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495680"/>
              <a:ext cx="60948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800600"/>
              <a:ext cx="60948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105520"/>
              <a:ext cx="60948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10080" y="4724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38098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3de8"/>
                  </a:solidFill>
                  <a:latin typeface="Arial"/>
                </a:rPr>
                <a:t>directory 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8001000" y="1294920"/>
            <a:ext cx="533520" cy="228600"/>
          </a:xfrm>
          <a:prstGeom prst="line">
            <a:avLst/>
          </a:prstGeom>
          <a:ln w="381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8001000" y="2057400"/>
            <a:ext cx="533520" cy="76320"/>
          </a:xfrm>
          <a:prstGeom prst="line">
            <a:avLst/>
          </a:prstGeom>
          <a:ln w="381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2590920"/>
            <a:ext cx="609480" cy="380880"/>
          </a:xfrm>
          <a:prstGeom prst="line">
            <a:avLst/>
          </a:prstGeom>
          <a:ln w="381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1000" y="3429000"/>
            <a:ext cx="1523880" cy="9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Services provided by a</a:t>
            </a:r>
            <a:r>
              <a:rPr b="0" lang="en-US" sz="1400" spc="-1" strike="noStrike" baseline="-25000">
                <a:solidFill>
                  <a:srgbClr val="063de8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14600"/>
            <a:ext cx="1523880" cy="91440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92" idx="3"/>
            <a:endCxn id="112" idx="0"/>
          </p:cNvCxnSpPr>
          <p:nvPr/>
        </p:nvCxnSpPr>
        <p:spPr>
          <a:xfrm>
            <a:off x="2819160" y="1829880"/>
            <a:ext cx="686520" cy="764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2" idx="2"/>
            <a:endCxn id="95" idx="1"/>
          </p:cNvCxnSpPr>
          <p:nvPr/>
        </p:nvCxnSpPr>
        <p:spPr>
          <a:xfrm>
            <a:off x="3638520" y="3311640"/>
            <a:ext cx="123912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5" name=""/>
          <p:cNvGrpSpPr/>
          <p:nvPr/>
        </p:nvGrpSpPr>
        <p:grpSpPr>
          <a:xfrm>
            <a:off x="766800" y="4881600"/>
            <a:ext cx="587160" cy="988920"/>
            <a:chOff x="766800" y="4881600"/>
            <a:chExt cx="587160" cy="988920"/>
          </a:xfrm>
        </p:grpSpPr>
        <p:sp>
          <p:nvSpPr>
            <p:cNvPr id="116" name=""/>
            <p:cNvSpPr/>
            <p:nvPr/>
          </p:nvSpPr>
          <p:spPr>
            <a:xfrm>
              <a:off x="766800" y="5329080"/>
              <a:ext cx="341280" cy="541440"/>
            </a:xfrm>
            <a:custGeom>
              <a:avLst/>
              <a:gdLst/>
              <a:ahLst/>
              <a:rect l="l" t="t" r="r" b="b"/>
              <a:pathLst>
                <a:path w="859" h="1366">
                  <a:moveTo>
                    <a:pt x="859" y="643"/>
                  </a:moveTo>
                  <a:lnTo>
                    <a:pt x="614" y="505"/>
                  </a:lnTo>
                  <a:lnTo>
                    <a:pt x="345" y="26"/>
                  </a:lnTo>
                  <a:lnTo>
                    <a:pt x="333" y="18"/>
                  </a:lnTo>
                  <a:lnTo>
                    <a:pt x="314" y="8"/>
                  </a:lnTo>
                  <a:lnTo>
                    <a:pt x="292" y="4"/>
                  </a:lnTo>
                  <a:lnTo>
                    <a:pt x="264" y="0"/>
                  </a:lnTo>
                  <a:lnTo>
                    <a:pt x="237" y="4"/>
                  </a:lnTo>
                  <a:lnTo>
                    <a:pt x="212" y="13"/>
                  </a:lnTo>
                  <a:lnTo>
                    <a:pt x="184" y="26"/>
                  </a:lnTo>
                  <a:lnTo>
                    <a:pt x="147" y="45"/>
                  </a:lnTo>
                  <a:lnTo>
                    <a:pt x="116" y="66"/>
                  </a:lnTo>
                  <a:lnTo>
                    <a:pt x="89" y="85"/>
                  </a:lnTo>
                  <a:lnTo>
                    <a:pt x="69" y="104"/>
                  </a:lnTo>
                  <a:lnTo>
                    <a:pt x="50" y="126"/>
                  </a:lnTo>
                  <a:lnTo>
                    <a:pt x="27" y="160"/>
                  </a:lnTo>
                  <a:lnTo>
                    <a:pt x="14" y="185"/>
                  </a:lnTo>
                  <a:lnTo>
                    <a:pt x="2" y="220"/>
                  </a:lnTo>
                  <a:lnTo>
                    <a:pt x="0" y="259"/>
                  </a:lnTo>
                  <a:lnTo>
                    <a:pt x="0" y="317"/>
                  </a:lnTo>
                  <a:lnTo>
                    <a:pt x="7" y="385"/>
                  </a:lnTo>
                  <a:lnTo>
                    <a:pt x="20" y="449"/>
                  </a:lnTo>
                  <a:lnTo>
                    <a:pt x="43" y="525"/>
                  </a:lnTo>
                  <a:lnTo>
                    <a:pt x="67" y="589"/>
                  </a:lnTo>
                  <a:lnTo>
                    <a:pt x="87" y="632"/>
                  </a:lnTo>
                  <a:lnTo>
                    <a:pt x="117" y="678"/>
                  </a:lnTo>
                  <a:lnTo>
                    <a:pt x="140" y="709"/>
                  </a:lnTo>
                  <a:lnTo>
                    <a:pt x="165" y="744"/>
                  </a:lnTo>
                  <a:lnTo>
                    <a:pt x="194" y="781"/>
                  </a:lnTo>
                  <a:lnTo>
                    <a:pt x="222" y="803"/>
                  </a:lnTo>
                  <a:lnTo>
                    <a:pt x="335" y="790"/>
                  </a:lnTo>
                  <a:lnTo>
                    <a:pt x="421" y="761"/>
                  </a:lnTo>
                  <a:lnTo>
                    <a:pt x="475" y="777"/>
                  </a:lnTo>
                  <a:lnTo>
                    <a:pt x="601" y="783"/>
                  </a:lnTo>
                  <a:lnTo>
                    <a:pt x="756" y="761"/>
                  </a:lnTo>
                  <a:lnTo>
                    <a:pt x="779" y="811"/>
                  </a:lnTo>
                  <a:lnTo>
                    <a:pt x="779" y="1171"/>
                  </a:lnTo>
                  <a:lnTo>
                    <a:pt x="776" y="1205"/>
                  </a:lnTo>
                  <a:lnTo>
                    <a:pt x="770" y="1226"/>
                  </a:lnTo>
                  <a:lnTo>
                    <a:pt x="760" y="1249"/>
                  </a:lnTo>
                  <a:lnTo>
                    <a:pt x="746" y="1266"/>
                  </a:lnTo>
                  <a:lnTo>
                    <a:pt x="729" y="1281"/>
                  </a:lnTo>
                  <a:lnTo>
                    <a:pt x="710" y="1292"/>
                  </a:lnTo>
                  <a:lnTo>
                    <a:pt x="693" y="1297"/>
                  </a:lnTo>
                  <a:lnTo>
                    <a:pt x="672" y="1300"/>
                  </a:lnTo>
                  <a:lnTo>
                    <a:pt x="89" y="1299"/>
                  </a:lnTo>
                  <a:lnTo>
                    <a:pt x="89" y="1366"/>
                  </a:lnTo>
                  <a:lnTo>
                    <a:pt x="687" y="1363"/>
                  </a:lnTo>
                  <a:lnTo>
                    <a:pt x="718" y="1362"/>
                  </a:lnTo>
                  <a:lnTo>
                    <a:pt x="739" y="1359"/>
                  </a:lnTo>
                  <a:lnTo>
                    <a:pt x="761" y="1353"/>
                  </a:lnTo>
                  <a:lnTo>
                    <a:pt x="780" y="1344"/>
                  </a:lnTo>
                  <a:lnTo>
                    <a:pt x="799" y="1329"/>
                  </a:lnTo>
                  <a:lnTo>
                    <a:pt x="819" y="1304"/>
                  </a:lnTo>
                  <a:lnTo>
                    <a:pt x="832" y="1281"/>
                  </a:lnTo>
                  <a:lnTo>
                    <a:pt x="844" y="1257"/>
                  </a:lnTo>
                  <a:lnTo>
                    <a:pt x="851" y="1230"/>
                  </a:lnTo>
                  <a:lnTo>
                    <a:pt x="857" y="1199"/>
                  </a:lnTo>
                  <a:lnTo>
                    <a:pt x="859" y="1163"/>
                  </a:lnTo>
                  <a:lnTo>
                    <a:pt x="859" y="643"/>
                  </a:lnTo>
                  <a:close/>
                </a:path>
              </a:pathLst>
            </a:custGeom>
            <a:solidFill>
              <a:srgbClr val="000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34840" y="4881600"/>
              <a:ext cx="519120" cy="982800"/>
              <a:chOff x="834840" y="4881600"/>
              <a:chExt cx="519120" cy="982800"/>
            </a:xfrm>
          </p:grpSpPr>
          <p:sp>
            <p:nvSpPr>
              <p:cNvPr id="118" name=""/>
              <p:cNvSpPr/>
              <p:nvPr/>
            </p:nvSpPr>
            <p:spPr>
              <a:xfrm>
                <a:off x="834840" y="4881600"/>
                <a:ext cx="519120" cy="982800"/>
              </a:xfrm>
              <a:custGeom>
                <a:avLst/>
                <a:gdLst/>
                <a:ahLst/>
                <a:rect l="l" t="t" r="r" b="b"/>
                <a:pathLst>
                  <a:path w="1308" h="2475">
                    <a:moveTo>
                      <a:pt x="447" y="530"/>
                    </a:moveTo>
                    <a:lnTo>
                      <a:pt x="482" y="418"/>
                    </a:lnTo>
                    <a:lnTo>
                      <a:pt x="512" y="285"/>
                    </a:lnTo>
                    <a:lnTo>
                      <a:pt x="526" y="171"/>
                    </a:lnTo>
                    <a:lnTo>
                      <a:pt x="496" y="106"/>
                    </a:lnTo>
                    <a:lnTo>
                      <a:pt x="467" y="75"/>
                    </a:lnTo>
                    <a:lnTo>
                      <a:pt x="512" y="111"/>
                    </a:lnTo>
                    <a:lnTo>
                      <a:pt x="546" y="167"/>
                    </a:lnTo>
                    <a:lnTo>
                      <a:pt x="519" y="39"/>
                    </a:lnTo>
                    <a:lnTo>
                      <a:pt x="543" y="100"/>
                    </a:lnTo>
                    <a:lnTo>
                      <a:pt x="593" y="179"/>
                    </a:lnTo>
                    <a:lnTo>
                      <a:pt x="616" y="189"/>
                    </a:lnTo>
                    <a:lnTo>
                      <a:pt x="600" y="121"/>
                    </a:lnTo>
                    <a:lnTo>
                      <a:pt x="612" y="129"/>
                    </a:lnTo>
                    <a:lnTo>
                      <a:pt x="618" y="72"/>
                    </a:lnTo>
                    <a:lnTo>
                      <a:pt x="601" y="11"/>
                    </a:lnTo>
                    <a:lnTo>
                      <a:pt x="680" y="172"/>
                    </a:lnTo>
                    <a:lnTo>
                      <a:pt x="686" y="146"/>
                    </a:lnTo>
                    <a:lnTo>
                      <a:pt x="697" y="165"/>
                    </a:lnTo>
                    <a:lnTo>
                      <a:pt x="700" y="140"/>
                    </a:lnTo>
                    <a:lnTo>
                      <a:pt x="684" y="99"/>
                    </a:lnTo>
                    <a:lnTo>
                      <a:pt x="687" y="22"/>
                    </a:lnTo>
                    <a:lnTo>
                      <a:pt x="715" y="172"/>
                    </a:lnTo>
                    <a:lnTo>
                      <a:pt x="729" y="36"/>
                    </a:lnTo>
                    <a:lnTo>
                      <a:pt x="729" y="142"/>
                    </a:lnTo>
                    <a:lnTo>
                      <a:pt x="743" y="168"/>
                    </a:lnTo>
                    <a:lnTo>
                      <a:pt x="766" y="49"/>
                    </a:lnTo>
                    <a:lnTo>
                      <a:pt x="816" y="0"/>
                    </a:lnTo>
                    <a:lnTo>
                      <a:pt x="783" y="49"/>
                    </a:lnTo>
                    <a:lnTo>
                      <a:pt x="762" y="143"/>
                    </a:lnTo>
                    <a:lnTo>
                      <a:pt x="770" y="160"/>
                    </a:lnTo>
                    <a:lnTo>
                      <a:pt x="804" y="93"/>
                    </a:lnTo>
                    <a:lnTo>
                      <a:pt x="780" y="150"/>
                    </a:lnTo>
                    <a:lnTo>
                      <a:pt x="780" y="175"/>
                    </a:lnTo>
                    <a:lnTo>
                      <a:pt x="854" y="36"/>
                    </a:lnTo>
                    <a:lnTo>
                      <a:pt x="856" y="60"/>
                    </a:lnTo>
                    <a:lnTo>
                      <a:pt x="822" y="140"/>
                    </a:lnTo>
                    <a:lnTo>
                      <a:pt x="822" y="189"/>
                    </a:lnTo>
                    <a:lnTo>
                      <a:pt x="834" y="196"/>
                    </a:lnTo>
                    <a:lnTo>
                      <a:pt x="851" y="107"/>
                    </a:lnTo>
                    <a:lnTo>
                      <a:pt x="883" y="47"/>
                    </a:lnTo>
                    <a:lnTo>
                      <a:pt x="856" y="115"/>
                    </a:lnTo>
                    <a:lnTo>
                      <a:pt x="863" y="206"/>
                    </a:lnTo>
                    <a:lnTo>
                      <a:pt x="881" y="201"/>
                    </a:lnTo>
                    <a:lnTo>
                      <a:pt x="915" y="81"/>
                    </a:lnTo>
                    <a:lnTo>
                      <a:pt x="890" y="210"/>
                    </a:lnTo>
                    <a:lnTo>
                      <a:pt x="947" y="106"/>
                    </a:lnTo>
                    <a:lnTo>
                      <a:pt x="994" y="72"/>
                    </a:lnTo>
                    <a:lnTo>
                      <a:pt x="956" y="122"/>
                    </a:lnTo>
                    <a:lnTo>
                      <a:pt x="930" y="175"/>
                    </a:lnTo>
                    <a:lnTo>
                      <a:pt x="974" y="158"/>
                    </a:lnTo>
                    <a:lnTo>
                      <a:pt x="919" y="197"/>
                    </a:lnTo>
                    <a:lnTo>
                      <a:pt x="909" y="239"/>
                    </a:lnTo>
                    <a:lnTo>
                      <a:pt x="927" y="246"/>
                    </a:lnTo>
                    <a:lnTo>
                      <a:pt x="981" y="161"/>
                    </a:lnTo>
                    <a:lnTo>
                      <a:pt x="1048" y="111"/>
                    </a:lnTo>
                    <a:lnTo>
                      <a:pt x="959" y="224"/>
                    </a:lnTo>
                    <a:lnTo>
                      <a:pt x="1002" y="189"/>
                    </a:lnTo>
                    <a:lnTo>
                      <a:pt x="1227" y="153"/>
                    </a:lnTo>
                    <a:lnTo>
                      <a:pt x="990" y="208"/>
                    </a:lnTo>
                    <a:lnTo>
                      <a:pt x="967" y="247"/>
                    </a:lnTo>
                    <a:lnTo>
                      <a:pt x="990" y="240"/>
                    </a:lnTo>
                    <a:lnTo>
                      <a:pt x="1058" y="204"/>
                    </a:lnTo>
                    <a:lnTo>
                      <a:pt x="1005" y="258"/>
                    </a:lnTo>
                    <a:lnTo>
                      <a:pt x="962" y="283"/>
                    </a:lnTo>
                    <a:lnTo>
                      <a:pt x="962" y="315"/>
                    </a:lnTo>
                    <a:lnTo>
                      <a:pt x="974" y="340"/>
                    </a:lnTo>
                    <a:lnTo>
                      <a:pt x="998" y="368"/>
                    </a:lnTo>
                    <a:lnTo>
                      <a:pt x="1026" y="407"/>
                    </a:lnTo>
                    <a:lnTo>
                      <a:pt x="1051" y="440"/>
                    </a:lnTo>
                    <a:lnTo>
                      <a:pt x="1076" y="475"/>
                    </a:lnTo>
                    <a:lnTo>
                      <a:pt x="1099" y="508"/>
                    </a:lnTo>
                    <a:lnTo>
                      <a:pt x="1114" y="535"/>
                    </a:lnTo>
                    <a:lnTo>
                      <a:pt x="1141" y="580"/>
                    </a:lnTo>
                    <a:lnTo>
                      <a:pt x="1168" y="632"/>
                    </a:lnTo>
                    <a:lnTo>
                      <a:pt x="1188" y="678"/>
                    </a:lnTo>
                    <a:lnTo>
                      <a:pt x="1187" y="687"/>
                    </a:lnTo>
                    <a:lnTo>
                      <a:pt x="1183" y="698"/>
                    </a:lnTo>
                    <a:lnTo>
                      <a:pt x="1175" y="705"/>
                    </a:lnTo>
                    <a:lnTo>
                      <a:pt x="1165" y="709"/>
                    </a:lnTo>
                    <a:lnTo>
                      <a:pt x="1149" y="711"/>
                    </a:lnTo>
                    <a:lnTo>
                      <a:pt x="987" y="697"/>
                    </a:lnTo>
                    <a:lnTo>
                      <a:pt x="975" y="730"/>
                    </a:lnTo>
                    <a:lnTo>
                      <a:pt x="952" y="845"/>
                    </a:lnTo>
                    <a:lnTo>
                      <a:pt x="937" y="926"/>
                    </a:lnTo>
                    <a:lnTo>
                      <a:pt x="916" y="993"/>
                    </a:lnTo>
                    <a:lnTo>
                      <a:pt x="906" y="999"/>
                    </a:lnTo>
                    <a:lnTo>
                      <a:pt x="891" y="1002"/>
                    </a:lnTo>
                    <a:lnTo>
                      <a:pt x="876" y="1005"/>
                    </a:lnTo>
                    <a:lnTo>
                      <a:pt x="822" y="1003"/>
                    </a:lnTo>
                    <a:lnTo>
                      <a:pt x="694" y="951"/>
                    </a:lnTo>
                    <a:lnTo>
                      <a:pt x="683" y="972"/>
                    </a:lnTo>
                    <a:lnTo>
                      <a:pt x="662" y="1053"/>
                    </a:lnTo>
                    <a:lnTo>
                      <a:pt x="647" y="1117"/>
                    </a:lnTo>
                    <a:lnTo>
                      <a:pt x="628" y="1201"/>
                    </a:lnTo>
                    <a:lnTo>
                      <a:pt x="623" y="1257"/>
                    </a:lnTo>
                    <a:lnTo>
                      <a:pt x="650" y="1294"/>
                    </a:lnTo>
                    <a:lnTo>
                      <a:pt x="685" y="1340"/>
                    </a:lnTo>
                    <a:lnTo>
                      <a:pt x="728" y="1401"/>
                    </a:lnTo>
                    <a:lnTo>
                      <a:pt x="792" y="1416"/>
                    </a:lnTo>
                    <a:lnTo>
                      <a:pt x="842" y="1427"/>
                    </a:lnTo>
                    <a:lnTo>
                      <a:pt x="914" y="1440"/>
                    </a:lnTo>
                    <a:lnTo>
                      <a:pt x="955" y="1447"/>
                    </a:lnTo>
                    <a:lnTo>
                      <a:pt x="990" y="1449"/>
                    </a:lnTo>
                    <a:lnTo>
                      <a:pt x="1019" y="1453"/>
                    </a:lnTo>
                    <a:lnTo>
                      <a:pt x="1044" y="1453"/>
                    </a:lnTo>
                    <a:lnTo>
                      <a:pt x="1076" y="1449"/>
                    </a:lnTo>
                    <a:lnTo>
                      <a:pt x="1120" y="1447"/>
                    </a:lnTo>
                    <a:lnTo>
                      <a:pt x="1171" y="1420"/>
                    </a:lnTo>
                    <a:lnTo>
                      <a:pt x="1185" y="1414"/>
                    </a:lnTo>
                    <a:lnTo>
                      <a:pt x="1198" y="1415"/>
                    </a:lnTo>
                    <a:lnTo>
                      <a:pt x="1209" y="1421"/>
                    </a:lnTo>
                    <a:lnTo>
                      <a:pt x="1222" y="1435"/>
                    </a:lnTo>
                    <a:lnTo>
                      <a:pt x="1227" y="1446"/>
                    </a:lnTo>
                    <a:lnTo>
                      <a:pt x="1230" y="1465"/>
                    </a:lnTo>
                    <a:lnTo>
                      <a:pt x="1233" y="1486"/>
                    </a:lnTo>
                    <a:lnTo>
                      <a:pt x="1248" y="1494"/>
                    </a:lnTo>
                    <a:lnTo>
                      <a:pt x="1271" y="1507"/>
                    </a:lnTo>
                    <a:lnTo>
                      <a:pt x="1288" y="1519"/>
                    </a:lnTo>
                    <a:lnTo>
                      <a:pt x="1308" y="1535"/>
                    </a:lnTo>
                    <a:lnTo>
                      <a:pt x="1305" y="1547"/>
                    </a:lnTo>
                    <a:lnTo>
                      <a:pt x="1301" y="1564"/>
                    </a:lnTo>
                    <a:lnTo>
                      <a:pt x="1291" y="1575"/>
                    </a:lnTo>
                    <a:lnTo>
                      <a:pt x="1278" y="1585"/>
                    </a:lnTo>
                    <a:lnTo>
                      <a:pt x="1284" y="1596"/>
                    </a:lnTo>
                    <a:lnTo>
                      <a:pt x="1290" y="1611"/>
                    </a:lnTo>
                    <a:lnTo>
                      <a:pt x="1296" y="1630"/>
                    </a:lnTo>
                    <a:lnTo>
                      <a:pt x="1295" y="1644"/>
                    </a:lnTo>
                    <a:lnTo>
                      <a:pt x="1290" y="1662"/>
                    </a:lnTo>
                    <a:lnTo>
                      <a:pt x="1278" y="1671"/>
                    </a:lnTo>
                    <a:lnTo>
                      <a:pt x="1252" y="1688"/>
                    </a:lnTo>
                    <a:lnTo>
                      <a:pt x="1255" y="1712"/>
                    </a:lnTo>
                    <a:lnTo>
                      <a:pt x="1255" y="1726"/>
                    </a:lnTo>
                    <a:lnTo>
                      <a:pt x="1252" y="1736"/>
                    </a:lnTo>
                    <a:lnTo>
                      <a:pt x="1246" y="1743"/>
                    </a:lnTo>
                    <a:lnTo>
                      <a:pt x="1235" y="1748"/>
                    </a:lnTo>
                    <a:lnTo>
                      <a:pt x="1224" y="1745"/>
                    </a:lnTo>
                    <a:lnTo>
                      <a:pt x="1203" y="1737"/>
                    </a:lnTo>
                    <a:lnTo>
                      <a:pt x="1147" y="1715"/>
                    </a:lnTo>
                    <a:lnTo>
                      <a:pt x="1078" y="1688"/>
                    </a:lnTo>
                    <a:lnTo>
                      <a:pt x="981" y="1661"/>
                    </a:lnTo>
                    <a:lnTo>
                      <a:pt x="965" y="1661"/>
                    </a:lnTo>
                    <a:lnTo>
                      <a:pt x="909" y="1646"/>
                    </a:lnTo>
                    <a:lnTo>
                      <a:pt x="798" y="1616"/>
                    </a:lnTo>
                    <a:lnTo>
                      <a:pt x="706" y="1605"/>
                    </a:lnTo>
                    <a:lnTo>
                      <a:pt x="685" y="1607"/>
                    </a:lnTo>
                    <a:lnTo>
                      <a:pt x="637" y="1611"/>
                    </a:lnTo>
                    <a:lnTo>
                      <a:pt x="613" y="1589"/>
                    </a:lnTo>
                    <a:lnTo>
                      <a:pt x="597" y="1575"/>
                    </a:lnTo>
                    <a:lnTo>
                      <a:pt x="586" y="1563"/>
                    </a:lnTo>
                    <a:lnTo>
                      <a:pt x="579" y="1547"/>
                    </a:lnTo>
                    <a:lnTo>
                      <a:pt x="568" y="1528"/>
                    </a:lnTo>
                    <a:lnTo>
                      <a:pt x="513" y="1453"/>
                    </a:lnTo>
                    <a:lnTo>
                      <a:pt x="563" y="1520"/>
                    </a:lnTo>
                    <a:lnTo>
                      <a:pt x="581" y="1546"/>
                    </a:lnTo>
                    <a:lnTo>
                      <a:pt x="588" y="1568"/>
                    </a:lnTo>
                    <a:lnTo>
                      <a:pt x="634" y="1607"/>
                    </a:lnTo>
                    <a:lnTo>
                      <a:pt x="656" y="1612"/>
                    </a:lnTo>
                    <a:lnTo>
                      <a:pt x="687" y="1606"/>
                    </a:lnTo>
                    <a:lnTo>
                      <a:pt x="709" y="1607"/>
                    </a:lnTo>
                    <a:lnTo>
                      <a:pt x="748" y="1622"/>
                    </a:lnTo>
                    <a:lnTo>
                      <a:pt x="770" y="1640"/>
                    </a:lnTo>
                    <a:lnTo>
                      <a:pt x="790" y="1657"/>
                    </a:lnTo>
                    <a:lnTo>
                      <a:pt x="810" y="1682"/>
                    </a:lnTo>
                    <a:lnTo>
                      <a:pt x="819" y="1698"/>
                    </a:lnTo>
                    <a:lnTo>
                      <a:pt x="816" y="1713"/>
                    </a:lnTo>
                    <a:lnTo>
                      <a:pt x="803" y="1735"/>
                    </a:lnTo>
                    <a:lnTo>
                      <a:pt x="786" y="1758"/>
                    </a:lnTo>
                    <a:lnTo>
                      <a:pt x="753" y="1794"/>
                    </a:lnTo>
                    <a:lnTo>
                      <a:pt x="704" y="1843"/>
                    </a:lnTo>
                    <a:lnTo>
                      <a:pt x="672" y="1879"/>
                    </a:lnTo>
                    <a:lnTo>
                      <a:pt x="604" y="1922"/>
                    </a:lnTo>
                    <a:lnTo>
                      <a:pt x="504" y="1980"/>
                    </a:lnTo>
                    <a:lnTo>
                      <a:pt x="433" y="2017"/>
                    </a:lnTo>
                    <a:lnTo>
                      <a:pt x="415" y="2038"/>
                    </a:lnTo>
                    <a:lnTo>
                      <a:pt x="395" y="2059"/>
                    </a:lnTo>
                    <a:lnTo>
                      <a:pt x="358" y="2088"/>
                    </a:lnTo>
                    <a:lnTo>
                      <a:pt x="350" y="2128"/>
                    </a:lnTo>
                    <a:lnTo>
                      <a:pt x="350" y="2205"/>
                    </a:lnTo>
                    <a:lnTo>
                      <a:pt x="357" y="2268"/>
                    </a:lnTo>
                    <a:lnTo>
                      <a:pt x="369" y="2311"/>
                    </a:lnTo>
                    <a:lnTo>
                      <a:pt x="432" y="2393"/>
                    </a:lnTo>
                    <a:lnTo>
                      <a:pt x="470" y="2429"/>
                    </a:lnTo>
                    <a:lnTo>
                      <a:pt x="474" y="2440"/>
                    </a:lnTo>
                    <a:lnTo>
                      <a:pt x="471" y="2451"/>
                    </a:lnTo>
                    <a:lnTo>
                      <a:pt x="401" y="2475"/>
                    </a:lnTo>
                    <a:lnTo>
                      <a:pt x="325" y="2466"/>
                    </a:lnTo>
                    <a:lnTo>
                      <a:pt x="284" y="2463"/>
                    </a:lnTo>
                    <a:lnTo>
                      <a:pt x="245" y="2469"/>
                    </a:lnTo>
                    <a:lnTo>
                      <a:pt x="206" y="2469"/>
                    </a:lnTo>
                    <a:lnTo>
                      <a:pt x="167" y="2462"/>
                    </a:lnTo>
                    <a:lnTo>
                      <a:pt x="162" y="2456"/>
                    </a:lnTo>
                    <a:lnTo>
                      <a:pt x="156" y="2444"/>
                    </a:lnTo>
                    <a:lnTo>
                      <a:pt x="161" y="2314"/>
                    </a:lnTo>
                    <a:lnTo>
                      <a:pt x="180" y="2183"/>
                    </a:lnTo>
                    <a:lnTo>
                      <a:pt x="165" y="2141"/>
                    </a:lnTo>
                    <a:lnTo>
                      <a:pt x="138" y="2102"/>
                    </a:lnTo>
                    <a:lnTo>
                      <a:pt x="128" y="2091"/>
                    </a:lnTo>
                    <a:lnTo>
                      <a:pt x="106" y="2071"/>
                    </a:lnTo>
                    <a:lnTo>
                      <a:pt x="92" y="2059"/>
                    </a:lnTo>
                    <a:lnTo>
                      <a:pt x="89" y="2045"/>
                    </a:lnTo>
                    <a:lnTo>
                      <a:pt x="92" y="2033"/>
                    </a:lnTo>
                    <a:lnTo>
                      <a:pt x="111" y="2009"/>
                    </a:lnTo>
                    <a:lnTo>
                      <a:pt x="138" y="1984"/>
                    </a:lnTo>
                    <a:lnTo>
                      <a:pt x="162" y="1966"/>
                    </a:lnTo>
                    <a:lnTo>
                      <a:pt x="196" y="1965"/>
                    </a:lnTo>
                    <a:lnTo>
                      <a:pt x="225" y="1967"/>
                    </a:lnTo>
                    <a:lnTo>
                      <a:pt x="356" y="1881"/>
                    </a:lnTo>
                    <a:lnTo>
                      <a:pt x="455" y="1817"/>
                    </a:lnTo>
                    <a:lnTo>
                      <a:pt x="544" y="1764"/>
                    </a:lnTo>
                    <a:lnTo>
                      <a:pt x="515" y="1769"/>
                    </a:lnTo>
                    <a:lnTo>
                      <a:pt x="428" y="1744"/>
                    </a:lnTo>
                    <a:lnTo>
                      <a:pt x="340" y="1738"/>
                    </a:lnTo>
                    <a:lnTo>
                      <a:pt x="218" y="1719"/>
                    </a:lnTo>
                    <a:lnTo>
                      <a:pt x="180" y="1726"/>
                    </a:lnTo>
                    <a:lnTo>
                      <a:pt x="91" y="1715"/>
                    </a:lnTo>
                    <a:lnTo>
                      <a:pt x="70" y="1711"/>
                    </a:lnTo>
                    <a:lnTo>
                      <a:pt x="49" y="1702"/>
                    </a:lnTo>
                    <a:lnTo>
                      <a:pt x="32" y="1692"/>
                    </a:lnTo>
                    <a:lnTo>
                      <a:pt x="21" y="1679"/>
                    </a:lnTo>
                    <a:lnTo>
                      <a:pt x="12" y="1656"/>
                    </a:lnTo>
                    <a:lnTo>
                      <a:pt x="5" y="1625"/>
                    </a:lnTo>
                    <a:lnTo>
                      <a:pt x="1" y="1596"/>
                    </a:lnTo>
                    <a:lnTo>
                      <a:pt x="0" y="1557"/>
                    </a:lnTo>
                    <a:lnTo>
                      <a:pt x="2" y="1525"/>
                    </a:lnTo>
                    <a:lnTo>
                      <a:pt x="6" y="1489"/>
                    </a:lnTo>
                    <a:lnTo>
                      <a:pt x="11" y="1458"/>
                    </a:lnTo>
                    <a:lnTo>
                      <a:pt x="20" y="1434"/>
                    </a:lnTo>
                    <a:lnTo>
                      <a:pt x="51" y="1342"/>
                    </a:lnTo>
                    <a:lnTo>
                      <a:pt x="86" y="1231"/>
                    </a:lnTo>
                    <a:lnTo>
                      <a:pt x="111" y="1157"/>
                    </a:lnTo>
                    <a:lnTo>
                      <a:pt x="175" y="1033"/>
                    </a:lnTo>
                    <a:lnTo>
                      <a:pt x="240" y="935"/>
                    </a:lnTo>
                    <a:lnTo>
                      <a:pt x="295" y="861"/>
                    </a:lnTo>
                    <a:lnTo>
                      <a:pt x="331" y="812"/>
                    </a:lnTo>
                    <a:lnTo>
                      <a:pt x="357" y="768"/>
                    </a:lnTo>
                    <a:lnTo>
                      <a:pt x="388" y="730"/>
                    </a:lnTo>
                    <a:lnTo>
                      <a:pt x="395" y="673"/>
                    </a:lnTo>
                    <a:lnTo>
                      <a:pt x="426" y="597"/>
                    </a:lnTo>
                    <a:lnTo>
                      <a:pt x="447" y="530"/>
                    </a:lnTo>
                    <a:close/>
                  </a:path>
                </a:pathLst>
              </a:custGeom>
              <a:solidFill>
                <a:srgbClr val="dfd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139760" y="5002200"/>
                <a:ext cx="66600" cy="88920"/>
                <a:chOff x="1139760" y="5002200"/>
                <a:chExt cx="66600" cy="889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139760" y="5002200"/>
                  <a:ext cx="66600" cy="33480"/>
                </a:xfrm>
                <a:custGeom>
                  <a:avLst/>
                  <a:gdLst/>
                  <a:ahLst/>
                  <a:rect l="l" t="t" r="r" b="b"/>
                  <a:pathLst>
                    <a:path w="167" h="81">
                      <a:moveTo>
                        <a:pt x="0" y="27"/>
                      </a:moveTo>
                      <a:lnTo>
                        <a:pt x="20" y="17"/>
                      </a:lnTo>
                      <a:lnTo>
                        <a:pt x="41" y="9"/>
                      </a:lnTo>
                      <a:lnTo>
                        <a:pt x="57" y="4"/>
                      </a:lnTo>
                      <a:lnTo>
                        <a:pt x="73" y="2"/>
                      </a:lnTo>
                      <a:lnTo>
                        <a:pt x="87" y="0"/>
                      </a:lnTo>
                      <a:lnTo>
                        <a:pt x="100" y="4"/>
                      </a:lnTo>
                      <a:lnTo>
                        <a:pt x="106" y="12"/>
                      </a:lnTo>
                      <a:lnTo>
                        <a:pt x="113" y="25"/>
                      </a:lnTo>
                      <a:lnTo>
                        <a:pt x="122" y="38"/>
                      </a:lnTo>
                      <a:lnTo>
                        <a:pt x="131" y="54"/>
                      </a:lnTo>
                      <a:lnTo>
                        <a:pt x="138" y="66"/>
                      </a:lnTo>
                      <a:lnTo>
                        <a:pt x="150" y="77"/>
                      </a:lnTo>
                      <a:lnTo>
                        <a:pt x="167" y="81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184040" y="5038560"/>
                  <a:ext cx="20880" cy="52560"/>
                </a:xfrm>
                <a:custGeom>
                  <a:avLst/>
                  <a:gdLst/>
                  <a:ahLst/>
                  <a:rect l="l" t="t" r="r" b="b"/>
                  <a:pathLst>
                    <a:path w="53" h="133">
                      <a:moveTo>
                        <a:pt x="47" y="0"/>
                      </a:moveTo>
                      <a:lnTo>
                        <a:pt x="36" y="7"/>
                      </a:lnTo>
                      <a:lnTo>
                        <a:pt x="25" y="20"/>
                      </a:lnTo>
                      <a:lnTo>
                        <a:pt x="15" y="36"/>
                      </a:lnTo>
                      <a:lnTo>
                        <a:pt x="7" y="53"/>
                      </a:lnTo>
                      <a:lnTo>
                        <a:pt x="3" y="69"/>
                      </a:lnTo>
                      <a:lnTo>
                        <a:pt x="0" y="87"/>
                      </a:lnTo>
                      <a:lnTo>
                        <a:pt x="0" y="104"/>
                      </a:lnTo>
                      <a:lnTo>
                        <a:pt x="4" y="123"/>
                      </a:lnTo>
                      <a:lnTo>
                        <a:pt x="7" y="133"/>
                      </a:lnTo>
                      <a:lnTo>
                        <a:pt x="17" y="124"/>
                      </a:lnTo>
                      <a:lnTo>
                        <a:pt x="24" y="115"/>
                      </a:lnTo>
                      <a:lnTo>
                        <a:pt x="32" y="103"/>
                      </a:lnTo>
                      <a:lnTo>
                        <a:pt x="38" y="92"/>
                      </a:lnTo>
                      <a:lnTo>
                        <a:pt x="44" y="78"/>
                      </a:lnTo>
                      <a:lnTo>
                        <a:pt x="48" y="63"/>
                      </a:lnTo>
                      <a:lnTo>
                        <a:pt x="52" y="44"/>
                      </a:lnTo>
                      <a:lnTo>
                        <a:pt x="53" y="30"/>
                      </a:lnTo>
                      <a:lnTo>
                        <a:pt x="50" y="13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460080" cy="990720"/>
          </a:xfrm>
          <a:prstGeom prst="rect">
            <a:avLst/>
          </a:prstGeom>
          <a:ln w="0">
            <a:noFill/>
          </a:ln>
        </p:spPr>
      </p:pic>
      <p:cxnSp>
        <p:nvCxnSpPr>
          <p:cNvPr id="123" name=""/>
          <p:cNvCxnSpPr>
            <a:stCxn id="51" idx="3"/>
            <a:endCxn id="95" idx="1"/>
          </p:cNvCxnSpPr>
          <p:nvPr/>
        </p:nvCxnSpPr>
        <p:spPr>
          <a:xfrm>
            <a:off x="2895480" y="4724280"/>
            <a:ext cx="198216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24080" y="4267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query</a:t>
            </a:r>
            <a:br>
              <a:rPr sz="1200"/>
            </a:b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resp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048120"/>
            <a:ext cx="4819680" cy="2876400"/>
          </a:xfrm>
          <a:custGeom>
            <a:avLst/>
            <a:gdLst/>
            <a:ahLst/>
            <a:rect l="l" t="t" r="r" b="b"/>
            <a:pathLst>
              <a:path w="3036" h="1812">
                <a:moveTo>
                  <a:pt x="0" y="1212"/>
                </a:moveTo>
                <a:lnTo>
                  <a:pt x="450" y="1812"/>
                </a:lnTo>
                <a:lnTo>
                  <a:pt x="3036" y="1812"/>
                </a:lnTo>
                <a:lnTo>
                  <a:pt x="303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819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8240" y="566748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municate, negotiate, delegate,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53" idx="1"/>
          </p:cNvCxnSpPr>
          <p:nvPr/>
        </p:nvCxnSpPr>
        <p:spPr>
          <a:xfrm flipH="1" flipV="1" rot="10800000">
            <a:off x="6400440" y="2209320"/>
            <a:ext cx="108720" cy="1821600"/>
          </a:xfrm>
          <a:prstGeom prst="bentConnector4">
            <a:avLst>
              <a:gd name="adj1" fmla="val -211627"/>
              <a:gd name="adj2" fmla="val 7305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Approache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5000" y="1447560"/>
            <a:ext cx="81597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y existing standards approaches are essentially bottom-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standard, generic technologies and allow the market to hap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odel is often very successful, e.g. http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ial objectives of agent standards activities are to fix basic technological platform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messaging, mobility, identification and naming, addr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reasonably tractable, but do they agents m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ndardising at the knowledge level is much more diffic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ly not tackled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cessary to realise the agent systems vi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 fact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 j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61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ut to create a standar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or standardise on using a widely accepte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595080"/>
            <a:ext cx="730908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Current activitie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5000" y="1294920"/>
            <a:ext cx="815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ndards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PA Knowledge Sharing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Knowledge Querying and Manipulation Language (KQML) - an inter-agent messaging language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Knowledge Interchange Format (KIF) - a knowledge representation formalism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Ontolingua - a tool for defining ontologies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 Management Group (OMG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Mobile Agent Facility proposal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ts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encourages standards activities but not developing its own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hnology initiatives -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 fact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tandard candidat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traffic on the software-agents mailing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IBM </a:t>
            </a: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       A</a:t>
            </a:r>
            <a:r>
              <a:rPr b="0" i="1" lang="en-GB" sz="1600" spc="-1" strike="noStrike">
                <a:solidFill>
                  <a:srgbClr val="0066ff"/>
                </a:solidFill>
                <a:latin typeface="Arial"/>
              </a:rPr>
              <a:t>glets    </a:t>
            </a: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mobile agents in Java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Univ. Stuttgart IPVR   </a:t>
            </a:r>
            <a:r>
              <a:rPr b="0" i="1" lang="en-GB" sz="1600" spc="-1" strike="noStrike">
                <a:solidFill>
                  <a:srgbClr val="0066ff"/>
                </a:solidFill>
                <a:latin typeface="Arial"/>
              </a:rPr>
              <a:t>MOLE    </a:t>
            </a: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mobile agents in Java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Stanford Univ. CDR    </a:t>
            </a:r>
            <a:r>
              <a:rPr b="0" i="1" lang="en-GB" sz="1600" spc="-1" strike="noStrike">
                <a:solidFill>
                  <a:srgbClr val="0066ff"/>
                </a:solidFill>
                <a:latin typeface="Arial"/>
              </a:rPr>
              <a:t>JatLite   </a:t>
            </a: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mobile agents in Java, KQML messaging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12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FIPA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02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undation for Intelligent Physical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rted in December 199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itment to develop and publish international standards for agents, covering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xternal behaviou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generic technolog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components of ag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ablished as a not-for-profit organisation registered in Switzerl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ly 35 member organisations from 11 countries, with additional input from academic fell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s include: IBM, Siemens, Hitachi, Lucent, CSELT, France Télécom, BT, Toshiba, NTT, Alcatel, Motorola, NHK, HP, plus many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s produced by meetings are made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and review invited from the agent community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ibutors are invited to attend meetings even if not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standard, FIPA 97, published in draft form at the Munich meeting in October 199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8159760" cy="43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19191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gent Standardi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Rationale, objective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19191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191"/>
                </a:solidFill>
                <a:latin typeface="Arial"/>
              </a:rPr>
              <a:t>FI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c0128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 FIPA 97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c0128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Key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c0128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c0128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ferenc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19191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Open issues and future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19191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7880" y="595440"/>
            <a:ext cx="730908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FIPA 97: Key Objectives</a:t>
            </a:r>
            <a:endParaRPr b="1" i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912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standard re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as a starting point, a basis for further refinement in future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basic agent intera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gent-agent communication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basic agent platform services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gent interactions with non-agent software resources</a:t>
            </a:r>
            <a:endParaRPr b="0" lang="en-US" sz="16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da defined by submissions and members’ inte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ckle straightforward, tractable problems, in well-defined time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vitably some key needs are not addressed in this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context through reference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external behaviour is specif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rs retain design and implementation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s can be differentiated through quality, size, robustnes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9:37:07Z</dcterms:created>
  <dc:creator>Ian J. Dickinson</dc:creator>
  <dc:description>Authorised by HP Labs for external use</dc:description>
  <cp:keywords>FIPA Software Agents Standards</cp:keywords>
  <dc:language>en-US</dc:language>
  <cp:lastModifiedBy>Ian Dickinson</cp:lastModifiedBy>
  <cp:lastPrinted>1997-11-10T22:36:51Z</cp:lastPrinted>
  <dcterms:modified xsi:type="dcterms:W3CDTF">1997-12-07T22:47:14Z</dcterms:modified>
  <cp:revision>32</cp:revision>
  <dc:subject/>
  <dc:title>Agent Standards</dc:title>
</cp:coreProperties>
</file>