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19B936-8C56-469C-B734-23D857521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chnical work in FIPA is organized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echnical committees which develop, mainly select by issuing Calls for Proposals, basic tools and technolog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pplication committes which verify these technologies versus specific ap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al Interest Group for Standardization Activities related to FIPA has been also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0a1919"/>
              </a:gs>
            </a:gsLst>
            <a:path path="rect">
              <a:fillToRect l="100000" t="0" r="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  <a:ea typeface="Arial"/>
              </a:rPr>
              <a:t>F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Arial"/>
              </a:rPr>
              <a:t>oundation  for</a:t>
            </a:r>
            <a:br>
              <a:rPr sz="3600"/>
            </a:br>
            <a:r>
              <a:rPr b="1" lang="en-US" sz="4000" spc="-1" strike="noStrike">
                <a:solidFill>
                  <a:srgbClr val="ffff66"/>
                </a:solidFill>
                <a:latin typeface="Arial"/>
                <a:ea typeface="Arial"/>
              </a:rPr>
              <a:t>I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Arial"/>
              </a:rPr>
              <a:t>ntelligent</a:t>
            </a:r>
            <a:br>
              <a:rPr sz="3600"/>
            </a:br>
            <a:r>
              <a:rPr b="1" lang="en-US" sz="4000" spc="-1" strike="noStrike">
                <a:solidFill>
                  <a:srgbClr val="ffff66"/>
                </a:solidFill>
                <a:latin typeface="Arial"/>
                <a:ea typeface="Arial"/>
              </a:rPr>
              <a:t>P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Arial"/>
              </a:rPr>
              <a:t>hysical</a:t>
            </a:r>
            <a:br>
              <a:rPr sz="3600"/>
            </a:br>
            <a:r>
              <a:rPr b="1" lang="en-US" sz="4000" spc="-1" strike="noStrike">
                <a:solidFill>
                  <a:srgbClr val="ffff66"/>
                </a:solidFill>
                <a:latin typeface="Arial"/>
                <a:ea typeface="Arial"/>
              </a:rPr>
              <a:t>A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Arial"/>
              </a:rPr>
              <a:t>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Organisation of Technical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106640" y="1143000"/>
            <a:ext cx="721188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Arial"/>
              </a:rPr>
              <a:t>FIPA ‘97 Techn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Agen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Agent Communicati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Agent Softwar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Ag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Agent Life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Provision of “White” and “Yellow Pages” through directory facilit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Multiple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Agent Descriptio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Special interaction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1600200"/>
            <a:ext cx="7772400" cy="7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Agent Management </a:t>
            </a:r>
            <a:br>
              <a:rPr sz="3600"/>
            </a:b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Referenc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85800" y="2011320"/>
            <a:ext cx="775332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Agent Communication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Basic set of communicative acts: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inform, inform_ref, request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Extended set of composite acts: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bid, accept-offer, inform-if, query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Set of typical interaction protocols: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contract net, auction, nego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Formal semantics defined at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informative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" y="1828800"/>
            <a:ext cx="7772400" cy="7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Arial"/>
              </a:rPr>
              <a:t>Agent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52280" y="3200400"/>
            <a:ext cx="6248520" cy="1981080"/>
            <a:chOff x="152280" y="3200400"/>
            <a:chExt cx="6248520" cy="1981080"/>
          </a:xfrm>
        </p:grpSpPr>
        <p:sp>
          <p:nvSpPr>
            <p:cNvPr id="407" name=""/>
            <p:cNvSpPr/>
            <p:nvPr/>
          </p:nvSpPr>
          <p:spPr>
            <a:xfrm>
              <a:off x="685800" y="4603680"/>
              <a:ext cx="3962520" cy="57780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2280" y="3200400"/>
              <a:ext cx="6248520" cy="641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Forms of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Memory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Implicit via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Explicit via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Transport layer (TCP/IP, SMTP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Messag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1600200"/>
            <a:ext cx="7772400" cy="7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Formed from analysis of human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Categorised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commi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interrogative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e.g. KQML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(Illocutionary) Speech 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127160" y="2665440"/>
            <a:ext cx="7328160" cy="2578320"/>
            <a:chOff x="1127160" y="2665440"/>
            <a:chExt cx="7328160" cy="2578320"/>
          </a:xfrm>
        </p:grpSpPr>
        <p:sp>
          <p:nvSpPr>
            <p:cNvPr id="417" name=""/>
            <p:cNvSpPr txBox="1"/>
            <p:nvPr/>
          </p:nvSpPr>
          <p:spPr>
            <a:xfrm>
              <a:off x="1127160" y="2665440"/>
              <a:ext cx="343548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cc0000"/>
                  </a:solidFill>
                  <a:latin typeface="Arial"/>
                  <a:ea typeface="Arial"/>
                </a:rPr>
                <a:t>NOT ENOUGH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3260880" y="3443400"/>
              <a:ext cx="519444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ll =? assert =? inform =? ...</a:t>
              </a:r>
              <a:br>
                <a:rPr sz="2800"/>
              </a:br>
              <a:r>
                <a:rPr b="1" lang="en-US" sz="2800" spc="-1" strike="noStrike">
                  <a:solidFill>
                    <a:srgbClr val="cc0000"/>
                  </a:solidFill>
                  <a:latin typeface="Arial"/>
                  <a:ea typeface="Arial"/>
                </a:rPr>
                <a:t>query =? request =? ask =? .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  <a:ea typeface="Arial"/>
                </a:rPr>
                <a:t>content importa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685800" y="1600200"/>
            <a:ext cx="7772400" cy="7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Communicative Acts with</a:t>
            </a:r>
            <a:br>
              <a:rPr sz="3600"/>
            </a:b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Formal Semant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Speech act + content with well-defined semantics based on internal state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e.g. inform(belief), request(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Basic set of acts extended by composition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e.g. query = request(info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e.g. AR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563840" y="2668680"/>
            <a:ext cx="6673680" cy="2300040"/>
            <a:chOff x="1563840" y="2668680"/>
            <a:chExt cx="6673680" cy="2300040"/>
          </a:xfrm>
        </p:grpSpPr>
        <p:sp>
          <p:nvSpPr>
            <p:cNvPr id="425" name=""/>
            <p:cNvSpPr txBox="1"/>
            <p:nvPr/>
          </p:nvSpPr>
          <p:spPr>
            <a:xfrm>
              <a:off x="1563840" y="2668680"/>
              <a:ext cx="295272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cc0000"/>
                  </a:solidFill>
                  <a:latin typeface="Arial"/>
                  <a:ea typeface="Arial"/>
                </a:rPr>
                <a:t>TOO MUCH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3489480" y="3595680"/>
              <a:ext cx="4748040" cy="137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  <a:ea typeface="Arial"/>
                </a:rPr>
                <a:t>Good for highly intellig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  <a:ea typeface="Arial"/>
                </a:rPr>
                <a:t>agents, but hard for simp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  <a:ea typeface="Arial"/>
                </a:rPr>
                <a:t>agents to follo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685800" y="1828800"/>
            <a:ext cx="7772400" cy="7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1600200"/>
            <a:ext cx="7772400" cy="7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Dialog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Pre-defined scripts involving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both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 parties in a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AgentTalk, 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295280" y="2289240"/>
            <a:ext cx="4603680" cy="1825560"/>
            <a:chOff x="1295280" y="2289240"/>
            <a:chExt cx="4603680" cy="1825560"/>
          </a:xfrm>
        </p:grpSpPr>
        <p:sp>
          <p:nvSpPr>
            <p:cNvPr id="434" name=""/>
            <p:cNvSpPr txBox="1"/>
            <p:nvPr/>
          </p:nvSpPr>
          <p:spPr>
            <a:xfrm>
              <a:off x="1295280" y="2289240"/>
              <a:ext cx="460368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cc0000"/>
                  </a:solidFill>
                  <a:latin typeface="Arial"/>
                  <a:ea typeface="Arial"/>
                </a:rPr>
                <a:t>TOO RESTRICTIVE 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3184560" y="3595680"/>
              <a:ext cx="231768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  <a:ea typeface="Arial"/>
                </a:rPr>
                <a:t>Not dynam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About FI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FIPA is an international non-profit association of companies which agree to share efforts to produce specifications of generic ag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in a timely fash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internationally agr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usable across a large number of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so that a high level of interoperability across applications is achie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Interaction Protoc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Well-structured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shared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 plans including communicative acts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e.g. monitor =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request(loop (if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&lt;trigger&gt;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 then inform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Can be stored in plan libraries, but also established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461960" y="2746440"/>
            <a:ext cx="5583240" cy="1795320"/>
            <a:chOff x="1461960" y="2746440"/>
            <a:chExt cx="5583240" cy="1795320"/>
          </a:xfrm>
        </p:grpSpPr>
        <p:sp>
          <p:nvSpPr>
            <p:cNvPr id="441" name=""/>
            <p:cNvSpPr txBox="1"/>
            <p:nvPr/>
          </p:nvSpPr>
          <p:spPr>
            <a:xfrm>
              <a:off x="1461960" y="2746440"/>
              <a:ext cx="318132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cc0000"/>
                  </a:solidFill>
                  <a:latin typeface="Arial"/>
                  <a:ea typeface="Arial"/>
                </a:rPr>
                <a:t>JUST RIGHT 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3184560" y="3595680"/>
              <a:ext cx="3860640" cy="9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  <a:ea typeface="Arial"/>
                </a:rPr>
                <a:t>Guide interaction,</a:t>
              </a:r>
              <a:br>
                <a:rPr sz="2800"/>
              </a:br>
              <a:r>
                <a:rPr b="1" lang="en-US" sz="2800" spc="-1" strike="noStrike">
                  <a:solidFill>
                    <a:srgbClr val="cc0000"/>
                  </a:solidFill>
                  <a:latin typeface="Arial"/>
                  <a:ea typeface="Arial"/>
                </a:rPr>
                <a:t>simple, yet extensi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85800" y="1600200"/>
            <a:ext cx="7772400" cy="7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20960" y="622440"/>
            <a:ext cx="0" cy="61243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1927080" y="938160"/>
            <a:ext cx="5334480" cy="736920"/>
            <a:chOff x="1927080" y="938160"/>
            <a:chExt cx="5334480" cy="736920"/>
          </a:xfrm>
        </p:grpSpPr>
        <p:sp>
          <p:nvSpPr>
            <p:cNvPr id="447" name=""/>
            <p:cNvSpPr/>
            <p:nvPr/>
          </p:nvSpPr>
          <p:spPr>
            <a:xfrm>
              <a:off x="5965920" y="938160"/>
              <a:ext cx="1295640" cy="736920"/>
            </a:xfrm>
            <a:custGeom>
              <a:avLst/>
              <a:gdLst/>
              <a:ahLst/>
              <a:rect l="0" t="0" r="r" b="b"/>
              <a:pathLst>
                <a:path w="3599" h="2047">
                  <a:moveTo>
                    <a:pt x="0" y="681"/>
                  </a:moveTo>
                  <a:lnTo>
                    <a:pt x="0" y="1363"/>
                  </a:lnTo>
                  <a:lnTo>
                    <a:pt x="2519" y="1363"/>
                  </a:lnTo>
                  <a:lnTo>
                    <a:pt x="2519" y="2047"/>
                  </a:lnTo>
                  <a:lnTo>
                    <a:pt x="3599" y="1024"/>
                  </a:lnTo>
                  <a:lnTo>
                    <a:pt x="2519" y="0"/>
                  </a:lnTo>
                  <a:lnTo>
                    <a:pt x="2519" y="681"/>
                  </a:lnTo>
                  <a:lnTo>
                    <a:pt x="0" y="68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1927080" y="1123920"/>
              <a:ext cx="4549680" cy="3650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pose(pla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6477120" y="1130400"/>
              <a:ext cx="0" cy="358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 txBox="1"/>
          <p:nvPr/>
        </p:nvSpPr>
        <p:spPr>
          <a:xfrm>
            <a:off x="1927080" y="625320"/>
            <a:ext cx="1940040" cy="3715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pare_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927080" y="3768840"/>
            <a:ext cx="1587600" cy="3715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val_b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27080" y="5921280"/>
            <a:ext cx="5334120" cy="736920"/>
            <a:chOff x="1927080" y="5921280"/>
            <a:chExt cx="5334120" cy="736920"/>
          </a:xfrm>
        </p:grpSpPr>
        <p:sp>
          <p:nvSpPr>
            <p:cNvPr id="453" name=""/>
            <p:cNvSpPr/>
            <p:nvPr/>
          </p:nvSpPr>
          <p:spPr>
            <a:xfrm>
              <a:off x="1927080" y="5921280"/>
              <a:ext cx="1295640" cy="736920"/>
            </a:xfrm>
            <a:custGeom>
              <a:avLst/>
              <a:gdLst/>
              <a:ahLst/>
              <a:rect l="0" t="0" r="r" b="b"/>
              <a:pathLst>
                <a:path w="3599" h="2047">
                  <a:moveTo>
                    <a:pt x="0" y="681"/>
                  </a:moveTo>
                  <a:lnTo>
                    <a:pt x="0" y="1363"/>
                  </a:lnTo>
                  <a:lnTo>
                    <a:pt x="2519" y="1363"/>
                  </a:lnTo>
                  <a:lnTo>
                    <a:pt x="2519" y="2047"/>
                  </a:lnTo>
                  <a:lnTo>
                    <a:pt x="3599" y="1024"/>
                  </a:lnTo>
                  <a:lnTo>
                    <a:pt x="2519" y="0"/>
                  </a:lnTo>
                  <a:lnTo>
                    <a:pt x="2519" y="681"/>
                  </a:lnTo>
                  <a:lnTo>
                    <a:pt x="0" y="68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2711520" y="6089760"/>
              <a:ext cx="4549680" cy="382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form(resul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2711520" y="6113520"/>
              <a:ext cx="0" cy="358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 flipH="1">
            <a:off x="7267680" y="876240"/>
            <a:ext cx="3240" cy="5929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09720" y="95580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832040" y="618480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175520" y="620712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116000" y="852480"/>
            <a:ext cx="649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27080" y="1959120"/>
            <a:ext cx="1295640" cy="736920"/>
          </a:xfrm>
          <a:custGeom>
            <a:avLst/>
            <a:gdLst/>
            <a:ahLst/>
            <a:rect l="0" t="0" r="r" b="b"/>
            <a:pathLst>
              <a:path w="3599" h="2047">
                <a:moveTo>
                  <a:pt x="0" y="681"/>
                </a:moveTo>
                <a:lnTo>
                  <a:pt x="0" y="1363"/>
                </a:lnTo>
                <a:lnTo>
                  <a:pt x="2519" y="1363"/>
                </a:lnTo>
                <a:lnTo>
                  <a:pt x="2519" y="2047"/>
                </a:lnTo>
                <a:lnTo>
                  <a:pt x="3599" y="1024"/>
                </a:lnTo>
                <a:lnTo>
                  <a:pt x="2519" y="0"/>
                </a:lnTo>
                <a:lnTo>
                  <a:pt x="2519" y="681"/>
                </a:lnTo>
                <a:lnTo>
                  <a:pt x="0" y="68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2711520" y="2127240"/>
            <a:ext cx="4549680" cy="3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fine(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711520" y="215100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803240" y="250524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59680" y="250524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522360" y="2401920"/>
            <a:ext cx="12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927080" y="4054320"/>
            <a:ext cx="5334480" cy="736920"/>
            <a:chOff x="1927080" y="4054320"/>
            <a:chExt cx="5334480" cy="736920"/>
          </a:xfrm>
        </p:grpSpPr>
        <p:sp>
          <p:nvSpPr>
            <p:cNvPr id="468" name=""/>
            <p:cNvSpPr/>
            <p:nvPr/>
          </p:nvSpPr>
          <p:spPr>
            <a:xfrm>
              <a:off x="5965920" y="4054320"/>
              <a:ext cx="1295640" cy="736920"/>
            </a:xfrm>
            <a:custGeom>
              <a:avLst/>
              <a:gdLst/>
              <a:ahLst/>
              <a:rect l="0" t="0" r="r" b="b"/>
              <a:pathLst>
                <a:path w="3599" h="2047">
                  <a:moveTo>
                    <a:pt x="0" y="681"/>
                  </a:moveTo>
                  <a:lnTo>
                    <a:pt x="0" y="1363"/>
                  </a:lnTo>
                  <a:lnTo>
                    <a:pt x="2519" y="1363"/>
                  </a:lnTo>
                  <a:lnTo>
                    <a:pt x="2519" y="2047"/>
                  </a:lnTo>
                  <a:lnTo>
                    <a:pt x="3599" y="1024"/>
                  </a:lnTo>
                  <a:lnTo>
                    <a:pt x="2519" y="0"/>
                  </a:lnTo>
                  <a:lnTo>
                    <a:pt x="2519" y="681"/>
                  </a:lnTo>
                  <a:lnTo>
                    <a:pt x="0" y="68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1927080" y="4240080"/>
              <a:ext cx="4549680" cy="3650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cept/reject(pla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6477120" y="4246560"/>
              <a:ext cx="0" cy="358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1828800" y="432756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165800" y="432756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84320" y="4224240"/>
            <a:ext cx="1581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927080" y="5013360"/>
            <a:ext cx="5334480" cy="736920"/>
            <a:chOff x="1927080" y="5013360"/>
            <a:chExt cx="5334480" cy="736920"/>
          </a:xfrm>
        </p:grpSpPr>
        <p:sp>
          <p:nvSpPr>
            <p:cNvPr id="475" name=""/>
            <p:cNvSpPr/>
            <p:nvPr/>
          </p:nvSpPr>
          <p:spPr>
            <a:xfrm>
              <a:off x="5965920" y="5013360"/>
              <a:ext cx="1295640" cy="736920"/>
            </a:xfrm>
            <a:custGeom>
              <a:avLst/>
              <a:gdLst/>
              <a:ahLst/>
              <a:rect l="0" t="0" r="r" b="b"/>
              <a:pathLst>
                <a:path w="3599" h="2047">
                  <a:moveTo>
                    <a:pt x="0" y="681"/>
                  </a:moveTo>
                  <a:lnTo>
                    <a:pt x="0" y="1363"/>
                  </a:lnTo>
                  <a:lnTo>
                    <a:pt x="2519" y="1363"/>
                  </a:lnTo>
                  <a:lnTo>
                    <a:pt x="2519" y="2047"/>
                  </a:lnTo>
                  <a:lnTo>
                    <a:pt x="3599" y="1024"/>
                  </a:lnTo>
                  <a:lnTo>
                    <a:pt x="2519" y="0"/>
                  </a:lnTo>
                  <a:lnTo>
                    <a:pt x="2519" y="681"/>
                  </a:lnTo>
                  <a:lnTo>
                    <a:pt x="0" y="68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1927080" y="5199120"/>
              <a:ext cx="4549680" cy="3650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der(task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6477120" y="5205240"/>
              <a:ext cx="0" cy="358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822320" y="528624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159680" y="528624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001880" y="5183280"/>
            <a:ext cx="763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804960" y="6081840"/>
            <a:ext cx="960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21160" y="5670720"/>
            <a:ext cx="1940040" cy="3715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ec_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5321160" y="4708440"/>
            <a:ext cx="1940040" cy="3715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val_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5321160" y="1600200"/>
            <a:ext cx="1940040" cy="3715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pare_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8105760" y="95400"/>
            <a:ext cx="633240" cy="67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Cont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ract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241280" y="139680"/>
            <a:ext cx="143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188040" y="117360"/>
            <a:ext cx="1741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dders /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927080" y="1959120"/>
            <a:ext cx="5334120" cy="736920"/>
            <a:chOff x="1927080" y="1959120"/>
            <a:chExt cx="5334120" cy="736920"/>
          </a:xfrm>
        </p:grpSpPr>
        <p:sp>
          <p:nvSpPr>
            <p:cNvPr id="490" name=""/>
            <p:cNvSpPr/>
            <p:nvPr/>
          </p:nvSpPr>
          <p:spPr>
            <a:xfrm>
              <a:off x="1927080" y="1959120"/>
              <a:ext cx="1295640" cy="736920"/>
            </a:xfrm>
            <a:custGeom>
              <a:avLst/>
              <a:gdLst/>
              <a:ahLst/>
              <a:rect l="0" t="0" r="r" b="b"/>
              <a:pathLst>
                <a:path w="3599" h="2047">
                  <a:moveTo>
                    <a:pt x="0" y="681"/>
                  </a:moveTo>
                  <a:lnTo>
                    <a:pt x="0" y="1363"/>
                  </a:lnTo>
                  <a:lnTo>
                    <a:pt x="2519" y="1363"/>
                  </a:lnTo>
                  <a:lnTo>
                    <a:pt x="2519" y="2047"/>
                  </a:lnTo>
                  <a:lnTo>
                    <a:pt x="3599" y="1024"/>
                  </a:lnTo>
                  <a:lnTo>
                    <a:pt x="2519" y="0"/>
                  </a:lnTo>
                  <a:lnTo>
                    <a:pt x="2519" y="681"/>
                  </a:lnTo>
                  <a:lnTo>
                    <a:pt x="0" y="68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2711520" y="2127240"/>
              <a:ext cx="4549680" cy="382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fine(pla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711520" y="2151000"/>
              <a:ext cx="0" cy="358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7358040" y="1336680"/>
            <a:ext cx="1044720" cy="1060560"/>
            <a:chOff x="7358040" y="1336680"/>
            <a:chExt cx="1044720" cy="1060560"/>
          </a:xfrm>
        </p:grpSpPr>
        <p:sp>
          <p:nvSpPr>
            <p:cNvPr id="494" name=""/>
            <p:cNvSpPr/>
            <p:nvPr/>
          </p:nvSpPr>
          <p:spPr>
            <a:xfrm>
              <a:off x="7365960" y="1336680"/>
              <a:ext cx="0" cy="1060560"/>
            </a:xfrm>
            <a:prstGeom prst="line">
              <a:avLst/>
            </a:prstGeom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 txBox="1"/>
            <p:nvPr/>
          </p:nvSpPr>
          <p:spPr>
            <a:xfrm>
              <a:off x="7358040" y="1633680"/>
              <a:ext cx="10447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Arial"/>
                </a:rPr>
                <a:t>Busy 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1920960" y="622440"/>
            <a:ext cx="0" cy="61243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927080" y="938160"/>
            <a:ext cx="5334480" cy="736920"/>
            <a:chOff x="1927080" y="938160"/>
            <a:chExt cx="5334480" cy="736920"/>
          </a:xfrm>
        </p:grpSpPr>
        <p:sp>
          <p:nvSpPr>
            <p:cNvPr id="498" name=""/>
            <p:cNvSpPr/>
            <p:nvPr/>
          </p:nvSpPr>
          <p:spPr>
            <a:xfrm>
              <a:off x="5965920" y="938160"/>
              <a:ext cx="1295640" cy="736920"/>
            </a:xfrm>
            <a:custGeom>
              <a:avLst/>
              <a:gdLst/>
              <a:ahLst/>
              <a:rect l="0" t="0" r="r" b="b"/>
              <a:pathLst>
                <a:path w="3599" h="2047">
                  <a:moveTo>
                    <a:pt x="0" y="681"/>
                  </a:moveTo>
                  <a:lnTo>
                    <a:pt x="0" y="1363"/>
                  </a:lnTo>
                  <a:lnTo>
                    <a:pt x="2519" y="1363"/>
                  </a:lnTo>
                  <a:lnTo>
                    <a:pt x="2519" y="2047"/>
                  </a:lnTo>
                  <a:lnTo>
                    <a:pt x="3599" y="1024"/>
                  </a:lnTo>
                  <a:lnTo>
                    <a:pt x="2519" y="0"/>
                  </a:lnTo>
                  <a:lnTo>
                    <a:pt x="2519" y="681"/>
                  </a:lnTo>
                  <a:lnTo>
                    <a:pt x="0" y="68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 txBox="1"/>
            <p:nvPr/>
          </p:nvSpPr>
          <p:spPr>
            <a:xfrm>
              <a:off x="1927080" y="1123920"/>
              <a:ext cx="4549680" cy="3650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pose(pla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6477120" y="1130400"/>
              <a:ext cx="0" cy="358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 txBox="1"/>
          <p:nvPr/>
        </p:nvSpPr>
        <p:spPr>
          <a:xfrm>
            <a:off x="1927080" y="625320"/>
            <a:ext cx="1940040" cy="3715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pare_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927080" y="3794040"/>
            <a:ext cx="1587600" cy="3715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val_b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927080" y="5921280"/>
            <a:ext cx="5334120" cy="736920"/>
            <a:chOff x="1927080" y="5921280"/>
            <a:chExt cx="5334120" cy="736920"/>
          </a:xfrm>
        </p:grpSpPr>
        <p:sp>
          <p:nvSpPr>
            <p:cNvPr id="504" name=""/>
            <p:cNvSpPr/>
            <p:nvPr/>
          </p:nvSpPr>
          <p:spPr>
            <a:xfrm>
              <a:off x="1927080" y="5921280"/>
              <a:ext cx="1295640" cy="736920"/>
            </a:xfrm>
            <a:custGeom>
              <a:avLst/>
              <a:gdLst/>
              <a:ahLst/>
              <a:rect l="0" t="0" r="r" b="b"/>
              <a:pathLst>
                <a:path w="3599" h="2047">
                  <a:moveTo>
                    <a:pt x="0" y="681"/>
                  </a:moveTo>
                  <a:lnTo>
                    <a:pt x="0" y="1363"/>
                  </a:lnTo>
                  <a:lnTo>
                    <a:pt x="2519" y="1363"/>
                  </a:lnTo>
                  <a:lnTo>
                    <a:pt x="2519" y="2047"/>
                  </a:lnTo>
                  <a:lnTo>
                    <a:pt x="3599" y="1024"/>
                  </a:lnTo>
                  <a:lnTo>
                    <a:pt x="2519" y="0"/>
                  </a:lnTo>
                  <a:lnTo>
                    <a:pt x="2519" y="681"/>
                  </a:lnTo>
                  <a:lnTo>
                    <a:pt x="0" y="68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 txBox="1"/>
            <p:nvPr/>
          </p:nvSpPr>
          <p:spPr>
            <a:xfrm>
              <a:off x="2711520" y="6089760"/>
              <a:ext cx="4549680" cy="382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form(resul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711520" y="6113520"/>
              <a:ext cx="0" cy="358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H="1">
            <a:off x="7267680" y="876240"/>
            <a:ext cx="3240" cy="5929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809720" y="95580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832040" y="618480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175520" y="620712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116000" y="852480"/>
            <a:ext cx="649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03240" y="250524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159680" y="250524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22360" y="2401920"/>
            <a:ext cx="12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927080" y="4054320"/>
            <a:ext cx="5334480" cy="736920"/>
            <a:chOff x="1927080" y="4054320"/>
            <a:chExt cx="5334480" cy="736920"/>
          </a:xfrm>
        </p:grpSpPr>
        <p:sp>
          <p:nvSpPr>
            <p:cNvPr id="516" name=""/>
            <p:cNvSpPr/>
            <p:nvPr/>
          </p:nvSpPr>
          <p:spPr>
            <a:xfrm>
              <a:off x="5965920" y="4054320"/>
              <a:ext cx="1295640" cy="736920"/>
            </a:xfrm>
            <a:custGeom>
              <a:avLst/>
              <a:gdLst/>
              <a:ahLst/>
              <a:rect l="0" t="0" r="r" b="b"/>
              <a:pathLst>
                <a:path w="3599" h="2047">
                  <a:moveTo>
                    <a:pt x="0" y="681"/>
                  </a:moveTo>
                  <a:lnTo>
                    <a:pt x="0" y="1363"/>
                  </a:lnTo>
                  <a:lnTo>
                    <a:pt x="2519" y="1363"/>
                  </a:lnTo>
                  <a:lnTo>
                    <a:pt x="2519" y="2047"/>
                  </a:lnTo>
                  <a:lnTo>
                    <a:pt x="3599" y="1024"/>
                  </a:lnTo>
                  <a:lnTo>
                    <a:pt x="2519" y="0"/>
                  </a:lnTo>
                  <a:lnTo>
                    <a:pt x="2519" y="681"/>
                  </a:lnTo>
                  <a:lnTo>
                    <a:pt x="0" y="68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1927080" y="4240080"/>
              <a:ext cx="4549680" cy="3650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cept/reject(pla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6477120" y="4246560"/>
              <a:ext cx="0" cy="358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828800" y="432756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165800" y="432756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84320" y="4224240"/>
            <a:ext cx="1581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927080" y="5013360"/>
            <a:ext cx="5334480" cy="736920"/>
            <a:chOff x="1927080" y="5013360"/>
            <a:chExt cx="5334480" cy="736920"/>
          </a:xfrm>
        </p:grpSpPr>
        <p:sp>
          <p:nvSpPr>
            <p:cNvPr id="523" name=""/>
            <p:cNvSpPr/>
            <p:nvPr/>
          </p:nvSpPr>
          <p:spPr>
            <a:xfrm>
              <a:off x="5965920" y="5013360"/>
              <a:ext cx="1295640" cy="736920"/>
            </a:xfrm>
            <a:custGeom>
              <a:avLst/>
              <a:gdLst/>
              <a:ahLst/>
              <a:rect l="0" t="0" r="r" b="b"/>
              <a:pathLst>
                <a:path w="3599" h="2047">
                  <a:moveTo>
                    <a:pt x="0" y="681"/>
                  </a:moveTo>
                  <a:lnTo>
                    <a:pt x="0" y="1363"/>
                  </a:lnTo>
                  <a:lnTo>
                    <a:pt x="2519" y="1363"/>
                  </a:lnTo>
                  <a:lnTo>
                    <a:pt x="2519" y="2047"/>
                  </a:lnTo>
                  <a:lnTo>
                    <a:pt x="3599" y="1024"/>
                  </a:lnTo>
                  <a:lnTo>
                    <a:pt x="2519" y="0"/>
                  </a:lnTo>
                  <a:lnTo>
                    <a:pt x="2519" y="681"/>
                  </a:lnTo>
                  <a:lnTo>
                    <a:pt x="0" y="68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1927080" y="5199120"/>
              <a:ext cx="4549680" cy="3650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der(task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6477120" y="5205240"/>
              <a:ext cx="0" cy="358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1822320" y="528624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159680" y="5286240"/>
            <a:ext cx="190440" cy="190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001880" y="5183280"/>
            <a:ext cx="763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804960" y="6081840"/>
            <a:ext cx="960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5321160" y="5670720"/>
            <a:ext cx="1940040" cy="3715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ec_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321160" y="4708440"/>
            <a:ext cx="1940040" cy="3715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val_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5321160" y="1600200"/>
            <a:ext cx="1940040" cy="3715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pare_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241280" y="139680"/>
            <a:ext cx="143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188040" y="117360"/>
            <a:ext cx="1741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dders /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920960" y="1952640"/>
            <a:ext cx="6291000" cy="1609560"/>
            <a:chOff x="1920960" y="1952640"/>
            <a:chExt cx="6291000" cy="1609560"/>
          </a:xfrm>
        </p:grpSpPr>
        <p:grpSp>
          <p:nvGrpSpPr>
            <p:cNvPr id="536" name=""/>
            <p:cNvGrpSpPr/>
            <p:nvPr/>
          </p:nvGrpSpPr>
          <p:grpSpPr>
            <a:xfrm>
              <a:off x="1920960" y="1952640"/>
              <a:ext cx="5333760" cy="736920"/>
              <a:chOff x="1920960" y="1952640"/>
              <a:chExt cx="5333760" cy="736920"/>
            </a:xfrm>
          </p:grpSpPr>
          <p:sp>
            <p:nvSpPr>
              <p:cNvPr id="537" name=""/>
              <p:cNvSpPr/>
              <p:nvPr/>
            </p:nvSpPr>
            <p:spPr>
              <a:xfrm>
                <a:off x="1920960" y="1952640"/>
                <a:ext cx="1295640" cy="736920"/>
              </a:xfrm>
              <a:custGeom>
                <a:avLst/>
                <a:gdLst/>
                <a:ahLst/>
                <a:rect l="0" t="0" r="r" b="b"/>
                <a:pathLst>
                  <a:path w="3599" h="2047">
                    <a:moveTo>
                      <a:pt x="0" y="681"/>
                    </a:moveTo>
                    <a:lnTo>
                      <a:pt x="0" y="1363"/>
                    </a:lnTo>
                    <a:lnTo>
                      <a:pt x="2519" y="1363"/>
                    </a:lnTo>
                    <a:lnTo>
                      <a:pt x="2519" y="2047"/>
                    </a:lnTo>
                    <a:lnTo>
                      <a:pt x="3599" y="1024"/>
                    </a:lnTo>
                    <a:lnTo>
                      <a:pt x="2519" y="0"/>
                    </a:lnTo>
                    <a:lnTo>
                      <a:pt x="2519" y="681"/>
                    </a:lnTo>
                    <a:lnTo>
                      <a:pt x="0" y="68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 txBox="1"/>
              <p:nvPr/>
            </p:nvSpPr>
            <p:spPr>
              <a:xfrm>
                <a:off x="2705040" y="2120760"/>
                <a:ext cx="4549680" cy="382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ify(new_deadline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2705040" y="2144880"/>
                <a:ext cx="0" cy="358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7333200" y="2394000"/>
              <a:ext cx="422280" cy="1045080"/>
              <a:chOff x="7333200" y="2394000"/>
              <a:chExt cx="422280" cy="1045080"/>
            </a:xfrm>
          </p:grpSpPr>
          <p:sp>
            <p:nvSpPr>
              <p:cNvPr id="541" name=""/>
              <p:cNvSpPr/>
              <p:nvPr/>
            </p:nvSpPr>
            <p:spPr>
              <a:xfrm>
                <a:off x="7333200" y="2394000"/>
                <a:ext cx="420480" cy="562320"/>
              </a:xfrm>
              <a:custGeom>
                <a:avLst/>
                <a:gdLst/>
                <a:ahLst/>
                <a:rect l="0" t="0" r="r" b="b"/>
                <a:pathLst>
                  <a:path fill="none" w="1168" h="1562">
                    <a:moveTo>
                      <a:pt x="1168" y="1562"/>
                    </a:moveTo>
                    <a:lnTo>
                      <a:pt x="1168" y="1562"/>
                    </a:lnTo>
                    <a:lnTo>
                      <a:pt x="1168" y="1562"/>
                    </a:lnTo>
                    <a:cubicBezTo>
                      <a:pt x="1168" y="1288"/>
                      <a:pt x="1114" y="1018"/>
                      <a:pt x="1011" y="781"/>
                    </a:cubicBezTo>
                    <a:cubicBezTo>
                      <a:pt x="909" y="544"/>
                      <a:pt x="761" y="346"/>
                      <a:pt x="583" y="209"/>
                    </a:cubicBezTo>
                    <a:cubicBezTo>
                      <a:pt x="406" y="72"/>
                      <a:pt x="205" y="0"/>
                      <a:pt x="0" y="0"/>
                    </a:cubicBezTo>
                  </a:path>
                </a:pathLst>
              </a:custGeom>
              <a:ln w="38160">
                <a:solidFill>
                  <a:srgbClr val="cc0000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340760" y="2891520"/>
                <a:ext cx="414720" cy="547560"/>
              </a:xfrm>
              <a:custGeom>
                <a:avLst/>
                <a:gdLst/>
                <a:ahLst/>
                <a:rect l="0" t="0" r="r" b="b"/>
                <a:pathLst>
                  <a:path fill="none" w="1152" h="1521">
                    <a:moveTo>
                      <a:pt x="0" y="1521"/>
                    </a:moveTo>
                    <a:lnTo>
                      <a:pt x="0" y="1521"/>
                    </a:lnTo>
                    <a:lnTo>
                      <a:pt x="0" y="1521"/>
                    </a:lnTo>
                    <a:cubicBezTo>
                      <a:pt x="202" y="1521"/>
                      <a:pt x="401" y="1451"/>
                      <a:pt x="576" y="1317"/>
                    </a:cubicBezTo>
                    <a:cubicBezTo>
                      <a:pt x="751" y="1183"/>
                      <a:pt x="897" y="991"/>
                      <a:pt x="998" y="759"/>
                    </a:cubicBezTo>
                    <a:cubicBezTo>
                      <a:pt x="1099" y="529"/>
                      <a:pt x="1152" y="267"/>
                      <a:pt x="1152" y="0"/>
                    </a:cubicBezTo>
                  </a:path>
                </a:pathLst>
              </a:custGeom>
              <a:ln w="38160">
                <a:solidFill>
                  <a:srgbClr val="cc0000"/>
                </a:solidFill>
                <a:round/>
                <a:head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7169040" y="3371760"/>
              <a:ext cx="190440" cy="19044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7718400" y="2560680"/>
              <a:ext cx="4935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  <a:ea typeface="Arial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71280" y="2332080"/>
            <a:ext cx="7183800" cy="1682640"/>
            <a:chOff x="71280" y="2332080"/>
            <a:chExt cx="7183800" cy="1682640"/>
          </a:xfrm>
        </p:grpSpPr>
        <p:grpSp>
          <p:nvGrpSpPr>
            <p:cNvPr id="546" name=""/>
            <p:cNvGrpSpPr/>
            <p:nvPr/>
          </p:nvGrpSpPr>
          <p:grpSpPr>
            <a:xfrm>
              <a:off x="695160" y="2332080"/>
              <a:ext cx="698760" cy="546120"/>
              <a:chOff x="695160" y="2332080"/>
              <a:chExt cx="698760" cy="546120"/>
            </a:xfrm>
          </p:grpSpPr>
          <p:sp>
            <p:nvSpPr>
              <p:cNvPr id="547" name=""/>
              <p:cNvSpPr/>
              <p:nvPr/>
            </p:nvSpPr>
            <p:spPr>
              <a:xfrm flipV="1">
                <a:off x="698400" y="2335320"/>
                <a:ext cx="692280" cy="541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flipV="1">
                <a:off x="695160" y="2332080"/>
                <a:ext cx="698760" cy="54612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1920960" y="2444760"/>
              <a:ext cx="5334120" cy="736920"/>
              <a:chOff x="1920960" y="2444760"/>
              <a:chExt cx="5334120" cy="736920"/>
            </a:xfrm>
          </p:grpSpPr>
          <p:sp>
            <p:nvSpPr>
              <p:cNvPr id="550" name=""/>
              <p:cNvSpPr/>
              <p:nvPr/>
            </p:nvSpPr>
            <p:spPr>
              <a:xfrm>
                <a:off x="5959440" y="2444760"/>
                <a:ext cx="1295640" cy="736920"/>
              </a:xfrm>
              <a:custGeom>
                <a:avLst/>
                <a:gdLst/>
                <a:ahLst/>
                <a:rect l="0" t="0" r="r" b="b"/>
                <a:pathLst>
                  <a:path w="3599" h="2047">
                    <a:moveTo>
                      <a:pt x="0" y="681"/>
                    </a:moveTo>
                    <a:lnTo>
                      <a:pt x="0" y="1363"/>
                    </a:lnTo>
                    <a:lnTo>
                      <a:pt x="2519" y="1363"/>
                    </a:lnTo>
                    <a:lnTo>
                      <a:pt x="2519" y="2047"/>
                    </a:lnTo>
                    <a:lnTo>
                      <a:pt x="3599" y="1024"/>
                    </a:lnTo>
                    <a:lnTo>
                      <a:pt x="2519" y="0"/>
                    </a:lnTo>
                    <a:lnTo>
                      <a:pt x="2519" y="681"/>
                    </a:lnTo>
                    <a:lnTo>
                      <a:pt x="0" y="68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 txBox="1"/>
              <p:nvPr/>
            </p:nvSpPr>
            <p:spPr>
              <a:xfrm>
                <a:off x="1920960" y="2630520"/>
                <a:ext cx="4549680" cy="365040"/>
              </a:xfrm>
              <a:prstGeom prst="rect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pt(new_deadline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6470640" y="2637000"/>
                <a:ext cx="0" cy="358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1812960" y="3571920"/>
              <a:ext cx="190440" cy="19044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1463760" y="2622600"/>
              <a:ext cx="419760" cy="1060560"/>
              <a:chOff x="1463760" y="2622600"/>
              <a:chExt cx="419760" cy="1060560"/>
            </a:xfrm>
          </p:grpSpPr>
          <p:sp>
            <p:nvSpPr>
              <p:cNvPr id="555" name=""/>
              <p:cNvSpPr/>
              <p:nvPr/>
            </p:nvSpPr>
            <p:spPr>
              <a:xfrm>
                <a:off x="1463760" y="2622600"/>
                <a:ext cx="419760" cy="593280"/>
              </a:xfrm>
              <a:custGeom>
                <a:avLst/>
                <a:gdLst/>
                <a:ahLst/>
                <a:rect l="0" t="0" r="r" b="b"/>
                <a:pathLst>
                  <a:path fill="none" w="1166" h="1648">
                    <a:moveTo>
                      <a:pt x="1166" y="0"/>
                    </a:moveTo>
                    <a:lnTo>
                      <a:pt x="1166" y="0"/>
                    </a:lnTo>
                    <a:cubicBezTo>
                      <a:pt x="962" y="1"/>
                      <a:pt x="762" y="77"/>
                      <a:pt x="585" y="221"/>
                    </a:cubicBezTo>
                    <a:cubicBezTo>
                      <a:pt x="407" y="366"/>
                      <a:pt x="259" y="574"/>
                      <a:pt x="157" y="825"/>
                    </a:cubicBezTo>
                    <a:cubicBezTo>
                      <a:pt x="54" y="1075"/>
                      <a:pt x="0" y="1359"/>
                      <a:pt x="0" y="1648"/>
                    </a:cubicBezTo>
                  </a:path>
                </a:pathLst>
              </a:custGeom>
              <a:ln w="38160">
                <a:solidFill>
                  <a:srgbClr val="cc0000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68440" y="3154320"/>
                <a:ext cx="405000" cy="528840"/>
              </a:xfrm>
              <a:custGeom>
                <a:avLst/>
                <a:gdLst/>
                <a:ahLst/>
                <a:rect l="0" t="0" r="r" b="b"/>
                <a:pathLst>
                  <a:path fill="none" w="1125" h="1469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258"/>
                      <a:pt x="52" y="511"/>
                      <a:pt x="151" y="735"/>
                    </a:cubicBezTo>
                    <a:cubicBezTo>
                      <a:pt x="249" y="958"/>
                      <a:pt x="391" y="1143"/>
                      <a:pt x="563" y="1272"/>
                    </a:cubicBezTo>
                    <a:cubicBezTo>
                      <a:pt x="734" y="1401"/>
                      <a:pt x="928" y="1469"/>
                      <a:pt x="1125" y="1469"/>
                    </a:cubicBezTo>
                  </a:path>
                </a:pathLst>
              </a:custGeom>
              <a:ln w="38160">
                <a:solidFill>
                  <a:srgbClr val="cc0000"/>
                </a:solidFill>
                <a:round/>
                <a:tail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 txBox="1"/>
            <p:nvPr/>
          </p:nvSpPr>
          <p:spPr>
            <a:xfrm>
              <a:off x="71280" y="3618000"/>
              <a:ext cx="18493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Arial"/>
                </a:rPr>
                <a:t>new_dead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1905120" y="2428920"/>
            <a:ext cx="6460920" cy="1451160"/>
            <a:chOff x="1905120" y="2428920"/>
            <a:chExt cx="6460920" cy="1451160"/>
          </a:xfrm>
        </p:grpSpPr>
        <p:grpSp>
          <p:nvGrpSpPr>
            <p:cNvPr id="559" name=""/>
            <p:cNvGrpSpPr/>
            <p:nvPr/>
          </p:nvGrpSpPr>
          <p:grpSpPr>
            <a:xfrm>
              <a:off x="1905120" y="3143160"/>
              <a:ext cx="5333760" cy="736920"/>
              <a:chOff x="1905120" y="3143160"/>
              <a:chExt cx="5333760" cy="736920"/>
            </a:xfrm>
          </p:grpSpPr>
          <p:sp>
            <p:nvSpPr>
              <p:cNvPr id="560" name=""/>
              <p:cNvSpPr/>
              <p:nvPr/>
            </p:nvSpPr>
            <p:spPr>
              <a:xfrm>
                <a:off x="1905120" y="3143160"/>
                <a:ext cx="1295640" cy="736920"/>
              </a:xfrm>
              <a:custGeom>
                <a:avLst/>
                <a:gdLst/>
                <a:ahLst/>
                <a:rect l="0" t="0" r="r" b="b"/>
                <a:pathLst>
                  <a:path w="3599" h="2047">
                    <a:moveTo>
                      <a:pt x="0" y="681"/>
                    </a:moveTo>
                    <a:lnTo>
                      <a:pt x="0" y="1363"/>
                    </a:lnTo>
                    <a:lnTo>
                      <a:pt x="2519" y="1363"/>
                    </a:lnTo>
                    <a:lnTo>
                      <a:pt x="2519" y="2047"/>
                    </a:lnTo>
                    <a:lnTo>
                      <a:pt x="3599" y="1024"/>
                    </a:lnTo>
                    <a:lnTo>
                      <a:pt x="2519" y="0"/>
                    </a:lnTo>
                    <a:lnTo>
                      <a:pt x="2519" y="681"/>
                    </a:lnTo>
                    <a:lnTo>
                      <a:pt x="0" y="68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 txBox="1"/>
              <p:nvPr/>
            </p:nvSpPr>
            <p:spPr>
              <a:xfrm>
                <a:off x="2689200" y="3311640"/>
                <a:ext cx="4549680" cy="382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fine(plan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2689200" y="3335400"/>
                <a:ext cx="0" cy="358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7842240" y="2428920"/>
              <a:ext cx="523800" cy="9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Agent/Software Inte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Hard-coded to specific SW (no need for standardisation)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Wrappers to provide automated access to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Register with Agent Resource Bro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1600200"/>
            <a:ext cx="7772400" cy="7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Agent/Software Inte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090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Arial"/>
              </a:rPr>
              <a:t>FIPA ‘97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Personal Travel Assistance (P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Personal Ass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AudioVideo Entertainment &amp; Broad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Network Management and Provis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Personal Travel Assistance (PT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Integrated system providing automated access to travel related services for individual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pre-trip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on-trip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600200"/>
            <a:ext cx="7772400" cy="7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119560" y="1079640"/>
            <a:ext cx="2041560" cy="5435640"/>
            <a:chOff x="5119560" y="1079640"/>
            <a:chExt cx="2041560" cy="5435640"/>
          </a:xfrm>
        </p:grpSpPr>
        <p:sp>
          <p:nvSpPr>
            <p:cNvPr id="582" name=""/>
            <p:cNvSpPr/>
            <p:nvPr/>
          </p:nvSpPr>
          <p:spPr>
            <a:xfrm>
              <a:off x="5119560" y="2376360"/>
              <a:ext cx="1214280" cy="2306520"/>
            </a:xfrm>
            <a:prstGeom prst="ellipse">
              <a:avLst/>
            </a:prstGeom>
            <a:solidFill>
              <a:srgbClr val="dfdfd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5159520" y="1079640"/>
              <a:ext cx="2001600" cy="5435640"/>
              <a:chOff x="5159520" y="1079640"/>
              <a:chExt cx="2001600" cy="5435640"/>
            </a:xfrm>
          </p:grpSpPr>
          <p:sp>
            <p:nvSpPr>
              <p:cNvPr id="584" name=""/>
              <p:cNvSpPr/>
              <p:nvPr/>
            </p:nvSpPr>
            <p:spPr>
              <a:xfrm>
                <a:off x="5545080" y="4211640"/>
                <a:ext cx="1217520" cy="2303640"/>
              </a:xfrm>
              <a:prstGeom prst="ellipse">
                <a:avLst/>
              </a:prstGeom>
              <a:solidFill>
                <a:srgbClr val="dfdfd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945040" y="2833560"/>
                <a:ext cx="1216080" cy="2303640"/>
              </a:xfrm>
              <a:prstGeom prst="ellipse">
                <a:avLst/>
              </a:prstGeom>
              <a:solidFill>
                <a:srgbClr val="dfdfd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159520" y="1079640"/>
                <a:ext cx="1219320" cy="2303640"/>
              </a:xfrm>
              <a:prstGeom prst="ellipse">
                <a:avLst/>
              </a:prstGeom>
              <a:solidFill>
                <a:srgbClr val="dfdfd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657760" y="1841400"/>
                <a:ext cx="1217520" cy="2303640"/>
              </a:xfrm>
              <a:prstGeom prst="ellipse">
                <a:avLst/>
              </a:prstGeom>
              <a:solidFill>
                <a:srgbClr val="dfdfd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8" name=""/>
          <p:cNvSpPr txBox="1"/>
          <p:nvPr/>
        </p:nvSpPr>
        <p:spPr>
          <a:xfrm>
            <a:off x="469800" y="407880"/>
            <a:ext cx="5013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9999"/>
                </a:solidFill>
                <a:latin typeface="Arial"/>
                <a:ea typeface="Arial"/>
              </a:rPr>
              <a:t>Travel Services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394400" y="2913120"/>
            <a:ext cx="1384200" cy="654120"/>
          </a:xfrm>
          <a:prstGeom prst="rect">
            <a:avLst/>
          </a:prstGeom>
          <a:solidFill>
            <a:srgbClr val="c8fec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521480" y="3025800"/>
            <a:ext cx="1133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Car Pa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394400" y="3767040"/>
            <a:ext cx="1373040" cy="676440"/>
          </a:xfrm>
          <a:prstGeom prst="rect">
            <a:avLst/>
          </a:prstGeom>
          <a:solidFill>
            <a:srgbClr val="c8fec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678800" y="3890880"/>
            <a:ext cx="804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Hot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94400" y="5486400"/>
            <a:ext cx="1374840" cy="665280"/>
          </a:xfrm>
          <a:prstGeom prst="rect">
            <a:avLst/>
          </a:prstGeom>
          <a:solidFill>
            <a:srgbClr val="c8fec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586640" y="5607000"/>
            <a:ext cx="985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Tour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407360" y="1270080"/>
            <a:ext cx="1434960" cy="674640"/>
          </a:xfrm>
          <a:prstGeom prst="rect">
            <a:avLst/>
          </a:prstGeom>
          <a:solidFill>
            <a:srgbClr val="c8fec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7473960" y="1262160"/>
            <a:ext cx="13017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Time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400880" y="4640400"/>
            <a:ext cx="1351080" cy="674640"/>
          </a:xfrm>
          <a:prstGeom prst="rect">
            <a:avLst/>
          </a:prstGeom>
          <a:solidFill>
            <a:srgbClr val="c8fec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7364520" y="4765680"/>
            <a:ext cx="1425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Ride-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404120" y="2119320"/>
            <a:ext cx="1425600" cy="600120"/>
          </a:xfrm>
          <a:prstGeom prst="rect">
            <a:avLst/>
          </a:prstGeom>
          <a:solidFill>
            <a:srgbClr val="c8fec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7326360" y="2073240"/>
            <a:ext cx="1584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Traffic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Ce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352440" y="2152800"/>
            <a:ext cx="563760" cy="1940400"/>
            <a:chOff x="352440" y="2152800"/>
            <a:chExt cx="563760" cy="1940400"/>
          </a:xfrm>
        </p:grpSpPr>
        <p:sp>
          <p:nvSpPr>
            <p:cNvPr id="602" name=""/>
            <p:cNvSpPr/>
            <p:nvPr/>
          </p:nvSpPr>
          <p:spPr>
            <a:xfrm>
              <a:off x="352440" y="2521080"/>
              <a:ext cx="563760" cy="1572120"/>
            </a:xfrm>
            <a:custGeom>
              <a:avLst/>
              <a:gdLst/>
              <a:ahLst/>
              <a:rect l="0" t="0" r="r" b="b"/>
              <a:pathLst>
                <a:path w="1566" h="4367">
                  <a:moveTo>
                    <a:pt x="371" y="0"/>
                  </a:moveTo>
                  <a:lnTo>
                    <a:pt x="1199" y="0"/>
                  </a:lnTo>
                  <a:lnTo>
                    <a:pt x="1225" y="0"/>
                  </a:lnTo>
                  <a:lnTo>
                    <a:pt x="1248" y="4"/>
                  </a:lnTo>
                  <a:lnTo>
                    <a:pt x="1261" y="8"/>
                  </a:lnTo>
                  <a:lnTo>
                    <a:pt x="1287" y="8"/>
                  </a:lnTo>
                  <a:lnTo>
                    <a:pt x="1305" y="17"/>
                  </a:lnTo>
                  <a:lnTo>
                    <a:pt x="1327" y="26"/>
                  </a:lnTo>
                  <a:lnTo>
                    <a:pt x="1354" y="35"/>
                  </a:lnTo>
                  <a:lnTo>
                    <a:pt x="1371" y="48"/>
                  </a:lnTo>
                  <a:lnTo>
                    <a:pt x="1389" y="57"/>
                  </a:lnTo>
                  <a:lnTo>
                    <a:pt x="1407" y="70"/>
                  </a:lnTo>
                  <a:lnTo>
                    <a:pt x="1433" y="83"/>
                  </a:lnTo>
                  <a:lnTo>
                    <a:pt x="1447" y="105"/>
                  </a:lnTo>
                  <a:lnTo>
                    <a:pt x="1473" y="128"/>
                  </a:lnTo>
                  <a:lnTo>
                    <a:pt x="1495" y="150"/>
                  </a:lnTo>
                  <a:lnTo>
                    <a:pt x="1508" y="176"/>
                  </a:lnTo>
                  <a:lnTo>
                    <a:pt x="1531" y="207"/>
                  </a:lnTo>
                  <a:lnTo>
                    <a:pt x="1544" y="238"/>
                  </a:lnTo>
                  <a:lnTo>
                    <a:pt x="1553" y="264"/>
                  </a:lnTo>
                  <a:lnTo>
                    <a:pt x="1566" y="304"/>
                  </a:lnTo>
                  <a:lnTo>
                    <a:pt x="1566" y="335"/>
                  </a:lnTo>
                  <a:lnTo>
                    <a:pt x="1566" y="361"/>
                  </a:lnTo>
                  <a:lnTo>
                    <a:pt x="1566" y="1978"/>
                  </a:lnTo>
                  <a:lnTo>
                    <a:pt x="1557" y="2000"/>
                  </a:lnTo>
                  <a:lnTo>
                    <a:pt x="1553" y="2018"/>
                  </a:lnTo>
                  <a:lnTo>
                    <a:pt x="1548" y="2035"/>
                  </a:lnTo>
                  <a:lnTo>
                    <a:pt x="1544" y="2058"/>
                  </a:lnTo>
                  <a:lnTo>
                    <a:pt x="1531" y="2075"/>
                  </a:lnTo>
                  <a:lnTo>
                    <a:pt x="1517" y="2097"/>
                  </a:lnTo>
                  <a:lnTo>
                    <a:pt x="1500" y="2115"/>
                  </a:lnTo>
                  <a:lnTo>
                    <a:pt x="1478" y="2128"/>
                  </a:lnTo>
                  <a:lnTo>
                    <a:pt x="1464" y="2133"/>
                  </a:lnTo>
                  <a:lnTo>
                    <a:pt x="1442" y="2141"/>
                  </a:lnTo>
                  <a:lnTo>
                    <a:pt x="1424" y="2141"/>
                  </a:lnTo>
                  <a:lnTo>
                    <a:pt x="1402" y="2133"/>
                  </a:lnTo>
                  <a:lnTo>
                    <a:pt x="1380" y="2128"/>
                  </a:lnTo>
                  <a:lnTo>
                    <a:pt x="1367" y="2124"/>
                  </a:lnTo>
                  <a:lnTo>
                    <a:pt x="1354" y="2119"/>
                  </a:lnTo>
                  <a:lnTo>
                    <a:pt x="1336" y="2102"/>
                  </a:lnTo>
                  <a:lnTo>
                    <a:pt x="1327" y="2093"/>
                  </a:lnTo>
                  <a:lnTo>
                    <a:pt x="1318" y="2075"/>
                  </a:lnTo>
                  <a:lnTo>
                    <a:pt x="1305" y="2058"/>
                  </a:lnTo>
                  <a:lnTo>
                    <a:pt x="1301" y="2040"/>
                  </a:lnTo>
                  <a:lnTo>
                    <a:pt x="1296" y="2027"/>
                  </a:lnTo>
                  <a:lnTo>
                    <a:pt x="1292" y="2009"/>
                  </a:lnTo>
                  <a:lnTo>
                    <a:pt x="1292" y="2000"/>
                  </a:lnTo>
                  <a:lnTo>
                    <a:pt x="1287" y="1978"/>
                  </a:lnTo>
                  <a:lnTo>
                    <a:pt x="1292" y="737"/>
                  </a:lnTo>
                  <a:lnTo>
                    <a:pt x="1199" y="737"/>
                  </a:lnTo>
                  <a:lnTo>
                    <a:pt x="1199" y="4120"/>
                  </a:lnTo>
                  <a:lnTo>
                    <a:pt x="1199" y="4151"/>
                  </a:lnTo>
                  <a:lnTo>
                    <a:pt x="1190" y="4191"/>
                  </a:lnTo>
                  <a:lnTo>
                    <a:pt x="1181" y="4221"/>
                  </a:lnTo>
                  <a:lnTo>
                    <a:pt x="1164" y="4257"/>
                  </a:lnTo>
                  <a:lnTo>
                    <a:pt x="1150" y="4283"/>
                  </a:lnTo>
                  <a:lnTo>
                    <a:pt x="1133" y="4310"/>
                  </a:lnTo>
                  <a:lnTo>
                    <a:pt x="1115" y="4323"/>
                  </a:lnTo>
                  <a:lnTo>
                    <a:pt x="1093" y="4345"/>
                  </a:lnTo>
                  <a:lnTo>
                    <a:pt x="1075" y="4349"/>
                  </a:lnTo>
                  <a:lnTo>
                    <a:pt x="1053" y="4358"/>
                  </a:lnTo>
                  <a:lnTo>
                    <a:pt x="1040" y="4358"/>
                  </a:lnTo>
                  <a:lnTo>
                    <a:pt x="1018" y="4367"/>
                  </a:lnTo>
                  <a:lnTo>
                    <a:pt x="1000" y="4367"/>
                  </a:lnTo>
                  <a:lnTo>
                    <a:pt x="973" y="4358"/>
                  </a:lnTo>
                  <a:lnTo>
                    <a:pt x="947" y="4349"/>
                  </a:lnTo>
                  <a:lnTo>
                    <a:pt x="929" y="4336"/>
                  </a:lnTo>
                  <a:lnTo>
                    <a:pt x="907" y="4323"/>
                  </a:lnTo>
                  <a:lnTo>
                    <a:pt x="894" y="4305"/>
                  </a:lnTo>
                  <a:lnTo>
                    <a:pt x="876" y="4288"/>
                  </a:lnTo>
                  <a:lnTo>
                    <a:pt x="863" y="4266"/>
                  </a:lnTo>
                  <a:lnTo>
                    <a:pt x="850" y="4239"/>
                  </a:lnTo>
                  <a:lnTo>
                    <a:pt x="841" y="4217"/>
                  </a:lnTo>
                  <a:lnTo>
                    <a:pt x="836" y="4195"/>
                  </a:lnTo>
                  <a:lnTo>
                    <a:pt x="832" y="4177"/>
                  </a:lnTo>
                  <a:lnTo>
                    <a:pt x="832" y="4146"/>
                  </a:lnTo>
                  <a:lnTo>
                    <a:pt x="832" y="2084"/>
                  </a:lnTo>
                  <a:lnTo>
                    <a:pt x="734" y="2084"/>
                  </a:lnTo>
                  <a:lnTo>
                    <a:pt x="729" y="4138"/>
                  </a:lnTo>
                  <a:lnTo>
                    <a:pt x="729" y="4164"/>
                  </a:lnTo>
                  <a:lnTo>
                    <a:pt x="725" y="4195"/>
                  </a:lnTo>
                  <a:lnTo>
                    <a:pt x="716" y="4221"/>
                  </a:lnTo>
                  <a:lnTo>
                    <a:pt x="698" y="4257"/>
                  </a:lnTo>
                  <a:lnTo>
                    <a:pt x="685" y="4288"/>
                  </a:lnTo>
                  <a:lnTo>
                    <a:pt x="663" y="4310"/>
                  </a:lnTo>
                  <a:lnTo>
                    <a:pt x="645" y="4332"/>
                  </a:lnTo>
                  <a:lnTo>
                    <a:pt x="619" y="4349"/>
                  </a:lnTo>
                  <a:lnTo>
                    <a:pt x="592" y="4358"/>
                  </a:lnTo>
                  <a:lnTo>
                    <a:pt x="561" y="4367"/>
                  </a:lnTo>
                  <a:lnTo>
                    <a:pt x="539" y="4367"/>
                  </a:lnTo>
                  <a:lnTo>
                    <a:pt x="512" y="4358"/>
                  </a:lnTo>
                  <a:lnTo>
                    <a:pt x="490" y="4354"/>
                  </a:lnTo>
                  <a:lnTo>
                    <a:pt x="473" y="4345"/>
                  </a:lnTo>
                  <a:lnTo>
                    <a:pt x="455" y="4332"/>
                  </a:lnTo>
                  <a:lnTo>
                    <a:pt x="437" y="4314"/>
                  </a:lnTo>
                  <a:lnTo>
                    <a:pt x="415" y="4292"/>
                  </a:lnTo>
                  <a:lnTo>
                    <a:pt x="406" y="4270"/>
                  </a:lnTo>
                  <a:lnTo>
                    <a:pt x="393" y="4252"/>
                  </a:lnTo>
                  <a:lnTo>
                    <a:pt x="380" y="4221"/>
                  </a:lnTo>
                  <a:lnTo>
                    <a:pt x="371" y="4199"/>
                  </a:lnTo>
                  <a:lnTo>
                    <a:pt x="371" y="4177"/>
                  </a:lnTo>
                  <a:lnTo>
                    <a:pt x="362" y="4142"/>
                  </a:lnTo>
                  <a:lnTo>
                    <a:pt x="367" y="737"/>
                  </a:lnTo>
                  <a:lnTo>
                    <a:pt x="274" y="737"/>
                  </a:lnTo>
                  <a:lnTo>
                    <a:pt x="274" y="1978"/>
                  </a:lnTo>
                  <a:lnTo>
                    <a:pt x="269" y="2000"/>
                  </a:lnTo>
                  <a:lnTo>
                    <a:pt x="265" y="2018"/>
                  </a:lnTo>
                  <a:lnTo>
                    <a:pt x="256" y="2049"/>
                  </a:lnTo>
                  <a:lnTo>
                    <a:pt x="252" y="2062"/>
                  </a:lnTo>
                  <a:lnTo>
                    <a:pt x="243" y="2075"/>
                  </a:lnTo>
                  <a:lnTo>
                    <a:pt x="234" y="2080"/>
                  </a:lnTo>
                  <a:lnTo>
                    <a:pt x="225" y="2097"/>
                  </a:lnTo>
                  <a:lnTo>
                    <a:pt x="221" y="2106"/>
                  </a:lnTo>
                  <a:lnTo>
                    <a:pt x="203" y="2124"/>
                  </a:lnTo>
                  <a:lnTo>
                    <a:pt x="194" y="2124"/>
                  </a:lnTo>
                  <a:lnTo>
                    <a:pt x="181" y="2128"/>
                  </a:lnTo>
                  <a:lnTo>
                    <a:pt x="168" y="2133"/>
                  </a:lnTo>
                  <a:lnTo>
                    <a:pt x="159" y="2141"/>
                  </a:lnTo>
                  <a:lnTo>
                    <a:pt x="145" y="2141"/>
                  </a:lnTo>
                  <a:lnTo>
                    <a:pt x="119" y="2141"/>
                  </a:lnTo>
                  <a:lnTo>
                    <a:pt x="114" y="2133"/>
                  </a:lnTo>
                  <a:lnTo>
                    <a:pt x="97" y="2128"/>
                  </a:lnTo>
                  <a:lnTo>
                    <a:pt x="84" y="2128"/>
                  </a:lnTo>
                  <a:lnTo>
                    <a:pt x="75" y="2124"/>
                  </a:lnTo>
                  <a:lnTo>
                    <a:pt x="61" y="2115"/>
                  </a:lnTo>
                  <a:lnTo>
                    <a:pt x="53" y="2102"/>
                  </a:lnTo>
                  <a:lnTo>
                    <a:pt x="44" y="2093"/>
                  </a:lnTo>
                  <a:lnTo>
                    <a:pt x="30" y="2075"/>
                  </a:lnTo>
                  <a:lnTo>
                    <a:pt x="22" y="2062"/>
                  </a:lnTo>
                  <a:lnTo>
                    <a:pt x="17" y="2049"/>
                  </a:lnTo>
                  <a:lnTo>
                    <a:pt x="13" y="2035"/>
                  </a:lnTo>
                  <a:lnTo>
                    <a:pt x="8" y="2018"/>
                  </a:lnTo>
                  <a:lnTo>
                    <a:pt x="4" y="2005"/>
                  </a:lnTo>
                  <a:lnTo>
                    <a:pt x="0" y="1982"/>
                  </a:lnTo>
                  <a:lnTo>
                    <a:pt x="0" y="353"/>
                  </a:lnTo>
                  <a:lnTo>
                    <a:pt x="4" y="304"/>
                  </a:lnTo>
                  <a:lnTo>
                    <a:pt x="17" y="256"/>
                  </a:lnTo>
                  <a:lnTo>
                    <a:pt x="30" y="216"/>
                  </a:lnTo>
                  <a:lnTo>
                    <a:pt x="53" y="185"/>
                  </a:lnTo>
                  <a:lnTo>
                    <a:pt x="66" y="154"/>
                  </a:lnTo>
                  <a:lnTo>
                    <a:pt x="92" y="128"/>
                  </a:lnTo>
                  <a:lnTo>
                    <a:pt x="123" y="97"/>
                  </a:lnTo>
                  <a:lnTo>
                    <a:pt x="163" y="70"/>
                  </a:lnTo>
                  <a:lnTo>
                    <a:pt x="190" y="48"/>
                  </a:lnTo>
                  <a:lnTo>
                    <a:pt x="221" y="35"/>
                  </a:lnTo>
                  <a:lnTo>
                    <a:pt x="260" y="17"/>
                  </a:lnTo>
                  <a:lnTo>
                    <a:pt x="300" y="8"/>
                  </a:lnTo>
                  <a:lnTo>
                    <a:pt x="336" y="4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1200" y="2152800"/>
              <a:ext cx="227160" cy="30312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993600" y="1741320"/>
            <a:ext cx="1186200" cy="1763640"/>
            <a:chOff x="993600" y="1741320"/>
            <a:chExt cx="1186200" cy="1763640"/>
          </a:xfrm>
        </p:grpSpPr>
        <p:sp>
          <p:nvSpPr>
            <p:cNvPr id="605" name=""/>
            <p:cNvSpPr/>
            <p:nvPr/>
          </p:nvSpPr>
          <p:spPr>
            <a:xfrm>
              <a:off x="993600" y="1741320"/>
              <a:ext cx="1046160" cy="17636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 txBox="1"/>
            <p:nvPr/>
          </p:nvSpPr>
          <p:spPr>
            <a:xfrm>
              <a:off x="1114560" y="1967040"/>
              <a:ext cx="106524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  <a:ea typeface="Arial"/>
                </a:rPr>
                <a:t>Man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  <a:ea typeface="Arial"/>
                </a:rPr>
                <a:t>Machine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  <a:ea typeface="Arial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  <a:ea typeface="Arial"/>
                </a:rPr>
                <a:t>(MMI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2529000" y="2225520"/>
            <a:ext cx="15447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08" name=""/>
          <p:cNvGrpSpPr/>
          <p:nvPr/>
        </p:nvGrpSpPr>
        <p:grpSpPr>
          <a:xfrm>
            <a:off x="1727280" y="4683240"/>
            <a:ext cx="2336760" cy="1644480"/>
            <a:chOff x="1727280" y="4683240"/>
            <a:chExt cx="2336760" cy="1644480"/>
          </a:xfrm>
        </p:grpSpPr>
        <p:grpSp>
          <p:nvGrpSpPr>
            <p:cNvPr id="609" name=""/>
            <p:cNvGrpSpPr/>
            <p:nvPr/>
          </p:nvGrpSpPr>
          <p:grpSpPr>
            <a:xfrm>
              <a:off x="3246480" y="5418000"/>
              <a:ext cx="817560" cy="909720"/>
              <a:chOff x="3246480" y="5418000"/>
              <a:chExt cx="817560" cy="909720"/>
            </a:xfrm>
          </p:grpSpPr>
          <p:sp>
            <p:nvSpPr>
              <p:cNvPr id="610" name=""/>
              <p:cNvSpPr/>
              <p:nvPr/>
            </p:nvSpPr>
            <p:spPr>
              <a:xfrm>
                <a:off x="3262320" y="5429160"/>
                <a:ext cx="801720" cy="898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246480" y="5418000"/>
                <a:ext cx="800280" cy="89676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527280" y="5732640"/>
                <a:ext cx="235080" cy="263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549600" y="5759280"/>
                <a:ext cx="190440" cy="214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660840" y="6004080"/>
                <a:ext cx="87840" cy="302040"/>
              </a:xfrm>
              <a:custGeom>
                <a:avLst/>
                <a:gdLst/>
                <a:ahLst/>
                <a:rect l="0" t="0" r="r" b="b"/>
                <a:pathLst>
                  <a:path w="244" h="839">
                    <a:moveTo>
                      <a:pt x="0" y="13"/>
                    </a:moveTo>
                    <a:lnTo>
                      <a:pt x="108" y="839"/>
                    </a:lnTo>
                    <a:lnTo>
                      <a:pt x="190" y="817"/>
                    </a:lnTo>
                    <a:lnTo>
                      <a:pt x="244" y="799"/>
                    </a:lnTo>
                    <a:lnTo>
                      <a:pt x="5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686040" y="5983200"/>
                <a:ext cx="133560" cy="308160"/>
              </a:xfrm>
              <a:custGeom>
                <a:avLst/>
                <a:gdLst/>
                <a:ahLst/>
                <a:rect l="0" t="0" r="r" b="b"/>
                <a:pathLst>
                  <a:path w="371" h="856">
                    <a:moveTo>
                      <a:pt x="0" y="53"/>
                    </a:moveTo>
                    <a:lnTo>
                      <a:pt x="53" y="26"/>
                    </a:lnTo>
                    <a:lnTo>
                      <a:pt x="84" y="0"/>
                    </a:lnTo>
                    <a:lnTo>
                      <a:pt x="371" y="772"/>
                    </a:lnTo>
                    <a:lnTo>
                      <a:pt x="273" y="821"/>
                    </a:lnTo>
                    <a:lnTo>
                      <a:pt x="188" y="856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4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714840" y="5973840"/>
                <a:ext cx="154440" cy="289440"/>
              </a:xfrm>
              <a:custGeom>
                <a:avLst/>
                <a:gdLst/>
                <a:ahLst/>
                <a:rect l="0" t="0" r="r" b="b"/>
                <a:pathLst>
                  <a:path w="429" h="804">
                    <a:moveTo>
                      <a:pt x="49" y="0"/>
                    </a:moveTo>
                    <a:lnTo>
                      <a:pt x="429" y="715"/>
                    </a:lnTo>
                    <a:lnTo>
                      <a:pt x="389" y="738"/>
                    </a:lnTo>
                    <a:lnTo>
                      <a:pt x="299" y="804"/>
                    </a:lnTo>
                    <a:lnTo>
                      <a:pt x="0" y="35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541680" y="5429160"/>
                <a:ext cx="89280" cy="300240"/>
              </a:xfrm>
              <a:custGeom>
                <a:avLst/>
                <a:gdLst/>
                <a:ahLst/>
                <a:rect l="0" t="0" r="r" b="b"/>
                <a:pathLst>
                  <a:path w="248" h="834">
                    <a:moveTo>
                      <a:pt x="248" y="816"/>
                    </a:moveTo>
                    <a:lnTo>
                      <a:pt x="135" y="0"/>
                    </a:lnTo>
                    <a:lnTo>
                      <a:pt x="49" y="13"/>
                    </a:lnTo>
                    <a:lnTo>
                      <a:pt x="0" y="35"/>
                    </a:lnTo>
                    <a:lnTo>
                      <a:pt x="190" y="834"/>
                    </a:lnTo>
                    <a:lnTo>
                      <a:pt x="248" y="816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473280" y="5442120"/>
                <a:ext cx="132120" cy="306720"/>
              </a:xfrm>
              <a:custGeom>
                <a:avLst/>
                <a:gdLst/>
                <a:ahLst/>
                <a:rect l="0" t="0" r="r" b="b"/>
                <a:pathLst>
                  <a:path w="367" h="852">
                    <a:moveTo>
                      <a:pt x="367" y="794"/>
                    </a:moveTo>
                    <a:lnTo>
                      <a:pt x="304" y="821"/>
                    </a:lnTo>
                    <a:lnTo>
                      <a:pt x="277" y="852"/>
                    </a:lnTo>
                    <a:lnTo>
                      <a:pt x="0" y="79"/>
                    </a:lnTo>
                    <a:lnTo>
                      <a:pt x="89" y="35"/>
                    </a:lnTo>
                    <a:lnTo>
                      <a:pt x="174" y="0"/>
                    </a:lnTo>
                    <a:lnTo>
                      <a:pt x="367" y="794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421080" y="5472000"/>
                <a:ext cx="152640" cy="286200"/>
              </a:xfrm>
              <a:custGeom>
                <a:avLst/>
                <a:gdLst/>
                <a:ahLst/>
                <a:rect l="0" t="0" r="r" b="b"/>
                <a:pathLst>
                  <a:path w="424" h="795">
                    <a:moveTo>
                      <a:pt x="370" y="795"/>
                    </a:moveTo>
                    <a:lnTo>
                      <a:pt x="0" y="97"/>
                    </a:lnTo>
                    <a:lnTo>
                      <a:pt x="26" y="62"/>
                    </a:lnTo>
                    <a:lnTo>
                      <a:pt x="133" y="0"/>
                    </a:lnTo>
                    <a:lnTo>
                      <a:pt x="424" y="760"/>
                    </a:lnTo>
                    <a:lnTo>
                      <a:pt x="370" y="795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571920" y="5784840"/>
                <a:ext cx="141120" cy="162000"/>
              </a:xfrm>
              <a:prstGeom prst="ellipse">
                <a:avLst/>
              </a:prstGeom>
              <a:solidFill>
                <a:srgbClr val="808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1727280" y="4737240"/>
              <a:ext cx="1955880" cy="892080"/>
            </a:xfrm>
            <a:prstGeom prst="rect">
              <a:avLst/>
            </a:prstGeom>
            <a:solidFill>
              <a:srgbClr val="e3b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>
              <a:off x="1762200" y="4683240"/>
              <a:ext cx="211464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  <a:ea typeface="Arial"/>
                </a:rPr>
                <a:t>Stand-alone</a:t>
              </a:r>
              <a:br>
                <a:rPr sz="1600"/>
              </a:br>
              <a:r>
                <a:rPr b="1" lang="en-US" sz="1600" spc="-1" strike="noStrike">
                  <a:solidFill>
                    <a:srgbClr val="081d58"/>
                  </a:solidFill>
                  <a:latin typeface="Arial"/>
                  <a:ea typeface="Arial"/>
                </a:rPr>
                <a:t>Navigation Syste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81d58"/>
                  </a:solidFill>
                  <a:latin typeface="Arial"/>
                  <a:ea typeface="Arial"/>
                </a:rPr>
                <a:t>(CD-ROM, GP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 flipV="1">
            <a:off x="2111400" y="1677960"/>
            <a:ext cx="5343480" cy="987480"/>
          </a:xfrm>
          <a:prstGeom prst="line">
            <a:avLst/>
          </a:prstGeom>
          <a:ln w="1260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5541840" y="3198960"/>
            <a:ext cx="1255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N / W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128600" y="3813120"/>
            <a:ext cx="6186600" cy="1901880"/>
          </a:xfrm>
          <a:prstGeom prst="line">
            <a:avLst/>
          </a:prstGeom>
          <a:ln w="1260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128600" y="3889440"/>
            <a:ext cx="559080" cy="682560"/>
          </a:xfrm>
          <a:prstGeom prst="line">
            <a:avLst/>
          </a:prstGeom>
          <a:ln w="1260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2182680" y="2363760"/>
            <a:ext cx="5272200" cy="530280"/>
          </a:xfrm>
          <a:prstGeom prst="line">
            <a:avLst/>
          </a:prstGeom>
          <a:ln w="1260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112840" y="3051000"/>
            <a:ext cx="5202360" cy="1063800"/>
          </a:xfrm>
          <a:prstGeom prst="line">
            <a:avLst/>
          </a:prstGeom>
          <a:ln w="1260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198440" y="3660840"/>
            <a:ext cx="6186600" cy="1292040"/>
          </a:xfrm>
          <a:prstGeom prst="line">
            <a:avLst/>
          </a:prstGeom>
          <a:ln w="1260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2320920" y="1523880"/>
            <a:ext cx="1689120" cy="2133720"/>
            <a:chOff x="2320920" y="1523880"/>
            <a:chExt cx="1689120" cy="2133720"/>
          </a:xfrm>
        </p:grpSpPr>
        <p:sp>
          <p:nvSpPr>
            <p:cNvPr id="632" name=""/>
            <p:cNvSpPr/>
            <p:nvPr/>
          </p:nvSpPr>
          <p:spPr>
            <a:xfrm>
              <a:off x="2320920" y="1523880"/>
              <a:ext cx="1689120" cy="2133720"/>
            </a:xfrm>
            <a:prstGeom prst="ellipse">
              <a:avLst/>
            </a:prstGeom>
            <a:blipFill rotWithShape="0">
              <a:blip r:embed="rId1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 txBox="1"/>
            <p:nvPr/>
          </p:nvSpPr>
          <p:spPr>
            <a:xfrm>
              <a:off x="2924280" y="2209680"/>
              <a:ext cx="525600" cy="762120"/>
            </a:xfrm>
            <a:prstGeom prst="rect">
              <a:avLst/>
            </a:prstGeom>
            <a:blipFill rotWithShape="0">
              <a:blip r:embed="rId2"/>
              <a:tile tx="0" ty="0" sx="133018" sy="133018" algn="ctr"/>
            </a:blip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ccccff"/>
                  </a:solidFill>
                  <a:latin typeface="Arial"/>
                  <a:ea typeface="Arial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 txBox="1"/>
          <p:nvPr/>
        </p:nvSpPr>
        <p:spPr>
          <a:xfrm>
            <a:off x="903240" y="407880"/>
            <a:ext cx="2901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9999"/>
                </a:solidFill>
                <a:latin typeface="Arial"/>
                <a:ea typeface="Arial"/>
              </a:rPr>
              <a:t>On the 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352440" y="2152800"/>
            <a:ext cx="563760" cy="1940400"/>
            <a:chOff x="352440" y="2152800"/>
            <a:chExt cx="563760" cy="1940400"/>
          </a:xfrm>
        </p:grpSpPr>
        <p:sp>
          <p:nvSpPr>
            <p:cNvPr id="636" name=""/>
            <p:cNvSpPr/>
            <p:nvPr/>
          </p:nvSpPr>
          <p:spPr>
            <a:xfrm>
              <a:off x="352440" y="2521080"/>
              <a:ext cx="563760" cy="1572120"/>
            </a:xfrm>
            <a:custGeom>
              <a:avLst/>
              <a:gdLst/>
              <a:ahLst/>
              <a:rect l="0" t="0" r="r" b="b"/>
              <a:pathLst>
                <a:path w="1566" h="4367">
                  <a:moveTo>
                    <a:pt x="371" y="0"/>
                  </a:moveTo>
                  <a:lnTo>
                    <a:pt x="1199" y="0"/>
                  </a:lnTo>
                  <a:lnTo>
                    <a:pt x="1225" y="0"/>
                  </a:lnTo>
                  <a:lnTo>
                    <a:pt x="1248" y="4"/>
                  </a:lnTo>
                  <a:lnTo>
                    <a:pt x="1261" y="8"/>
                  </a:lnTo>
                  <a:lnTo>
                    <a:pt x="1287" y="8"/>
                  </a:lnTo>
                  <a:lnTo>
                    <a:pt x="1305" y="17"/>
                  </a:lnTo>
                  <a:lnTo>
                    <a:pt x="1327" y="26"/>
                  </a:lnTo>
                  <a:lnTo>
                    <a:pt x="1354" y="35"/>
                  </a:lnTo>
                  <a:lnTo>
                    <a:pt x="1371" y="48"/>
                  </a:lnTo>
                  <a:lnTo>
                    <a:pt x="1389" y="57"/>
                  </a:lnTo>
                  <a:lnTo>
                    <a:pt x="1407" y="70"/>
                  </a:lnTo>
                  <a:lnTo>
                    <a:pt x="1433" y="83"/>
                  </a:lnTo>
                  <a:lnTo>
                    <a:pt x="1447" y="105"/>
                  </a:lnTo>
                  <a:lnTo>
                    <a:pt x="1473" y="128"/>
                  </a:lnTo>
                  <a:lnTo>
                    <a:pt x="1495" y="150"/>
                  </a:lnTo>
                  <a:lnTo>
                    <a:pt x="1508" y="176"/>
                  </a:lnTo>
                  <a:lnTo>
                    <a:pt x="1531" y="207"/>
                  </a:lnTo>
                  <a:lnTo>
                    <a:pt x="1544" y="238"/>
                  </a:lnTo>
                  <a:lnTo>
                    <a:pt x="1553" y="264"/>
                  </a:lnTo>
                  <a:lnTo>
                    <a:pt x="1566" y="304"/>
                  </a:lnTo>
                  <a:lnTo>
                    <a:pt x="1566" y="335"/>
                  </a:lnTo>
                  <a:lnTo>
                    <a:pt x="1566" y="361"/>
                  </a:lnTo>
                  <a:lnTo>
                    <a:pt x="1566" y="1978"/>
                  </a:lnTo>
                  <a:lnTo>
                    <a:pt x="1557" y="2000"/>
                  </a:lnTo>
                  <a:lnTo>
                    <a:pt x="1553" y="2018"/>
                  </a:lnTo>
                  <a:lnTo>
                    <a:pt x="1548" y="2035"/>
                  </a:lnTo>
                  <a:lnTo>
                    <a:pt x="1544" y="2058"/>
                  </a:lnTo>
                  <a:lnTo>
                    <a:pt x="1531" y="2075"/>
                  </a:lnTo>
                  <a:lnTo>
                    <a:pt x="1517" y="2097"/>
                  </a:lnTo>
                  <a:lnTo>
                    <a:pt x="1500" y="2115"/>
                  </a:lnTo>
                  <a:lnTo>
                    <a:pt x="1478" y="2128"/>
                  </a:lnTo>
                  <a:lnTo>
                    <a:pt x="1464" y="2133"/>
                  </a:lnTo>
                  <a:lnTo>
                    <a:pt x="1442" y="2141"/>
                  </a:lnTo>
                  <a:lnTo>
                    <a:pt x="1424" y="2141"/>
                  </a:lnTo>
                  <a:lnTo>
                    <a:pt x="1402" y="2133"/>
                  </a:lnTo>
                  <a:lnTo>
                    <a:pt x="1380" y="2128"/>
                  </a:lnTo>
                  <a:lnTo>
                    <a:pt x="1367" y="2124"/>
                  </a:lnTo>
                  <a:lnTo>
                    <a:pt x="1354" y="2119"/>
                  </a:lnTo>
                  <a:lnTo>
                    <a:pt x="1336" y="2102"/>
                  </a:lnTo>
                  <a:lnTo>
                    <a:pt x="1327" y="2093"/>
                  </a:lnTo>
                  <a:lnTo>
                    <a:pt x="1318" y="2075"/>
                  </a:lnTo>
                  <a:lnTo>
                    <a:pt x="1305" y="2058"/>
                  </a:lnTo>
                  <a:lnTo>
                    <a:pt x="1301" y="2040"/>
                  </a:lnTo>
                  <a:lnTo>
                    <a:pt x="1296" y="2027"/>
                  </a:lnTo>
                  <a:lnTo>
                    <a:pt x="1292" y="2009"/>
                  </a:lnTo>
                  <a:lnTo>
                    <a:pt x="1292" y="2000"/>
                  </a:lnTo>
                  <a:lnTo>
                    <a:pt x="1287" y="1978"/>
                  </a:lnTo>
                  <a:lnTo>
                    <a:pt x="1292" y="737"/>
                  </a:lnTo>
                  <a:lnTo>
                    <a:pt x="1199" y="737"/>
                  </a:lnTo>
                  <a:lnTo>
                    <a:pt x="1199" y="4120"/>
                  </a:lnTo>
                  <a:lnTo>
                    <a:pt x="1199" y="4151"/>
                  </a:lnTo>
                  <a:lnTo>
                    <a:pt x="1190" y="4191"/>
                  </a:lnTo>
                  <a:lnTo>
                    <a:pt x="1181" y="4221"/>
                  </a:lnTo>
                  <a:lnTo>
                    <a:pt x="1164" y="4257"/>
                  </a:lnTo>
                  <a:lnTo>
                    <a:pt x="1150" y="4283"/>
                  </a:lnTo>
                  <a:lnTo>
                    <a:pt x="1133" y="4310"/>
                  </a:lnTo>
                  <a:lnTo>
                    <a:pt x="1115" y="4323"/>
                  </a:lnTo>
                  <a:lnTo>
                    <a:pt x="1093" y="4345"/>
                  </a:lnTo>
                  <a:lnTo>
                    <a:pt x="1075" y="4349"/>
                  </a:lnTo>
                  <a:lnTo>
                    <a:pt x="1053" y="4358"/>
                  </a:lnTo>
                  <a:lnTo>
                    <a:pt x="1040" y="4358"/>
                  </a:lnTo>
                  <a:lnTo>
                    <a:pt x="1018" y="4367"/>
                  </a:lnTo>
                  <a:lnTo>
                    <a:pt x="1000" y="4367"/>
                  </a:lnTo>
                  <a:lnTo>
                    <a:pt x="973" y="4358"/>
                  </a:lnTo>
                  <a:lnTo>
                    <a:pt x="947" y="4349"/>
                  </a:lnTo>
                  <a:lnTo>
                    <a:pt x="929" y="4336"/>
                  </a:lnTo>
                  <a:lnTo>
                    <a:pt x="907" y="4323"/>
                  </a:lnTo>
                  <a:lnTo>
                    <a:pt x="894" y="4305"/>
                  </a:lnTo>
                  <a:lnTo>
                    <a:pt x="876" y="4288"/>
                  </a:lnTo>
                  <a:lnTo>
                    <a:pt x="863" y="4266"/>
                  </a:lnTo>
                  <a:lnTo>
                    <a:pt x="850" y="4239"/>
                  </a:lnTo>
                  <a:lnTo>
                    <a:pt x="841" y="4217"/>
                  </a:lnTo>
                  <a:lnTo>
                    <a:pt x="836" y="4195"/>
                  </a:lnTo>
                  <a:lnTo>
                    <a:pt x="832" y="4177"/>
                  </a:lnTo>
                  <a:lnTo>
                    <a:pt x="832" y="4146"/>
                  </a:lnTo>
                  <a:lnTo>
                    <a:pt x="832" y="2084"/>
                  </a:lnTo>
                  <a:lnTo>
                    <a:pt x="734" y="2084"/>
                  </a:lnTo>
                  <a:lnTo>
                    <a:pt x="729" y="4138"/>
                  </a:lnTo>
                  <a:lnTo>
                    <a:pt x="729" y="4164"/>
                  </a:lnTo>
                  <a:lnTo>
                    <a:pt x="725" y="4195"/>
                  </a:lnTo>
                  <a:lnTo>
                    <a:pt x="716" y="4221"/>
                  </a:lnTo>
                  <a:lnTo>
                    <a:pt x="698" y="4257"/>
                  </a:lnTo>
                  <a:lnTo>
                    <a:pt x="685" y="4288"/>
                  </a:lnTo>
                  <a:lnTo>
                    <a:pt x="663" y="4310"/>
                  </a:lnTo>
                  <a:lnTo>
                    <a:pt x="645" y="4332"/>
                  </a:lnTo>
                  <a:lnTo>
                    <a:pt x="619" y="4349"/>
                  </a:lnTo>
                  <a:lnTo>
                    <a:pt x="592" y="4358"/>
                  </a:lnTo>
                  <a:lnTo>
                    <a:pt x="561" y="4367"/>
                  </a:lnTo>
                  <a:lnTo>
                    <a:pt x="539" y="4367"/>
                  </a:lnTo>
                  <a:lnTo>
                    <a:pt x="512" y="4358"/>
                  </a:lnTo>
                  <a:lnTo>
                    <a:pt x="490" y="4354"/>
                  </a:lnTo>
                  <a:lnTo>
                    <a:pt x="473" y="4345"/>
                  </a:lnTo>
                  <a:lnTo>
                    <a:pt x="455" y="4332"/>
                  </a:lnTo>
                  <a:lnTo>
                    <a:pt x="437" y="4314"/>
                  </a:lnTo>
                  <a:lnTo>
                    <a:pt x="415" y="4292"/>
                  </a:lnTo>
                  <a:lnTo>
                    <a:pt x="406" y="4270"/>
                  </a:lnTo>
                  <a:lnTo>
                    <a:pt x="393" y="4252"/>
                  </a:lnTo>
                  <a:lnTo>
                    <a:pt x="380" y="4221"/>
                  </a:lnTo>
                  <a:lnTo>
                    <a:pt x="371" y="4199"/>
                  </a:lnTo>
                  <a:lnTo>
                    <a:pt x="371" y="4177"/>
                  </a:lnTo>
                  <a:lnTo>
                    <a:pt x="362" y="4142"/>
                  </a:lnTo>
                  <a:lnTo>
                    <a:pt x="367" y="737"/>
                  </a:lnTo>
                  <a:lnTo>
                    <a:pt x="274" y="737"/>
                  </a:lnTo>
                  <a:lnTo>
                    <a:pt x="274" y="1978"/>
                  </a:lnTo>
                  <a:lnTo>
                    <a:pt x="269" y="2000"/>
                  </a:lnTo>
                  <a:lnTo>
                    <a:pt x="265" y="2018"/>
                  </a:lnTo>
                  <a:lnTo>
                    <a:pt x="256" y="2049"/>
                  </a:lnTo>
                  <a:lnTo>
                    <a:pt x="252" y="2062"/>
                  </a:lnTo>
                  <a:lnTo>
                    <a:pt x="243" y="2075"/>
                  </a:lnTo>
                  <a:lnTo>
                    <a:pt x="234" y="2080"/>
                  </a:lnTo>
                  <a:lnTo>
                    <a:pt x="225" y="2097"/>
                  </a:lnTo>
                  <a:lnTo>
                    <a:pt x="221" y="2106"/>
                  </a:lnTo>
                  <a:lnTo>
                    <a:pt x="203" y="2124"/>
                  </a:lnTo>
                  <a:lnTo>
                    <a:pt x="194" y="2124"/>
                  </a:lnTo>
                  <a:lnTo>
                    <a:pt x="181" y="2128"/>
                  </a:lnTo>
                  <a:lnTo>
                    <a:pt x="168" y="2133"/>
                  </a:lnTo>
                  <a:lnTo>
                    <a:pt x="159" y="2141"/>
                  </a:lnTo>
                  <a:lnTo>
                    <a:pt x="145" y="2141"/>
                  </a:lnTo>
                  <a:lnTo>
                    <a:pt x="119" y="2141"/>
                  </a:lnTo>
                  <a:lnTo>
                    <a:pt x="114" y="2133"/>
                  </a:lnTo>
                  <a:lnTo>
                    <a:pt x="97" y="2128"/>
                  </a:lnTo>
                  <a:lnTo>
                    <a:pt x="84" y="2128"/>
                  </a:lnTo>
                  <a:lnTo>
                    <a:pt x="75" y="2124"/>
                  </a:lnTo>
                  <a:lnTo>
                    <a:pt x="61" y="2115"/>
                  </a:lnTo>
                  <a:lnTo>
                    <a:pt x="53" y="2102"/>
                  </a:lnTo>
                  <a:lnTo>
                    <a:pt x="44" y="2093"/>
                  </a:lnTo>
                  <a:lnTo>
                    <a:pt x="30" y="2075"/>
                  </a:lnTo>
                  <a:lnTo>
                    <a:pt x="22" y="2062"/>
                  </a:lnTo>
                  <a:lnTo>
                    <a:pt x="17" y="2049"/>
                  </a:lnTo>
                  <a:lnTo>
                    <a:pt x="13" y="2035"/>
                  </a:lnTo>
                  <a:lnTo>
                    <a:pt x="8" y="2018"/>
                  </a:lnTo>
                  <a:lnTo>
                    <a:pt x="4" y="2005"/>
                  </a:lnTo>
                  <a:lnTo>
                    <a:pt x="0" y="1982"/>
                  </a:lnTo>
                  <a:lnTo>
                    <a:pt x="0" y="353"/>
                  </a:lnTo>
                  <a:lnTo>
                    <a:pt x="4" y="304"/>
                  </a:lnTo>
                  <a:lnTo>
                    <a:pt x="17" y="256"/>
                  </a:lnTo>
                  <a:lnTo>
                    <a:pt x="30" y="216"/>
                  </a:lnTo>
                  <a:lnTo>
                    <a:pt x="53" y="185"/>
                  </a:lnTo>
                  <a:lnTo>
                    <a:pt x="66" y="154"/>
                  </a:lnTo>
                  <a:lnTo>
                    <a:pt x="92" y="128"/>
                  </a:lnTo>
                  <a:lnTo>
                    <a:pt x="123" y="97"/>
                  </a:lnTo>
                  <a:lnTo>
                    <a:pt x="163" y="70"/>
                  </a:lnTo>
                  <a:lnTo>
                    <a:pt x="190" y="48"/>
                  </a:lnTo>
                  <a:lnTo>
                    <a:pt x="221" y="35"/>
                  </a:lnTo>
                  <a:lnTo>
                    <a:pt x="260" y="17"/>
                  </a:lnTo>
                  <a:lnTo>
                    <a:pt x="300" y="8"/>
                  </a:lnTo>
                  <a:lnTo>
                    <a:pt x="336" y="4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1200" y="2152800"/>
              <a:ext cx="227160" cy="30312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1063800" y="1589040"/>
            <a:ext cx="1117440" cy="18399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982800" y="1844640"/>
            <a:ext cx="106524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Man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Machin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(MM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394400" y="2913120"/>
            <a:ext cx="1384200" cy="654120"/>
          </a:xfrm>
          <a:prstGeom prst="rect">
            <a:avLst/>
          </a:prstGeom>
          <a:solidFill>
            <a:srgbClr val="c8fec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7521480" y="3025800"/>
            <a:ext cx="1133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Car Pa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394400" y="3767040"/>
            <a:ext cx="1373040" cy="676440"/>
          </a:xfrm>
          <a:prstGeom prst="rect">
            <a:avLst/>
          </a:prstGeom>
          <a:solidFill>
            <a:srgbClr val="c8fec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678800" y="3890880"/>
            <a:ext cx="804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Hot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394400" y="5486400"/>
            <a:ext cx="1374840" cy="665280"/>
          </a:xfrm>
          <a:prstGeom prst="rect">
            <a:avLst/>
          </a:prstGeom>
          <a:solidFill>
            <a:srgbClr val="c8fec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586640" y="5607000"/>
            <a:ext cx="985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Tour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5119560" y="1079640"/>
            <a:ext cx="2041560" cy="5435640"/>
            <a:chOff x="5119560" y="1079640"/>
            <a:chExt cx="2041560" cy="5435640"/>
          </a:xfrm>
        </p:grpSpPr>
        <p:sp>
          <p:nvSpPr>
            <p:cNvPr id="647" name=""/>
            <p:cNvSpPr/>
            <p:nvPr/>
          </p:nvSpPr>
          <p:spPr>
            <a:xfrm>
              <a:off x="5119560" y="2376360"/>
              <a:ext cx="1214280" cy="2306520"/>
            </a:xfrm>
            <a:prstGeom prst="ellipse">
              <a:avLst/>
            </a:prstGeom>
            <a:solidFill>
              <a:srgbClr val="dfdfd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5159520" y="1079640"/>
              <a:ext cx="2001600" cy="5435640"/>
              <a:chOff x="5159520" y="1079640"/>
              <a:chExt cx="2001600" cy="5435640"/>
            </a:xfrm>
          </p:grpSpPr>
          <p:sp>
            <p:nvSpPr>
              <p:cNvPr id="649" name=""/>
              <p:cNvSpPr/>
              <p:nvPr/>
            </p:nvSpPr>
            <p:spPr>
              <a:xfrm>
                <a:off x="5545080" y="4211640"/>
                <a:ext cx="1217520" cy="2303640"/>
              </a:xfrm>
              <a:prstGeom prst="ellipse">
                <a:avLst/>
              </a:prstGeom>
              <a:solidFill>
                <a:srgbClr val="dfdfd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945040" y="2833560"/>
                <a:ext cx="1216080" cy="2303640"/>
              </a:xfrm>
              <a:prstGeom prst="ellipse">
                <a:avLst/>
              </a:prstGeom>
              <a:solidFill>
                <a:srgbClr val="dfdfd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159520" y="1079640"/>
                <a:ext cx="1219320" cy="2303640"/>
              </a:xfrm>
              <a:prstGeom prst="ellipse">
                <a:avLst/>
              </a:prstGeom>
              <a:solidFill>
                <a:srgbClr val="dfdfd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57760" y="1841400"/>
                <a:ext cx="1217520" cy="2303640"/>
              </a:xfrm>
              <a:prstGeom prst="ellipse">
                <a:avLst/>
              </a:prstGeom>
              <a:solidFill>
                <a:srgbClr val="dfdfd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3" name=""/>
          <p:cNvSpPr txBox="1"/>
          <p:nvPr/>
        </p:nvSpPr>
        <p:spPr>
          <a:xfrm>
            <a:off x="3927600" y="1866960"/>
            <a:ext cx="19512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Digital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(RDS-TMC, DA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548160" y="3765600"/>
            <a:ext cx="20239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Mobile Tele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(GSM, SMS, UT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3092400" y="5045040"/>
            <a:ext cx="15429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56" name=""/>
          <p:cNvGrpSpPr/>
          <p:nvPr/>
        </p:nvGrpSpPr>
        <p:grpSpPr>
          <a:xfrm>
            <a:off x="884160" y="4378320"/>
            <a:ext cx="2335320" cy="1644840"/>
            <a:chOff x="884160" y="4378320"/>
            <a:chExt cx="2335320" cy="1644840"/>
          </a:xfrm>
        </p:grpSpPr>
        <p:grpSp>
          <p:nvGrpSpPr>
            <p:cNvPr id="657" name=""/>
            <p:cNvGrpSpPr/>
            <p:nvPr/>
          </p:nvGrpSpPr>
          <p:grpSpPr>
            <a:xfrm>
              <a:off x="2401920" y="5113440"/>
              <a:ext cx="817560" cy="909720"/>
              <a:chOff x="2401920" y="5113440"/>
              <a:chExt cx="817560" cy="909720"/>
            </a:xfrm>
          </p:grpSpPr>
          <p:sp>
            <p:nvSpPr>
              <p:cNvPr id="658" name=""/>
              <p:cNvSpPr/>
              <p:nvPr/>
            </p:nvSpPr>
            <p:spPr>
              <a:xfrm>
                <a:off x="2417760" y="5124600"/>
                <a:ext cx="801720" cy="898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401920" y="5113440"/>
                <a:ext cx="800280" cy="89676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682720" y="5427720"/>
                <a:ext cx="235080" cy="263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705040" y="5454720"/>
                <a:ext cx="190440" cy="214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816280" y="5699160"/>
                <a:ext cx="89280" cy="302040"/>
              </a:xfrm>
              <a:custGeom>
                <a:avLst/>
                <a:gdLst/>
                <a:ahLst/>
                <a:rect l="0" t="0" r="r" b="b"/>
                <a:pathLst>
                  <a:path w="248" h="839">
                    <a:moveTo>
                      <a:pt x="0" y="13"/>
                    </a:moveTo>
                    <a:lnTo>
                      <a:pt x="108" y="839"/>
                    </a:lnTo>
                    <a:lnTo>
                      <a:pt x="195" y="817"/>
                    </a:lnTo>
                    <a:lnTo>
                      <a:pt x="248" y="799"/>
                    </a:lnTo>
                    <a:lnTo>
                      <a:pt x="5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841480" y="5678640"/>
                <a:ext cx="133560" cy="308160"/>
              </a:xfrm>
              <a:custGeom>
                <a:avLst/>
                <a:gdLst/>
                <a:ahLst/>
                <a:rect l="0" t="0" r="r" b="b"/>
                <a:pathLst>
                  <a:path w="371" h="856">
                    <a:moveTo>
                      <a:pt x="0" y="53"/>
                    </a:moveTo>
                    <a:lnTo>
                      <a:pt x="53" y="26"/>
                    </a:lnTo>
                    <a:lnTo>
                      <a:pt x="84" y="0"/>
                    </a:lnTo>
                    <a:lnTo>
                      <a:pt x="371" y="772"/>
                    </a:lnTo>
                    <a:lnTo>
                      <a:pt x="273" y="821"/>
                    </a:lnTo>
                    <a:lnTo>
                      <a:pt x="188" y="856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4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870280" y="5668920"/>
                <a:ext cx="154440" cy="289440"/>
              </a:xfrm>
              <a:custGeom>
                <a:avLst/>
                <a:gdLst/>
                <a:ahLst/>
                <a:rect l="0" t="0" r="r" b="b"/>
                <a:pathLst>
                  <a:path w="429" h="804">
                    <a:moveTo>
                      <a:pt x="49" y="0"/>
                    </a:moveTo>
                    <a:lnTo>
                      <a:pt x="429" y="715"/>
                    </a:lnTo>
                    <a:lnTo>
                      <a:pt x="389" y="738"/>
                    </a:lnTo>
                    <a:lnTo>
                      <a:pt x="299" y="804"/>
                    </a:lnTo>
                    <a:lnTo>
                      <a:pt x="0" y="35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97120" y="5124600"/>
                <a:ext cx="89280" cy="300240"/>
              </a:xfrm>
              <a:custGeom>
                <a:avLst/>
                <a:gdLst/>
                <a:ahLst/>
                <a:rect l="0" t="0" r="r" b="b"/>
                <a:pathLst>
                  <a:path w="248" h="834">
                    <a:moveTo>
                      <a:pt x="248" y="816"/>
                    </a:moveTo>
                    <a:lnTo>
                      <a:pt x="135" y="0"/>
                    </a:lnTo>
                    <a:lnTo>
                      <a:pt x="49" y="13"/>
                    </a:lnTo>
                    <a:lnTo>
                      <a:pt x="0" y="35"/>
                    </a:lnTo>
                    <a:lnTo>
                      <a:pt x="190" y="834"/>
                    </a:lnTo>
                    <a:lnTo>
                      <a:pt x="248" y="816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628720" y="5137200"/>
                <a:ext cx="132120" cy="306720"/>
              </a:xfrm>
              <a:custGeom>
                <a:avLst/>
                <a:gdLst/>
                <a:ahLst/>
                <a:rect l="0" t="0" r="r" b="b"/>
                <a:pathLst>
                  <a:path w="367" h="852">
                    <a:moveTo>
                      <a:pt x="367" y="794"/>
                    </a:moveTo>
                    <a:lnTo>
                      <a:pt x="304" y="821"/>
                    </a:lnTo>
                    <a:lnTo>
                      <a:pt x="277" y="852"/>
                    </a:lnTo>
                    <a:lnTo>
                      <a:pt x="0" y="79"/>
                    </a:lnTo>
                    <a:lnTo>
                      <a:pt x="89" y="35"/>
                    </a:lnTo>
                    <a:lnTo>
                      <a:pt x="174" y="0"/>
                    </a:lnTo>
                    <a:lnTo>
                      <a:pt x="367" y="794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77960" y="5167440"/>
                <a:ext cx="151200" cy="286200"/>
              </a:xfrm>
              <a:custGeom>
                <a:avLst/>
                <a:gdLst/>
                <a:ahLst/>
                <a:rect l="0" t="0" r="r" b="b"/>
                <a:pathLst>
                  <a:path w="420" h="795">
                    <a:moveTo>
                      <a:pt x="367" y="795"/>
                    </a:moveTo>
                    <a:lnTo>
                      <a:pt x="0" y="97"/>
                    </a:lnTo>
                    <a:lnTo>
                      <a:pt x="26" y="62"/>
                    </a:lnTo>
                    <a:lnTo>
                      <a:pt x="130" y="0"/>
                    </a:lnTo>
                    <a:lnTo>
                      <a:pt x="420" y="760"/>
                    </a:lnTo>
                    <a:lnTo>
                      <a:pt x="367" y="795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28800" y="5479920"/>
                <a:ext cx="139680" cy="162000"/>
              </a:xfrm>
              <a:prstGeom prst="ellipse">
                <a:avLst/>
              </a:prstGeom>
              <a:solidFill>
                <a:srgbClr val="808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884160" y="4432320"/>
              <a:ext cx="1954080" cy="892080"/>
            </a:xfrm>
            <a:prstGeom prst="rect">
              <a:avLst/>
            </a:prstGeom>
            <a:solidFill>
              <a:srgbClr val="e3b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919080" y="4378320"/>
              <a:ext cx="211464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81d58"/>
                  </a:solidFill>
                  <a:latin typeface="Arial"/>
                  <a:ea typeface="Arial"/>
                </a:rPr>
                <a:t>Stand-alone</a:t>
              </a:r>
              <a:br>
                <a:rPr sz="1600"/>
              </a:br>
              <a:r>
                <a:rPr b="1" lang="en-US" sz="1600" spc="-1" strike="noStrike">
                  <a:solidFill>
                    <a:srgbClr val="081d58"/>
                  </a:solidFill>
                  <a:latin typeface="Arial"/>
                  <a:ea typeface="Arial"/>
                </a:rPr>
                <a:t>Navigation Syste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81d58"/>
                  </a:solidFill>
                  <a:latin typeface="Arial"/>
                  <a:ea typeface="Arial"/>
                </a:rPr>
                <a:t>(CD-ROM, GP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2887560" y="3276720"/>
            <a:ext cx="3103560" cy="452160"/>
            <a:chOff x="2887560" y="3276720"/>
            <a:chExt cx="3103560" cy="452160"/>
          </a:xfrm>
        </p:grpSpPr>
        <p:sp>
          <p:nvSpPr>
            <p:cNvPr id="672" name=""/>
            <p:cNvSpPr/>
            <p:nvPr/>
          </p:nvSpPr>
          <p:spPr>
            <a:xfrm flipH="1">
              <a:off x="4253040" y="3276720"/>
              <a:ext cx="360360" cy="452160"/>
            </a:xfrm>
            <a:prstGeom prst="line">
              <a:avLst/>
            </a:prstGeom>
            <a:ln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270320" y="3722760"/>
              <a:ext cx="1720800" cy="0"/>
            </a:xfrm>
            <a:prstGeom prst="line">
              <a:avLst/>
            </a:prstGeom>
            <a:ln w="2556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87560" y="3282840"/>
              <a:ext cx="1716120" cy="0"/>
            </a:xfrm>
            <a:prstGeom prst="line">
              <a:avLst/>
            </a:prstGeom>
            <a:ln w="2556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6213600" y="1328760"/>
            <a:ext cx="1136520" cy="98280"/>
            <a:chOff x="6213600" y="1328760"/>
            <a:chExt cx="1136520" cy="98280"/>
          </a:xfrm>
        </p:grpSpPr>
        <p:sp>
          <p:nvSpPr>
            <p:cNvPr id="676" name=""/>
            <p:cNvSpPr/>
            <p:nvPr/>
          </p:nvSpPr>
          <p:spPr>
            <a:xfrm flipH="1">
              <a:off x="6723000" y="1328760"/>
              <a:ext cx="130320" cy="9360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18320" y="1427040"/>
              <a:ext cx="63180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13600" y="1328760"/>
              <a:ext cx="63000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213600" y="2147760"/>
            <a:ext cx="1136520" cy="98640"/>
            <a:chOff x="6213600" y="2147760"/>
            <a:chExt cx="1136520" cy="98640"/>
          </a:xfrm>
        </p:grpSpPr>
        <p:sp>
          <p:nvSpPr>
            <p:cNvPr id="680" name=""/>
            <p:cNvSpPr/>
            <p:nvPr/>
          </p:nvSpPr>
          <p:spPr>
            <a:xfrm flipH="1">
              <a:off x="6723000" y="2147760"/>
              <a:ext cx="130320" cy="9216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18320" y="2246400"/>
              <a:ext cx="63180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13600" y="2147760"/>
              <a:ext cx="63000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248520" y="3067200"/>
            <a:ext cx="1137960" cy="98280"/>
            <a:chOff x="6248520" y="3067200"/>
            <a:chExt cx="1137960" cy="98280"/>
          </a:xfrm>
        </p:grpSpPr>
        <p:sp>
          <p:nvSpPr>
            <p:cNvPr id="684" name=""/>
            <p:cNvSpPr/>
            <p:nvPr/>
          </p:nvSpPr>
          <p:spPr>
            <a:xfrm flipH="1">
              <a:off x="6757920" y="3067200"/>
              <a:ext cx="130320" cy="9360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756480" y="3165480"/>
              <a:ext cx="63000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48520" y="3068640"/>
              <a:ext cx="63180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6235560" y="4013280"/>
            <a:ext cx="1138320" cy="98280"/>
            <a:chOff x="6235560" y="4013280"/>
            <a:chExt cx="1138320" cy="98280"/>
          </a:xfrm>
        </p:grpSpPr>
        <p:sp>
          <p:nvSpPr>
            <p:cNvPr id="688" name=""/>
            <p:cNvSpPr/>
            <p:nvPr/>
          </p:nvSpPr>
          <p:spPr>
            <a:xfrm flipH="1">
              <a:off x="6745320" y="4013280"/>
              <a:ext cx="130320" cy="9216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742080" y="4111560"/>
              <a:ext cx="63180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235560" y="4013280"/>
              <a:ext cx="63180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213600" y="4851360"/>
            <a:ext cx="1136520" cy="98640"/>
            <a:chOff x="6213600" y="4851360"/>
            <a:chExt cx="1136520" cy="98640"/>
          </a:xfrm>
        </p:grpSpPr>
        <p:sp>
          <p:nvSpPr>
            <p:cNvPr id="692" name=""/>
            <p:cNvSpPr/>
            <p:nvPr/>
          </p:nvSpPr>
          <p:spPr>
            <a:xfrm flipH="1">
              <a:off x="6723000" y="4851360"/>
              <a:ext cx="130320" cy="9216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718320" y="4950000"/>
              <a:ext cx="63180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13600" y="4851360"/>
              <a:ext cx="63000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6213600" y="5910120"/>
            <a:ext cx="1136520" cy="100080"/>
            <a:chOff x="6213600" y="5910120"/>
            <a:chExt cx="1136520" cy="100080"/>
          </a:xfrm>
        </p:grpSpPr>
        <p:sp>
          <p:nvSpPr>
            <p:cNvPr id="696" name=""/>
            <p:cNvSpPr/>
            <p:nvPr/>
          </p:nvSpPr>
          <p:spPr>
            <a:xfrm flipH="1">
              <a:off x="6723000" y="5910120"/>
              <a:ext cx="130320" cy="9396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18320" y="6010200"/>
              <a:ext cx="63180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13600" y="5910120"/>
              <a:ext cx="63000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7407360" y="1270080"/>
            <a:ext cx="1434960" cy="674640"/>
          </a:xfrm>
          <a:prstGeom prst="rect">
            <a:avLst/>
          </a:prstGeom>
          <a:solidFill>
            <a:srgbClr val="c8fec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7473960" y="1262160"/>
            <a:ext cx="13017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Time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400880" y="4640400"/>
            <a:ext cx="1351080" cy="674640"/>
          </a:xfrm>
          <a:prstGeom prst="rect">
            <a:avLst/>
          </a:prstGeom>
          <a:solidFill>
            <a:srgbClr val="c8fec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7364520" y="4765680"/>
            <a:ext cx="1425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Ride-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404120" y="2119320"/>
            <a:ext cx="1425600" cy="600120"/>
          </a:xfrm>
          <a:prstGeom prst="rect">
            <a:avLst/>
          </a:prstGeom>
          <a:solidFill>
            <a:srgbClr val="c8fec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7326360" y="2073240"/>
            <a:ext cx="1584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Traffic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  <a:ea typeface="Arial"/>
              </a:rPr>
              <a:t>Ce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2746440" y="2422440"/>
            <a:ext cx="3506760" cy="166680"/>
            <a:chOff x="2746440" y="2422440"/>
            <a:chExt cx="3506760" cy="166680"/>
          </a:xfrm>
        </p:grpSpPr>
        <p:sp>
          <p:nvSpPr>
            <p:cNvPr id="706" name=""/>
            <p:cNvSpPr/>
            <p:nvPr/>
          </p:nvSpPr>
          <p:spPr>
            <a:xfrm flipH="1" flipV="1">
              <a:off x="4289400" y="2422440"/>
              <a:ext cx="407880" cy="166680"/>
            </a:xfrm>
            <a:prstGeom prst="line">
              <a:avLst/>
            </a:prstGeom>
            <a:ln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313160" y="2422440"/>
              <a:ext cx="1940040" cy="0"/>
            </a:xfrm>
            <a:prstGeom prst="line">
              <a:avLst/>
            </a:prstGeom>
            <a:ln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46440" y="2585880"/>
              <a:ext cx="1940040" cy="0"/>
            </a:xfrm>
            <a:prstGeom prst="line">
              <a:avLst/>
            </a:prstGeom>
            <a:ln w="2556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"/>
          <p:cNvSpPr txBox="1"/>
          <p:nvPr/>
        </p:nvSpPr>
        <p:spPr>
          <a:xfrm>
            <a:off x="668160" y="6083280"/>
            <a:ext cx="1422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mens AG, 08/12/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668160" y="5958000"/>
            <a:ext cx="1442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. Lackner, D. Stei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915080" y="492120"/>
            <a:ext cx="17715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7227720" y="690480"/>
            <a:ext cx="1568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7165800" y="2014560"/>
            <a:ext cx="1933560" cy="701640"/>
            <a:chOff x="7165800" y="2014560"/>
            <a:chExt cx="1933560" cy="701640"/>
          </a:xfrm>
        </p:grpSpPr>
        <p:sp>
          <p:nvSpPr>
            <p:cNvPr id="715" name=""/>
            <p:cNvSpPr/>
            <p:nvPr/>
          </p:nvSpPr>
          <p:spPr>
            <a:xfrm>
              <a:off x="7196040" y="2017800"/>
              <a:ext cx="1873080" cy="695160"/>
            </a:xfrm>
            <a:prstGeom prst="rect">
              <a:avLst/>
            </a:prstGeom>
            <a:solidFill>
              <a:srgbClr val="c8fec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 txBox="1"/>
            <p:nvPr/>
          </p:nvSpPr>
          <p:spPr>
            <a:xfrm>
              <a:off x="7165800" y="2014560"/>
              <a:ext cx="19335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81d58"/>
                  </a:solidFill>
                  <a:latin typeface="Arial"/>
                  <a:ea typeface="Arial"/>
                </a:rPr>
                <a:t>Traffic Contr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81d58"/>
                  </a:solidFill>
                  <a:latin typeface="Arial"/>
                  <a:ea typeface="Arial"/>
                </a:rPr>
                <a:t>Cen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PTA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52280" y="2111400"/>
            <a:ext cx="581400" cy="1889640"/>
            <a:chOff x="152280" y="2111400"/>
            <a:chExt cx="581400" cy="1889640"/>
          </a:xfrm>
        </p:grpSpPr>
        <p:sp>
          <p:nvSpPr>
            <p:cNvPr id="719" name=""/>
            <p:cNvSpPr/>
            <p:nvPr/>
          </p:nvSpPr>
          <p:spPr>
            <a:xfrm>
              <a:off x="152280" y="2470320"/>
              <a:ext cx="581400" cy="1530720"/>
            </a:xfrm>
            <a:custGeom>
              <a:avLst/>
              <a:gdLst/>
              <a:ahLst/>
              <a:rect l="0" t="0" r="r" b="b"/>
              <a:pathLst>
                <a:path w="1615" h="4252">
                  <a:moveTo>
                    <a:pt x="384" y="0"/>
                  </a:moveTo>
                  <a:lnTo>
                    <a:pt x="1240" y="0"/>
                  </a:lnTo>
                  <a:lnTo>
                    <a:pt x="1266" y="0"/>
                  </a:lnTo>
                  <a:lnTo>
                    <a:pt x="1284" y="4"/>
                  </a:lnTo>
                  <a:lnTo>
                    <a:pt x="1302" y="8"/>
                  </a:lnTo>
                  <a:lnTo>
                    <a:pt x="1328" y="8"/>
                  </a:lnTo>
                  <a:lnTo>
                    <a:pt x="1346" y="17"/>
                  </a:lnTo>
                  <a:lnTo>
                    <a:pt x="1368" y="26"/>
                  </a:lnTo>
                  <a:lnTo>
                    <a:pt x="1394" y="35"/>
                  </a:lnTo>
                  <a:lnTo>
                    <a:pt x="1416" y="44"/>
                  </a:lnTo>
                  <a:lnTo>
                    <a:pt x="1430" y="57"/>
                  </a:lnTo>
                  <a:lnTo>
                    <a:pt x="1452" y="66"/>
                  </a:lnTo>
                  <a:lnTo>
                    <a:pt x="1478" y="83"/>
                  </a:lnTo>
                  <a:lnTo>
                    <a:pt x="1492" y="105"/>
                  </a:lnTo>
                  <a:lnTo>
                    <a:pt x="1518" y="123"/>
                  </a:lnTo>
                  <a:lnTo>
                    <a:pt x="1540" y="145"/>
                  </a:lnTo>
                  <a:lnTo>
                    <a:pt x="1558" y="172"/>
                  </a:lnTo>
                  <a:lnTo>
                    <a:pt x="1576" y="198"/>
                  </a:lnTo>
                  <a:lnTo>
                    <a:pt x="1593" y="233"/>
                  </a:lnTo>
                  <a:lnTo>
                    <a:pt x="1602" y="260"/>
                  </a:lnTo>
                  <a:lnTo>
                    <a:pt x="1615" y="295"/>
                  </a:lnTo>
                  <a:lnTo>
                    <a:pt x="1615" y="326"/>
                  </a:lnTo>
                  <a:lnTo>
                    <a:pt x="1615" y="353"/>
                  </a:lnTo>
                  <a:lnTo>
                    <a:pt x="1615" y="1925"/>
                  </a:lnTo>
                  <a:lnTo>
                    <a:pt x="1607" y="1947"/>
                  </a:lnTo>
                  <a:lnTo>
                    <a:pt x="1602" y="1965"/>
                  </a:lnTo>
                  <a:lnTo>
                    <a:pt x="1598" y="1983"/>
                  </a:lnTo>
                  <a:lnTo>
                    <a:pt x="1593" y="2005"/>
                  </a:lnTo>
                  <a:lnTo>
                    <a:pt x="1576" y="2018"/>
                  </a:lnTo>
                  <a:lnTo>
                    <a:pt x="1567" y="2040"/>
                  </a:lnTo>
                  <a:lnTo>
                    <a:pt x="1545" y="2058"/>
                  </a:lnTo>
                  <a:lnTo>
                    <a:pt x="1523" y="2075"/>
                  </a:lnTo>
                  <a:lnTo>
                    <a:pt x="1509" y="2080"/>
                  </a:lnTo>
                  <a:lnTo>
                    <a:pt x="1487" y="2084"/>
                  </a:lnTo>
                  <a:lnTo>
                    <a:pt x="1470" y="2084"/>
                  </a:lnTo>
                  <a:lnTo>
                    <a:pt x="1447" y="2080"/>
                  </a:lnTo>
                  <a:lnTo>
                    <a:pt x="1425" y="2075"/>
                  </a:lnTo>
                  <a:lnTo>
                    <a:pt x="1412" y="2066"/>
                  </a:lnTo>
                  <a:lnTo>
                    <a:pt x="1394" y="2062"/>
                  </a:lnTo>
                  <a:lnTo>
                    <a:pt x="1381" y="2049"/>
                  </a:lnTo>
                  <a:lnTo>
                    <a:pt x="1368" y="2035"/>
                  </a:lnTo>
                  <a:lnTo>
                    <a:pt x="1359" y="2018"/>
                  </a:lnTo>
                  <a:lnTo>
                    <a:pt x="1346" y="2005"/>
                  </a:lnTo>
                  <a:lnTo>
                    <a:pt x="1341" y="1987"/>
                  </a:lnTo>
                  <a:lnTo>
                    <a:pt x="1337" y="1974"/>
                  </a:lnTo>
                  <a:lnTo>
                    <a:pt x="1332" y="1956"/>
                  </a:lnTo>
                  <a:lnTo>
                    <a:pt x="1332" y="1947"/>
                  </a:lnTo>
                  <a:lnTo>
                    <a:pt x="1328" y="1925"/>
                  </a:lnTo>
                  <a:lnTo>
                    <a:pt x="1332" y="715"/>
                  </a:lnTo>
                  <a:lnTo>
                    <a:pt x="1240" y="715"/>
                  </a:lnTo>
                  <a:lnTo>
                    <a:pt x="1240" y="4010"/>
                  </a:lnTo>
                  <a:lnTo>
                    <a:pt x="1240" y="4041"/>
                  </a:lnTo>
                  <a:lnTo>
                    <a:pt x="1226" y="4080"/>
                  </a:lnTo>
                  <a:lnTo>
                    <a:pt x="1217" y="4111"/>
                  </a:lnTo>
                  <a:lnTo>
                    <a:pt x="1199" y="4142"/>
                  </a:lnTo>
                  <a:lnTo>
                    <a:pt x="1186" y="4169"/>
                  </a:lnTo>
                  <a:lnTo>
                    <a:pt x="1168" y="4195"/>
                  </a:lnTo>
                  <a:lnTo>
                    <a:pt x="1150" y="4208"/>
                  </a:lnTo>
                  <a:lnTo>
                    <a:pt x="1128" y="4230"/>
                  </a:lnTo>
                  <a:lnTo>
                    <a:pt x="1106" y="4235"/>
                  </a:lnTo>
                  <a:lnTo>
                    <a:pt x="1088" y="4244"/>
                  </a:lnTo>
                  <a:lnTo>
                    <a:pt x="1071" y="4244"/>
                  </a:lnTo>
                  <a:lnTo>
                    <a:pt x="1048" y="4252"/>
                  </a:lnTo>
                  <a:lnTo>
                    <a:pt x="1031" y="4252"/>
                  </a:lnTo>
                  <a:lnTo>
                    <a:pt x="1004" y="4244"/>
                  </a:lnTo>
                  <a:lnTo>
                    <a:pt x="978" y="4235"/>
                  </a:lnTo>
                  <a:lnTo>
                    <a:pt x="956" y="4222"/>
                  </a:lnTo>
                  <a:lnTo>
                    <a:pt x="934" y="4208"/>
                  </a:lnTo>
                  <a:lnTo>
                    <a:pt x="920" y="4191"/>
                  </a:lnTo>
                  <a:lnTo>
                    <a:pt x="903" y="4177"/>
                  </a:lnTo>
                  <a:lnTo>
                    <a:pt x="889" y="4155"/>
                  </a:lnTo>
                  <a:lnTo>
                    <a:pt x="876" y="4129"/>
                  </a:lnTo>
                  <a:lnTo>
                    <a:pt x="867" y="4107"/>
                  </a:lnTo>
                  <a:lnTo>
                    <a:pt x="863" y="4085"/>
                  </a:lnTo>
                  <a:lnTo>
                    <a:pt x="858" y="4071"/>
                  </a:lnTo>
                  <a:lnTo>
                    <a:pt x="858" y="4036"/>
                  </a:lnTo>
                  <a:lnTo>
                    <a:pt x="858" y="2031"/>
                  </a:lnTo>
                  <a:lnTo>
                    <a:pt x="757" y="2031"/>
                  </a:lnTo>
                  <a:lnTo>
                    <a:pt x="752" y="4027"/>
                  </a:lnTo>
                  <a:lnTo>
                    <a:pt x="752" y="4054"/>
                  </a:lnTo>
                  <a:lnTo>
                    <a:pt x="748" y="4085"/>
                  </a:lnTo>
                  <a:lnTo>
                    <a:pt x="739" y="4111"/>
                  </a:lnTo>
                  <a:lnTo>
                    <a:pt x="721" y="4142"/>
                  </a:lnTo>
                  <a:lnTo>
                    <a:pt x="708" y="4177"/>
                  </a:lnTo>
                  <a:lnTo>
                    <a:pt x="686" y="4195"/>
                  </a:lnTo>
                  <a:lnTo>
                    <a:pt x="664" y="4217"/>
                  </a:lnTo>
                  <a:lnTo>
                    <a:pt x="637" y="4235"/>
                  </a:lnTo>
                  <a:lnTo>
                    <a:pt x="611" y="4244"/>
                  </a:lnTo>
                  <a:lnTo>
                    <a:pt x="580" y="4252"/>
                  </a:lnTo>
                  <a:lnTo>
                    <a:pt x="553" y="4252"/>
                  </a:lnTo>
                  <a:lnTo>
                    <a:pt x="531" y="4244"/>
                  </a:lnTo>
                  <a:lnTo>
                    <a:pt x="509" y="4239"/>
                  </a:lnTo>
                  <a:lnTo>
                    <a:pt x="487" y="4230"/>
                  </a:lnTo>
                  <a:lnTo>
                    <a:pt x="474" y="4217"/>
                  </a:lnTo>
                  <a:lnTo>
                    <a:pt x="452" y="4204"/>
                  </a:lnTo>
                  <a:lnTo>
                    <a:pt x="429" y="4182"/>
                  </a:lnTo>
                  <a:lnTo>
                    <a:pt x="421" y="4160"/>
                  </a:lnTo>
                  <a:lnTo>
                    <a:pt x="402" y="4138"/>
                  </a:lnTo>
                  <a:lnTo>
                    <a:pt x="393" y="4111"/>
                  </a:lnTo>
                  <a:lnTo>
                    <a:pt x="384" y="4089"/>
                  </a:lnTo>
                  <a:lnTo>
                    <a:pt x="384" y="4071"/>
                  </a:lnTo>
                  <a:lnTo>
                    <a:pt x="371" y="4032"/>
                  </a:lnTo>
                  <a:lnTo>
                    <a:pt x="375" y="715"/>
                  </a:lnTo>
                  <a:lnTo>
                    <a:pt x="282" y="715"/>
                  </a:lnTo>
                  <a:lnTo>
                    <a:pt x="282" y="1925"/>
                  </a:lnTo>
                  <a:lnTo>
                    <a:pt x="278" y="1947"/>
                  </a:lnTo>
                  <a:lnTo>
                    <a:pt x="274" y="1965"/>
                  </a:lnTo>
                  <a:lnTo>
                    <a:pt x="265" y="1991"/>
                  </a:lnTo>
                  <a:lnTo>
                    <a:pt x="256" y="2009"/>
                  </a:lnTo>
                  <a:lnTo>
                    <a:pt x="252" y="2018"/>
                  </a:lnTo>
                  <a:lnTo>
                    <a:pt x="243" y="2027"/>
                  </a:lnTo>
                  <a:lnTo>
                    <a:pt x="229" y="2040"/>
                  </a:lnTo>
                  <a:lnTo>
                    <a:pt x="225" y="2053"/>
                  </a:lnTo>
                  <a:lnTo>
                    <a:pt x="212" y="2066"/>
                  </a:lnTo>
                  <a:lnTo>
                    <a:pt x="198" y="2066"/>
                  </a:lnTo>
                  <a:lnTo>
                    <a:pt x="185" y="2075"/>
                  </a:lnTo>
                  <a:lnTo>
                    <a:pt x="176" y="2080"/>
                  </a:lnTo>
                  <a:lnTo>
                    <a:pt x="163" y="2084"/>
                  </a:lnTo>
                  <a:lnTo>
                    <a:pt x="150" y="2084"/>
                  </a:lnTo>
                  <a:lnTo>
                    <a:pt x="123" y="2084"/>
                  </a:lnTo>
                  <a:lnTo>
                    <a:pt x="119" y="2080"/>
                  </a:lnTo>
                  <a:lnTo>
                    <a:pt x="101" y="2075"/>
                  </a:lnTo>
                  <a:lnTo>
                    <a:pt x="88" y="2075"/>
                  </a:lnTo>
                  <a:lnTo>
                    <a:pt x="75" y="2066"/>
                  </a:lnTo>
                  <a:lnTo>
                    <a:pt x="66" y="2058"/>
                  </a:lnTo>
                  <a:lnTo>
                    <a:pt x="53" y="2049"/>
                  </a:lnTo>
                  <a:lnTo>
                    <a:pt x="44" y="2035"/>
                  </a:lnTo>
                  <a:lnTo>
                    <a:pt x="35" y="2018"/>
                  </a:lnTo>
                  <a:lnTo>
                    <a:pt x="22" y="2009"/>
                  </a:lnTo>
                  <a:lnTo>
                    <a:pt x="17" y="1991"/>
                  </a:lnTo>
                  <a:lnTo>
                    <a:pt x="13" y="1983"/>
                  </a:lnTo>
                  <a:lnTo>
                    <a:pt x="8" y="1965"/>
                  </a:lnTo>
                  <a:lnTo>
                    <a:pt x="4" y="1952"/>
                  </a:lnTo>
                  <a:lnTo>
                    <a:pt x="0" y="1930"/>
                  </a:lnTo>
                  <a:lnTo>
                    <a:pt x="0" y="344"/>
                  </a:lnTo>
                  <a:lnTo>
                    <a:pt x="4" y="295"/>
                  </a:lnTo>
                  <a:lnTo>
                    <a:pt x="17" y="247"/>
                  </a:lnTo>
                  <a:lnTo>
                    <a:pt x="35" y="211"/>
                  </a:lnTo>
                  <a:lnTo>
                    <a:pt x="53" y="176"/>
                  </a:lnTo>
                  <a:lnTo>
                    <a:pt x="70" y="150"/>
                  </a:lnTo>
                  <a:lnTo>
                    <a:pt x="97" y="123"/>
                  </a:lnTo>
                  <a:lnTo>
                    <a:pt x="128" y="92"/>
                  </a:lnTo>
                  <a:lnTo>
                    <a:pt x="168" y="66"/>
                  </a:lnTo>
                  <a:lnTo>
                    <a:pt x="194" y="44"/>
                  </a:lnTo>
                  <a:lnTo>
                    <a:pt x="225" y="35"/>
                  </a:lnTo>
                  <a:lnTo>
                    <a:pt x="269" y="17"/>
                  </a:lnTo>
                  <a:lnTo>
                    <a:pt x="309" y="8"/>
                  </a:lnTo>
                  <a:lnTo>
                    <a:pt x="344" y="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16080" y="2111400"/>
              <a:ext cx="233280" cy="2937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595440" y="1488960"/>
            <a:ext cx="1614600" cy="252252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49440" y="1538280"/>
            <a:ext cx="156672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Ma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Mach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(M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Speech-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Gestur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7165800" y="2852640"/>
            <a:ext cx="1585800" cy="636480"/>
            <a:chOff x="7165800" y="2852640"/>
            <a:chExt cx="1585800" cy="636480"/>
          </a:xfrm>
        </p:grpSpPr>
        <p:sp>
          <p:nvSpPr>
            <p:cNvPr id="724" name=""/>
            <p:cNvSpPr/>
            <p:nvPr/>
          </p:nvSpPr>
          <p:spPr>
            <a:xfrm>
              <a:off x="7165800" y="2852640"/>
              <a:ext cx="1585800" cy="636480"/>
            </a:xfrm>
            <a:prstGeom prst="rect">
              <a:avLst/>
            </a:prstGeom>
            <a:solidFill>
              <a:srgbClr val="c8fec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 txBox="1"/>
            <p:nvPr/>
          </p:nvSpPr>
          <p:spPr>
            <a:xfrm>
              <a:off x="7273800" y="2971800"/>
              <a:ext cx="13701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81d58"/>
                  </a:solidFill>
                  <a:latin typeface="Arial"/>
                  <a:ea typeface="Arial"/>
                </a:rPr>
                <a:t>Car Par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7165800" y="3683160"/>
            <a:ext cx="1593720" cy="658800"/>
            <a:chOff x="7165800" y="3683160"/>
            <a:chExt cx="1593720" cy="658800"/>
          </a:xfrm>
        </p:grpSpPr>
        <p:sp>
          <p:nvSpPr>
            <p:cNvPr id="727" name=""/>
            <p:cNvSpPr/>
            <p:nvPr/>
          </p:nvSpPr>
          <p:spPr>
            <a:xfrm>
              <a:off x="7165800" y="3683160"/>
              <a:ext cx="1593720" cy="658800"/>
            </a:xfrm>
            <a:prstGeom prst="rect">
              <a:avLst/>
            </a:prstGeom>
            <a:solidFill>
              <a:srgbClr val="c8fec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>
              <a:off x="7483320" y="3813120"/>
              <a:ext cx="960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81d58"/>
                  </a:solidFill>
                  <a:latin typeface="Arial"/>
                  <a:ea typeface="Arial"/>
                </a:rPr>
                <a:t>Hot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165800" y="5357880"/>
            <a:ext cx="1573200" cy="646200"/>
            <a:chOff x="7165800" y="5357880"/>
            <a:chExt cx="1573200" cy="646200"/>
          </a:xfrm>
        </p:grpSpPr>
        <p:sp>
          <p:nvSpPr>
            <p:cNvPr id="730" name=""/>
            <p:cNvSpPr/>
            <p:nvPr/>
          </p:nvSpPr>
          <p:spPr>
            <a:xfrm>
              <a:off x="7165800" y="5357880"/>
              <a:ext cx="1573200" cy="646200"/>
            </a:xfrm>
            <a:prstGeom prst="rect">
              <a:avLst/>
            </a:prstGeom>
            <a:solidFill>
              <a:srgbClr val="c8fec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 txBox="1"/>
            <p:nvPr/>
          </p:nvSpPr>
          <p:spPr>
            <a:xfrm>
              <a:off x="7359480" y="5481720"/>
              <a:ext cx="11858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81d58"/>
                  </a:solidFill>
                  <a:latin typeface="Arial"/>
                  <a:ea typeface="Arial"/>
                </a:rPr>
                <a:t>Touris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351160" y="1488960"/>
            <a:ext cx="1844640" cy="252720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4906800" y="1066680"/>
            <a:ext cx="2098800" cy="5292720"/>
            <a:chOff x="4906800" y="1066680"/>
            <a:chExt cx="2098800" cy="5292720"/>
          </a:xfrm>
        </p:grpSpPr>
        <p:sp>
          <p:nvSpPr>
            <p:cNvPr id="734" name=""/>
            <p:cNvSpPr/>
            <p:nvPr/>
          </p:nvSpPr>
          <p:spPr>
            <a:xfrm>
              <a:off x="4906800" y="2330280"/>
              <a:ext cx="1249200" cy="2244600"/>
            </a:xfrm>
            <a:prstGeom prst="ellipse">
              <a:avLst/>
            </a:prstGeom>
            <a:solidFill>
              <a:srgbClr val="dfdfd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4946760" y="1066680"/>
              <a:ext cx="2058840" cy="5292720"/>
              <a:chOff x="4946760" y="1066680"/>
              <a:chExt cx="2058840" cy="5292720"/>
            </a:xfrm>
          </p:grpSpPr>
          <p:sp>
            <p:nvSpPr>
              <p:cNvPr id="736" name=""/>
              <p:cNvSpPr/>
              <p:nvPr/>
            </p:nvSpPr>
            <p:spPr>
              <a:xfrm>
                <a:off x="5343480" y="4114800"/>
                <a:ext cx="1252440" cy="2244600"/>
              </a:xfrm>
              <a:prstGeom prst="ellipse">
                <a:avLst/>
              </a:prstGeom>
              <a:solidFill>
                <a:srgbClr val="dfdfd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756400" y="2774880"/>
                <a:ext cx="1249200" cy="2241720"/>
              </a:xfrm>
              <a:prstGeom prst="ellipse">
                <a:avLst/>
              </a:prstGeom>
              <a:solidFill>
                <a:srgbClr val="dfdfd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946760" y="1066680"/>
                <a:ext cx="1254240" cy="2243160"/>
              </a:xfrm>
              <a:prstGeom prst="ellipse">
                <a:avLst/>
              </a:prstGeom>
              <a:solidFill>
                <a:srgbClr val="dfdfd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459400" y="1808280"/>
                <a:ext cx="1252440" cy="2241720"/>
              </a:xfrm>
              <a:prstGeom prst="ellipse">
                <a:avLst/>
              </a:prstGeom>
              <a:solidFill>
                <a:srgbClr val="dfdfd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"/>
          <p:cNvSpPr txBox="1"/>
          <p:nvPr/>
        </p:nvSpPr>
        <p:spPr>
          <a:xfrm>
            <a:off x="4254480" y="1987560"/>
            <a:ext cx="200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Digital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3843360" y="3639960"/>
            <a:ext cx="2328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Mobile Tele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2971800" y="4927680"/>
            <a:ext cx="1587600" cy="1130400"/>
          </a:xfrm>
          <a:prstGeom prst="rect">
            <a:avLst/>
          </a:prstGeom>
          <a:ln w="0">
            <a:noFill/>
          </a:ln>
        </p:spPr>
      </p:pic>
      <p:grpSp>
        <p:nvGrpSpPr>
          <p:cNvPr id="743" name=""/>
          <p:cNvGrpSpPr/>
          <p:nvPr/>
        </p:nvGrpSpPr>
        <p:grpSpPr>
          <a:xfrm>
            <a:off x="2189160" y="5068800"/>
            <a:ext cx="841320" cy="885960"/>
            <a:chOff x="2189160" y="5068800"/>
            <a:chExt cx="841320" cy="885960"/>
          </a:xfrm>
        </p:grpSpPr>
        <p:sp>
          <p:nvSpPr>
            <p:cNvPr id="744" name=""/>
            <p:cNvSpPr/>
            <p:nvPr/>
          </p:nvSpPr>
          <p:spPr>
            <a:xfrm>
              <a:off x="2205000" y="5078520"/>
              <a:ext cx="825480" cy="876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189160" y="5068800"/>
              <a:ext cx="824040" cy="873000"/>
            </a:xfrm>
            <a:prstGeom prst="ellipse">
              <a:avLst/>
            </a:prstGeom>
            <a:solidFill>
              <a:srgbClr val="e0e0e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478240" y="5375160"/>
              <a:ext cx="2430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00200" y="5400720"/>
              <a:ext cx="196920" cy="20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16120" y="5638680"/>
              <a:ext cx="90720" cy="294120"/>
            </a:xfrm>
            <a:custGeom>
              <a:avLst/>
              <a:gdLst/>
              <a:ahLst/>
              <a:rect l="0" t="0" r="r" b="b"/>
              <a:pathLst>
                <a:path w="252" h="817">
                  <a:moveTo>
                    <a:pt x="0" y="13"/>
                  </a:moveTo>
                  <a:lnTo>
                    <a:pt x="112" y="817"/>
                  </a:lnTo>
                  <a:lnTo>
                    <a:pt x="198" y="795"/>
                  </a:lnTo>
                  <a:lnTo>
                    <a:pt x="252" y="777"/>
                  </a:lnTo>
                  <a:lnTo>
                    <a:pt x="58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41680" y="5619600"/>
              <a:ext cx="136800" cy="298800"/>
            </a:xfrm>
            <a:custGeom>
              <a:avLst/>
              <a:gdLst/>
              <a:ahLst/>
              <a:rect l="0" t="0" r="r" b="b"/>
              <a:pathLst>
                <a:path w="380" h="830">
                  <a:moveTo>
                    <a:pt x="0" y="53"/>
                  </a:moveTo>
                  <a:lnTo>
                    <a:pt x="53" y="26"/>
                  </a:lnTo>
                  <a:lnTo>
                    <a:pt x="84" y="0"/>
                  </a:lnTo>
                  <a:lnTo>
                    <a:pt x="380" y="745"/>
                  </a:lnTo>
                  <a:lnTo>
                    <a:pt x="277" y="794"/>
                  </a:lnTo>
                  <a:lnTo>
                    <a:pt x="192" y="83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71920" y="5610240"/>
              <a:ext cx="159120" cy="281520"/>
            </a:xfrm>
            <a:custGeom>
              <a:avLst/>
              <a:gdLst/>
              <a:ahLst/>
              <a:rect l="0" t="0" r="r" b="b"/>
              <a:pathLst>
                <a:path w="442" h="782">
                  <a:moveTo>
                    <a:pt x="48" y="0"/>
                  </a:moveTo>
                  <a:lnTo>
                    <a:pt x="442" y="693"/>
                  </a:lnTo>
                  <a:lnTo>
                    <a:pt x="402" y="715"/>
                  </a:lnTo>
                  <a:lnTo>
                    <a:pt x="308" y="782"/>
                  </a:lnTo>
                  <a:lnTo>
                    <a:pt x="0" y="3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0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494080" y="5078520"/>
              <a:ext cx="90720" cy="292320"/>
            </a:xfrm>
            <a:custGeom>
              <a:avLst/>
              <a:gdLst/>
              <a:ahLst/>
              <a:rect l="0" t="0" r="r" b="b"/>
              <a:pathLst>
                <a:path w="252" h="812">
                  <a:moveTo>
                    <a:pt x="252" y="794"/>
                  </a:moveTo>
                  <a:lnTo>
                    <a:pt x="135" y="0"/>
                  </a:lnTo>
                  <a:lnTo>
                    <a:pt x="49" y="13"/>
                  </a:lnTo>
                  <a:lnTo>
                    <a:pt x="0" y="35"/>
                  </a:lnTo>
                  <a:lnTo>
                    <a:pt x="189" y="812"/>
                  </a:lnTo>
                  <a:lnTo>
                    <a:pt x="252" y="794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422440" y="5091120"/>
              <a:ext cx="136800" cy="298800"/>
            </a:xfrm>
            <a:custGeom>
              <a:avLst/>
              <a:gdLst/>
              <a:ahLst/>
              <a:rect l="0" t="0" r="r" b="b"/>
              <a:pathLst>
                <a:path w="380" h="830">
                  <a:moveTo>
                    <a:pt x="380" y="772"/>
                  </a:moveTo>
                  <a:lnTo>
                    <a:pt x="313" y="798"/>
                  </a:lnTo>
                  <a:lnTo>
                    <a:pt x="286" y="830"/>
                  </a:lnTo>
                  <a:lnTo>
                    <a:pt x="0" y="79"/>
                  </a:lnTo>
                  <a:lnTo>
                    <a:pt x="93" y="35"/>
                  </a:lnTo>
                  <a:lnTo>
                    <a:pt x="182" y="0"/>
                  </a:lnTo>
                  <a:lnTo>
                    <a:pt x="380" y="772"/>
                  </a:lnTo>
                  <a:close/>
                </a:path>
              </a:pathLst>
            </a:custGeom>
            <a:solidFill>
              <a:srgbClr val="ff4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371680" y="5121360"/>
              <a:ext cx="154440" cy="278280"/>
            </a:xfrm>
            <a:custGeom>
              <a:avLst/>
              <a:gdLst/>
              <a:ahLst/>
              <a:rect l="0" t="0" r="r" b="b"/>
              <a:pathLst>
                <a:path w="429" h="773">
                  <a:moveTo>
                    <a:pt x="376" y="773"/>
                  </a:moveTo>
                  <a:lnTo>
                    <a:pt x="0" y="93"/>
                  </a:lnTo>
                  <a:lnTo>
                    <a:pt x="31" y="62"/>
                  </a:lnTo>
                  <a:lnTo>
                    <a:pt x="134" y="0"/>
                  </a:lnTo>
                  <a:lnTo>
                    <a:pt x="429" y="738"/>
                  </a:lnTo>
                  <a:lnTo>
                    <a:pt x="376" y="77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525760" y="5424480"/>
              <a:ext cx="144360" cy="158760"/>
            </a:xfrm>
            <a:prstGeom prst="ellipse">
              <a:avLst/>
            </a:prstGeom>
            <a:solidFill>
              <a:srgbClr val="808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27120" y="4405320"/>
            <a:ext cx="2649600" cy="870120"/>
          </a:xfrm>
          <a:prstGeom prst="rect">
            <a:avLst/>
          </a:prstGeom>
          <a:solidFill>
            <a:srgbClr val="e3be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63480" y="4308480"/>
            <a:ext cx="25988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Stand-alone</a:t>
            </a:r>
            <a:br>
              <a:rPr sz="2000"/>
            </a:b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Navig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(CD-ROM, G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3843360" y="3205080"/>
            <a:ext cx="2111400" cy="441360"/>
            <a:chOff x="3843360" y="3205080"/>
            <a:chExt cx="2111400" cy="441360"/>
          </a:xfrm>
        </p:grpSpPr>
        <p:sp>
          <p:nvSpPr>
            <p:cNvPr id="758" name=""/>
            <p:cNvSpPr/>
            <p:nvPr/>
          </p:nvSpPr>
          <p:spPr>
            <a:xfrm flipH="1">
              <a:off x="4772160" y="3205080"/>
              <a:ext cx="244440" cy="441360"/>
            </a:xfrm>
            <a:prstGeom prst="line">
              <a:avLst/>
            </a:prstGeom>
            <a:ln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84760" y="3638520"/>
              <a:ext cx="1170000" cy="0"/>
            </a:xfrm>
            <a:prstGeom prst="line">
              <a:avLst/>
            </a:prstGeom>
            <a:ln w="2556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843360" y="3211560"/>
              <a:ext cx="1168200" cy="0"/>
            </a:xfrm>
            <a:prstGeom prst="line">
              <a:avLst/>
            </a:prstGeom>
            <a:ln w="2556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6031080" y="1308240"/>
            <a:ext cx="1171440" cy="95040"/>
            <a:chOff x="6031080" y="1308240"/>
            <a:chExt cx="1171440" cy="95040"/>
          </a:xfrm>
        </p:grpSpPr>
        <p:sp>
          <p:nvSpPr>
            <p:cNvPr id="762" name=""/>
            <p:cNvSpPr/>
            <p:nvPr/>
          </p:nvSpPr>
          <p:spPr>
            <a:xfrm flipH="1">
              <a:off x="6554880" y="1308240"/>
              <a:ext cx="135000" cy="9180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51640" y="1403280"/>
              <a:ext cx="65088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31080" y="1309680"/>
              <a:ext cx="64908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6031080" y="2104920"/>
            <a:ext cx="1171440" cy="96840"/>
            <a:chOff x="6031080" y="2104920"/>
            <a:chExt cx="1171440" cy="96840"/>
          </a:xfrm>
        </p:grpSpPr>
        <p:sp>
          <p:nvSpPr>
            <p:cNvPr id="766" name=""/>
            <p:cNvSpPr/>
            <p:nvPr/>
          </p:nvSpPr>
          <p:spPr>
            <a:xfrm flipH="1">
              <a:off x="6554880" y="2106720"/>
              <a:ext cx="135000" cy="9036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51640" y="2201760"/>
              <a:ext cx="65088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031080" y="2104920"/>
              <a:ext cx="64908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6067440" y="3002040"/>
            <a:ext cx="1171440" cy="95040"/>
            <a:chOff x="6067440" y="3002040"/>
            <a:chExt cx="1171440" cy="95040"/>
          </a:xfrm>
        </p:grpSpPr>
        <p:sp>
          <p:nvSpPr>
            <p:cNvPr id="770" name=""/>
            <p:cNvSpPr/>
            <p:nvPr/>
          </p:nvSpPr>
          <p:spPr>
            <a:xfrm flipH="1">
              <a:off x="6593040" y="3002040"/>
              <a:ext cx="133200" cy="9036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89800" y="3097080"/>
              <a:ext cx="64908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067440" y="3003480"/>
              <a:ext cx="64944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6053040" y="3922560"/>
            <a:ext cx="1173240" cy="96840"/>
            <a:chOff x="6053040" y="3922560"/>
            <a:chExt cx="1173240" cy="96840"/>
          </a:xfrm>
        </p:grpSpPr>
        <p:sp>
          <p:nvSpPr>
            <p:cNvPr id="774" name=""/>
            <p:cNvSpPr/>
            <p:nvPr/>
          </p:nvSpPr>
          <p:spPr>
            <a:xfrm flipH="1">
              <a:off x="6578640" y="3922560"/>
              <a:ext cx="133200" cy="9072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575400" y="4019400"/>
              <a:ext cx="65088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53040" y="3922560"/>
              <a:ext cx="65088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6031080" y="4738680"/>
            <a:ext cx="1171440" cy="96840"/>
            <a:chOff x="6031080" y="4738680"/>
            <a:chExt cx="1171440" cy="96840"/>
          </a:xfrm>
        </p:grpSpPr>
        <p:sp>
          <p:nvSpPr>
            <p:cNvPr id="778" name=""/>
            <p:cNvSpPr/>
            <p:nvPr/>
          </p:nvSpPr>
          <p:spPr>
            <a:xfrm flipH="1">
              <a:off x="6554880" y="4738680"/>
              <a:ext cx="135000" cy="8892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551640" y="4835520"/>
              <a:ext cx="65088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31080" y="4738680"/>
              <a:ext cx="64908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6031080" y="5770440"/>
            <a:ext cx="1171440" cy="96840"/>
            <a:chOff x="6031080" y="5770440"/>
            <a:chExt cx="1171440" cy="96840"/>
          </a:xfrm>
        </p:grpSpPr>
        <p:sp>
          <p:nvSpPr>
            <p:cNvPr id="782" name=""/>
            <p:cNvSpPr/>
            <p:nvPr/>
          </p:nvSpPr>
          <p:spPr>
            <a:xfrm flipH="1">
              <a:off x="6554880" y="5770440"/>
              <a:ext cx="135000" cy="9072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51640" y="5867280"/>
              <a:ext cx="65088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31080" y="5770440"/>
              <a:ext cx="64908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7165800" y="1203480"/>
            <a:ext cx="1649520" cy="701640"/>
            <a:chOff x="7165800" y="1203480"/>
            <a:chExt cx="1649520" cy="701640"/>
          </a:xfrm>
        </p:grpSpPr>
        <p:sp>
          <p:nvSpPr>
            <p:cNvPr id="786" name=""/>
            <p:cNvSpPr/>
            <p:nvPr/>
          </p:nvSpPr>
          <p:spPr>
            <a:xfrm>
              <a:off x="7165800" y="1225440"/>
              <a:ext cx="1649520" cy="657360"/>
            </a:xfrm>
            <a:prstGeom prst="rect">
              <a:avLst/>
            </a:prstGeom>
            <a:solidFill>
              <a:srgbClr val="c8fec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 txBox="1"/>
            <p:nvPr/>
          </p:nvSpPr>
          <p:spPr>
            <a:xfrm>
              <a:off x="7199280" y="1203480"/>
              <a:ext cx="15811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81d58"/>
                  </a:solidFill>
                  <a:latin typeface="Arial"/>
                  <a:ea typeface="Arial"/>
                </a:rPr>
                <a:t>Time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81d58"/>
                  </a:solidFill>
                  <a:latin typeface="Arial"/>
                  <a:ea typeface="Arial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7165800" y="4533840"/>
            <a:ext cx="1736640" cy="657360"/>
            <a:chOff x="7165800" y="4533840"/>
            <a:chExt cx="1736640" cy="657360"/>
          </a:xfrm>
        </p:grpSpPr>
        <p:sp>
          <p:nvSpPr>
            <p:cNvPr id="789" name=""/>
            <p:cNvSpPr/>
            <p:nvPr/>
          </p:nvSpPr>
          <p:spPr>
            <a:xfrm>
              <a:off x="7196040" y="4533840"/>
              <a:ext cx="1676520" cy="657360"/>
            </a:xfrm>
            <a:prstGeom prst="rect">
              <a:avLst/>
            </a:prstGeom>
            <a:solidFill>
              <a:srgbClr val="c8fec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 txBox="1"/>
            <p:nvPr/>
          </p:nvSpPr>
          <p:spPr>
            <a:xfrm>
              <a:off x="7165800" y="4664160"/>
              <a:ext cx="17366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81d58"/>
                  </a:solidFill>
                  <a:latin typeface="Arial"/>
                  <a:ea typeface="Arial"/>
                </a:rPr>
                <a:t>Ride-sha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3894120" y="2373480"/>
            <a:ext cx="2328840" cy="350640"/>
            <a:chOff x="3894120" y="2373480"/>
            <a:chExt cx="2328840" cy="350640"/>
          </a:xfrm>
        </p:grpSpPr>
        <p:sp>
          <p:nvSpPr>
            <p:cNvPr id="792" name=""/>
            <p:cNvSpPr/>
            <p:nvPr/>
          </p:nvSpPr>
          <p:spPr>
            <a:xfrm flipH="1" flipV="1">
              <a:off x="4917960" y="2373480"/>
              <a:ext cx="271440" cy="350640"/>
            </a:xfrm>
            <a:prstGeom prst="line">
              <a:avLst/>
            </a:prstGeom>
            <a:ln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935600" y="2376360"/>
              <a:ext cx="1287360" cy="0"/>
            </a:xfrm>
            <a:prstGeom prst="line">
              <a:avLst/>
            </a:prstGeom>
            <a:ln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894120" y="2716200"/>
              <a:ext cx="1287360" cy="0"/>
            </a:xfrm>
            <a:prstGeom prst="line">
              <a:avLst/>
            </a:prstGeom>
            <a:ln w="2556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443640" y="1141560"/>
            <a:ext cx="357120" cy="385920"/>
            <a:chOff x="6443640" y="1141560"/>
            <a:chExt cx="357120" cy="385920"/>
          </a:xfrm>
        </p:grpSpPr>
        <p:sp>
          <p:nvSpPr>
            <p:cNvPr id="796" name=""/>
            <p:cNvSpPr/>
            <p:nvPr/>
          </p:nvSpPr>
          <p:spPr>
            <a:xfrm>
              <a:off x="6443640" y="1160640"/>
              <a:ext cx="357120" cy="366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 txBox="1"/>
            <p:nvPr/>
          </p:nvSpPr>
          <p:spPr>
            <a:xfrm>
              <a:off x="6461280" y="1141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443640" y="1967040"/>
            <a:ext cx="357120" cy="388800"/>
            <a:chOff x="6443640" y="1967040"/>
            <a:chExt cx="357120" cy="388800"/>
          </a:xfrm>
        </p:grpSpPr>
        <p:sp>
          <p:nvSpPr>
            <p:cNvPr id="799" name=""/>
            <p:cNvSpPr/>
            <p:nvPr/>
          </p:nvSpPr>
          <p:spPr>
            <a:xfrm>
              <a:off x="6443640" y="1986120"/>
              <a:ext cx="357120" cy="3697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 txBox="1"/>
            <p:nvPr/>
          </p:nvSpPr>
          <p:spPr>
            <a:xfrm>
              <a:off x="6461280" y="196704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6500880" y="2855880"/>
            <a:ext cx="360360" cy="388800"/>
            <a:chOff x="6500880" y="2855880"/>
            <a:chExt cx="360360" cy="388800"/>
          </a:xfrm>
        </p:grpSpPr>
        <p:sp>
          <p:nvSpPr>
            <p:cNvPr id="802" name=""/>
            <p:cNvSpPr/>
            <p:nvPr/>
          </p:nvSpPr>
          <p:spPr>
            <a:xfrm>
              <a:off x="6500880" y="2876400"/>
              <a:ext cx="360360" cy="368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 txBox="1"/>
            <p:nvPr/>
          </p:nvSpPr>
          <p:spPr>
            <a:xfrm>
              <a:off x="6521400" y="285588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6443640" y="3774960"/>
            <a:ext cx="357120" cy="388800"/>
            <a:chOff x="6443640" y="3774960"/>
            <a:chExt cx="357120" cy="388800"/>
          </a:xfrm>
        </p:grpSpPr>
        <p:sp>
          <p:nvSpPr>
            <p:cNvPr id="805" name=""/>
            <p:cNvSpPr/>
            <p:nvPr/>
          </p:nvSpPr>
          <p:spPr>
            <a:xfrm>
              <a:off x="6443640" y="3794040"/>
              <a:ext cx="357120" cy="3697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 txBox="1"/>
            <p:nvPr/>
          </p:nvSpPr>
          <p:spPr>
            <a:xfrm>
              <a:off x="6461280" y="37749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5367240" y="2503440"/>
            <a:ext cx="358920" cy="387360"/>
            <a:chOff x="5367240" y="2503440"/>
            <a:chExt cx="358920" cy="387360"/>
          </a:xfrm>
        </p:grpSpPr>
        <p:sp>
          <p:nvSpPr>
            <p:cNvPr id="808" name=""/>
            <p:cNvSpPr/>
            <p:nvPr/>
          </p:nvSpPr>
          <p:spPr>
            <a:xfrm>
              <a:off x="5367240" y="2523960"/>
              <a:ext cx="358920" cy="366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 txBox="1"/>
            <p:nvPr/>
          </p:nvSpPr>
          <p:spPr>
            <a:xfrm>
              <a:off x="5386320" y="250344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6443640" y="5630760"/>
            <a:ext cx="357120" cy="385920"/>
            <a:chOff x="6443640" y="5630760"/>
            <a:chExt cx="357120" cy="385920"/>
          </a:xfrm>
        </p:grpSpPr>
        <p:sp>
          <p:nvSpPr>
            <p:cNvPr id="811" name=""/>
            <p:cNvSpPr/>
            <p:nvPr/>
          </p:nvSpPr>
          <p:spPr>
            <a:xfrm>
              <a:off x="6443640" y="5648400"/>
              <a:ext cx="357120" cy="368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 txBox="1"/>
            <p:nvPr/>
          </p:nvSpPr>
          <p:spPr>
            <a:xfrm>
              <a:off x="6461280" y="56307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6443640" y="4602240"/>
            <a:ext cx="357120" cy="388800"/>
            <a:chOff x="6443640" y="4602240"/>
            <a:chExt cx="357120" cy="388800"/>
          </a:xfrm>
        </p:grpSpPr>
        <p:sp>
          <p:nvSpPr>
            <p:cNvPr id="814" name=""/>
            <p:cNvSpPr/>
            <p:nvPr/>
          </p:nvSpPr>
          <p:spPr>
            <a:xfrm>
              <a:off x="6443640" y="4622760"/>
              <a:ext cx="357120" cy="368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 txBox="1"/>
            <p:nvPr/>
          </p:nvSpPr>
          <p:spPr>
            <a:xfrm>
              <a:off x="6461280" y="460224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5457960" y="4800600"/>
            <a:ext cx="355680" cy="389160"/>
            <a:chOff x="5457960" y="4800600"/>
            <a:chExt cx="355680" cy="389160"/>
          </a:xfrm>
        </p:grpSpPr>
        <p:sp>
          <p:nvSpPr>
            <p:cNvPr id="817" name=""/>
            <p:cNvSpPr/>
            <p:nvPr/>
          </p:nvSpPr>
          <p:spPr>
            <a:xfrm>
              <a:off x="5457960" y="4822920"/>
              <a:ext cx="355680" cy="366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 txBox="1"/>
            <p:nvPr/>
          </p:nvSpPr>
          <p:spPr>
            <a:xfrm>
              <a:off x="5477040" y="480060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"/>
          <p:cNvSpPr/>
          <p:nvPr/>
        </p:nvSpPr>
        <p:spPr>
          <a:xfrm flipH="1">
            <a:off x="487440" y="4016520"/>
            <a:ext cx="2151000" cy="2743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84200" y="4294080"/>
            <a:ext cx="0" cy="18367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87440" y="6130800"/>
            <a:ext cx="4211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280040" y="4016520"/>
            <a:ext cx="266400" cy="7365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546440" y="4756320"/>
            <a:ext cx="0" cy="13744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60640" y="2898720"/>
            <a:ext cx="1025640" cy="12600"/>
          </a:xfrm>
          <a:prstGeom prst="line">
            <a:avLst/>
          </a:prstGeom>
          <a:ln w="2556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3278160" y="2687760"/>
            <a:ext cx="357120" cy="388800"/>
            <a:chOff x="3278160" y="2687760"/>
            <a:chExt cx="357120" cy="388800"/>
          </a:xfrm>
        </p:grpSpPr>
        <p:sp>
          <p:nvSpPr>
            <p:cNvPr id="826" name=""/>
            <p:cNvSpPr/>
            <p:nvPr/>
          </p:nvSpPr>
          <p:spPr>
            <a:xfrm>
              <a:off x="3278160" y="2708280"/>
              <a:ext cx="357120" cy="368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 txBox="1"/>
            <p:nvPr/>
          </p:nvSpPr>
          <p:spPr>
            <a:xfrm>
              <a:off x="3297240" y="26877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7426440" y="6113520"/>
            <a:ext cx="1442880" cy="350640"/>
            <a:chOff x="7426440" y="6113520"/>
            <a:chExt cx="1442880" cy="350640"/>
          </a:xfrm>
        </p:grpSpPr>
        <p:sp>
          <p:nvSpPr>
            <p:cNvPr id="829" name=""/>
            <p:cNvSpPr txBox="1"/>
            <p:nvPr/>
          </p:nvSpPr>
          <p:spPr>
            <a:xfrm>
              <a:off x="7426440" y="6235560"/>
              <a:ext cx="14223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emens AG, 08/12/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 txBox="1"/>
            <p:nvPr/>
          </p:nvSpPr>
          <p:spPr>
            <a:xfrm>
              <a:off x="7426440" y="6113520"/>
              <a:ext cx="14428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. Lackner, D. Stei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3265560" y="3430440"/>
            <a:ext cx="0" cy="889200"/>
          </a:xfrm>
          <a:prstGeom prst="line">
            <a:avLst/>
          </a:prstGeom>
          <a:ln w="2556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2325600" y="1954080"/>
            <a:ext cx="18921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PTA End-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Device</a:t>
            </a:r>
            <a:br>
              <a:rPr sz="2000"/>
            </a:br>
            <a:r>
              <a:rPr b="0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( P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PI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Navig-S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FIPA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1981080"/>
            <a:ext cx="7772400" cy="42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Agents are a technology field approaching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In many cases standardisation is the factor enabling wide deploy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Specifications must be produced before industries make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As a rule, systems are not specified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generic techonologies usable in differen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not the internal working but only the external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Personal Assist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Support the user in dail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set up appoin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intelligent” answer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manage 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interact with 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Distributed Appointment Scheduling (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meeting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meeting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travel to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1600200"/>
            <a:ext cx="7772400" cy="7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4572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DAS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34080" y="2824200"/>
            <a:ext cx="986040" cy="129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7391520" y="1219320"/>
            <a:ext cx="1066680" cy="11923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6556320" y="2289240"/>
            <a:ext cx="909720" cy="37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5486400" y="2209680"/>
            <a:ext cx="1371600" cy="13111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(User 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203640" y="2593800"/>
            <a:ext cx="2128680" cy="833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7467480" y="3733920"/>
            <a:ext cx="1295280" cy="10065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Travel Broker Age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5029200" y="4419720"/>
            <a:ext cx="1295280" cy="10065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Travel Broker Age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281400" y="3967200"/>
            <a:ext cx="1747800" cy="604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533520" y="3048120"/>
            <a:ext cx="1066680" cy="128124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Us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604880" y="3657600"/>
            <a:ext cx="604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7086600" y="838080"/>
            <a:ext cx="1066680" cy="128124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Use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6251400" y="1679400"/>
            <a:ext cx="909720" cy="376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7238880" y="4038480"/>
            <a:ext cx="1295280" cy="10065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Travel Broker Age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253200" y="2900520"/>
            <a:ext cx="985680" cy="129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5638680" y="3051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1143000" y="1447920"/>
            <a:ext cx="1066680" cy="39672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E-ma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762120" y="2209680"/>
            <a:ext cx="1066680" cy="39672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Ne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990720" y="5562720"/>
            <a:ext cx="2438280" cy="85392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Calendar  / di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(CA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429000" y="1905120"/>
            <a:ext cx="1295280" cy="70164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Address bo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3657600" y="5562720"/>
            <a:ext cx="2209680" cy="85392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Telephone / f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(TA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2590920" y="1371600"/>
            <a:ext cx="1066680" cy="39672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WW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304920" y="4724280"/>
            <a:ext cx="1828800" cy="70164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  <a:ea typeface="Arial"/>
              </a:rPr>
              <a:t>Other User Application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832040" y="2517840"/>
            <a:ext cx="530280" cy="530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212920" y="1832040"/>
            <a:ext cx="378000" cy="121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2822400" y="1755720"/>
            <a:ext cx="225720" cy="1292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508200" y="2670120"/>
            <a:ext cx="73080" cy="37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2135160" y="4344840"/>
            <a:ext cx="225360" cy="454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2819520" y="4421160"/>
            <a:ext cx="0" cy="1139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H="1" flipV="1">
            <a:off x="3278160" y="4344840"/>
            <a:ext cx="987480" cy="1140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2209680" y="3048120"/>
            <a:ext cx="1447920" cy="13111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assist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(User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5105520" y="1828800"/>
            <a:ext cx="1371600" cy="12668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0" dir="0" blurRad="0" rotWithShape="0">
              <a:srgbClr val="96969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assist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User 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Reference Model for 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41360" y="2355840"/>
            <a:ext cx="253044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a PA compri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CP1252"/>
              <a:buChar char=""/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intel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CP1252"/>
              <a:buChar char=""/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knowled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CP1252"/>
              <a:buChar char=""/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CP1252"/>
              <a:buChar char=""/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services/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2730600" y="2355840"/>
            <a:ext cx="546732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Audio/Video Entertainment &amp; Broadca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4205160" y="1676520"/>
            <a:ext cx="4718160" cy="497664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 txBox="1"/>
          <p:nvPr/>
        </p:nvSpPr>
        <p:spPr>
          <a:xfrm>
            <a:off x="457200" y="1981080"/>
            <a:ext cx="3809880" cy="42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just">
              <a:lnSpc>
                <a:spcPct val="9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rovides the user with an intelligent, adaptive interface facilitating new and improved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utomatic learning of the user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ersonalized multi-modal user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utonomous filtering and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negotiation of QoS (cost, urgency, bit-rate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Network Management and Provis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Dynamic VPN provisioning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 using agents represen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human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network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Parties involved negotiate about Cost and 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Overview of dynamic VPN provis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698400" cy="112392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1143000" y="2589120"/>
            <a:ext cx="879480" cy="5414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295280" y="2638440"/>
            <a:ext cx="573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571840" y="2589120"/>
            <a:ext cx="879480" cy="5414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2637000" y="263700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780000" y="2589120"/>
            <a:ext cx="879480" cy="5414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28960" y="263700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780000" y="3790800"/>
            <a:ext cx="879480" cy="5414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3794040" y="3828960"/>
            <a:ext cx="84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208480" y="2589120"/>
            <a:ext cx="880920" cy="5414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5224320" y="2637000"/>
            <a:ext cx="895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406600" y="2409840"/>
            <a:ext cx="2471760" cy="2162160"/>
          </a:xfrm>
          <a:prstGeom prst="rect">
            <a:avLst/>
          </a:prstGeom>
          <a:noFill/>
          <a:ln w="38160">
            <a:solidFill>
              <a:srgbClr val="ffffff"/>
            </a:solidFill>
            <a:custDash>
              <a:ds d="200000" sp="200000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208480" y="3790800"/>
            <a:ext cx="880920" cy="5414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5175360" y="3846600"/>
            <a:ext cx="94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571840" y="3790800"/>
            <a:ext cx="879480" cy="5414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2706840" y="3828960"/>
            <a:ext cx="59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143000" y="3790800"/>
            <a:ext cx="879480" cy="5414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1190520" y="382896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989600" y="2409840"/>
            <a:ext cx="1319040" cy="2162160"/>
          </a:xfrm>
          <a:prstGeom prst="rect">
            <a:avLst/>
          </a:prstGeom>
          <a:noFill/>
          <a:ln w="38160">
            <a:solidFill>
              <a:srgbClr val="ffffff"/>
            </a:solidFill>
            <a:custDash>
              <a:ds d="200000" sp="200000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922320" y="2409840"/>
            <a:ext cx="1319040" cy="2162160"/>
          </a:xfrm>
          <a:prstGeom prst="rect">
            <a:avLst/>
          </a:prstGeom>
          <a:noFill/>
          <a:ln w="38160">
            <a:solidFill>
              <a:srgbClr val="ffffff"/>
            </a:solidFill>
            <a:custDash>
              <a:ds d="200000" sp="200000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662360" y="2890800"/>
            <a:ext cx="546120" cy="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025720" y="2890800"/>
            <a:ext cx="546120" cy="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454560" y="2890800"/>
            <a:ext cx="325440" cy="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011400" y="3133800"/>
            <a:ext cx="0" cy="65700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19560" y="3133800"/>
            <a:ext cx="0" cy="65700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648400" y="3133800"/>
            <a:ext cx="0" cy="65700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582560" y="3133800"/>
            <a:ext cx="0" cy="65700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4660920" y="2530440"/>
            <a:ext cx="271440" cy="23652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662360" y="3013200"/>
            <a:ext cx="216000" cy="23652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2023920" y="2530440"/>
            <a:ext cx="270000" cy="23652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025720" y="3013200"/>
            <a:ext cx="216000" cy="23652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673680" y="2589120"/>
            <a:ext cx="879480" cy="5414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6762600" y="2627280"/>
            <a:ext cx="67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673680" y="3790800"/>
            <a:ext cx="879480" cy="54144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6791400" y="3828960"/>
            <a:ext cx="67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454800" y="2409840"/>
            <a:ext cx="1317600" cy="2162160"/>
          </a:xfrm>
          <a:prstGeom prst="rect">
            <a:avLst/>
          </a:prstGeom>
          <a:noFill/>
          <a:ln w="38160">
            <a:solidFill>
              <a:srgbClr val="ffffff"/>
            </a:solidFill>
            <a:custDash>
              <a:ds d="200000" sp="200000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7113600" y="3133800"/>
            <a:ext cx="0" cy="65700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02360" y="2905200"/>
            <a:ext cx="546120" cy="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" descr=""/>
          <p:cNvPicPr/>
          <p:nvPr/>
        </p:nvPicPr>
        <p:blipFill>
          <a:blip r:embed="rId2"/>
          <a:stretch/>
        </p:blipFill>
        <p:spPr>
          <a:xfrm>
            <a:off x="7972560" y="1905120"/>
            <a:ext cx="731880" cy="106848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3"/>
          <a:stretch/>
        </p:blipFill>
        <p:spPr>
          <a:xfrm>
            <a:off x="8124840" y="2057400"/>
            <a:ext cx="731880" cy="106848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4"/>
          <a:stretch/>
        </p:blipFill>
        <p:spPr>
          <a:xfrm>
            <a:off x="8277120" y="2209680"/>
            <a:ext cx="731880" cy="106848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 txBox="1"/>
          <p:nvPr/>
        </p:nvSpPr>
        <p:spPr>
          <a:xfrm>
            <a:off x="685800" y="4952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Agents representing different parties work together to provide services to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FIPA Work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1"/>
          <a:stretch/>
        </p:blipFill>
        <p:spPr>
          <a:xfrm>
            <a:off x="685800" y="2158920"/>
            <a:ext cx="7775640" cy="338616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 txBox="1"/>
          <p:nvPr/>
        </p:nvSpPr>
        <p:spPr>
          <a:xfrm>
            <a:off x="2727360" y="6080040"/>
            <a:ext cx="3646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drogo.cselt.stet.it/fip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Agent 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Aware of environment (virtual or physical) and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autonomously react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 to changes i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Effect changes in the environment (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goal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) by finding and executing appropriate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plans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(composed of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 actio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34000" y="2421000"/>
            <a:ext cx="2108160" cy="1587600"/>
          </a:xfrm>
          <a:custGeom>
            <a:avLst/>
            <a:gdLst/>
            <a:ahLst/>
            <a:rect l="0" t="0" r="r" b="b"/>
            <a:pathLst>
              <a:path w="5856" h="4410">
                <a:moveTo>
                  <a:pt x="0" y="2867"/>
                </a:moveTo>
                <a:lnTo>
                  <a:pt x="890" y="4410"/>
                </a:lnTo>
                <a:lnTo>
                  <a:pt x="5856" y="1542"/>
                </a:lnTo>
                <a:lnTo>
                  <a:pt x="4965" y="0"/>
                </a:lnTo>
                <a:lnTo>
                  <a:pt x="0" y="28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955960" y="2894040"/>
            <a:ext cx="2063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THUS,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1600200"/>
            <a:ext cx="7772400" cy="7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Need for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Achieve goals optim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Avoid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Ensure interoperability among heterogeneous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1600200"/>
            <a:ext cx="7772400" cy="7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http://www.cselt.it/fi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Need for standardisation identified in Apr.’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Similar to MPEG and DA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Low-cost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Drafts publicly available for 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Meetings open to all who con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1600200"/>
            <a:ext cx="7772400" cy="7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65080" y="955800"/>
            <a:ext cx="7407720" cy="5556600"/>
          </a:xfrm>
          <a:custGeom>
            <a:avLst/>
            <a:gdLst/>
            <a:ahLst/>
            <a:rect l="0" t="0" r="r" b="b"/>
            <a:pathLst>
              <a:path w="20577" h="15435">
                <a:moveTo>
                  <a:pt x="20577" y="3083"/>
                </a:moveTo>
                <a:lnTo>
                  <a:pt x="20577" y="0"/>
                </a:lnTo>
                <a:lnTo>
                  <a:pt x="0" y="0"/>
                </a:lnTo>
                <a:lnTo>
                  <a:pt x="0" y="15435"/>
                </a:lnTo>
                <a:lnTo>
                  <a:pt x="20577" y="15435"/>
                </a:lnTo>
                <a:lnTo>
                  <a:pt x="20577" y="12519"/>
                </a:lnTo>
                <a:lnTo>
                  <a:pt x="5142" y="12519"/>
                </a:lnTo>
                <a:lnTo>
                  <a:pt x="5142" y="3083"/>
                </a:lnTo>
                <a:lnTo>
                  <a:pt x="20577" y="3083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03400" y="2313000"/>
            <a:ext cx="4998960" cy="284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65520" y="2313000"/>
            <a:ext cx="3339000" cy="2843640"/>
          </a:xfrm>
          <a:custGeom>
            <a:avLst/>
            <a:gdLst/>
            <a:ahLst/>
            <a:rect l="0" t="0" r="r" b="b"/>
            <a:pathLst>
              <a:path w="9275" h="7899">
                <a:moveTo>
                  <a:pt x="0" y="2229"/>
                </a:moveTo>
                <a:lnTo>
                  <a:pt x="0" y="5666"/>
                </a:lnTo>
                <a:lnTo>
                  <a:pt x="136" y="5666"/>
                </a:lnTo>
                <a:lnTo>
                  <a:pt x="4977" y="5666"/>
                </a:lnTo>
                <a:lnTo>
                  <a:pt x="4977" y="7899"/>
                </a:lnTo>
                <a:lnTo>
                  <a:pt x="9275" y="7899"/>
                </a:lnTo>
                <a:lnTo>
                  <a:pt x="9275" y="0"/>
                </a:lnTo>
                <a:lnTo>
                  <a:pt x="4977" y="0"/>
                </a:lnTo>
                <a:lnTo>
                  <a:pt x="4977" y="2229"/>
                </a:lnTo>
                <a:lnTo>
                  <a:pt x="0" y="222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407280" y="5518080"/>
            <a:ext cx="1379160" cy="884160"/>
            <a:chOff x="6407280" y="5518080"/>
            <a:chExt cx="1379160" cy="884160"/>
          </a:xfrm>
        </p:grpSpPr>
        <p:sp>
          <p:nvSpPr>
            <p:cNvPr id="304" name=""/>
            <p:cNvSpPr/>
            <p:nvPr/>
          </p:nvSpPr>
          <p:spPr>
            <a:xfrm>
              <a:off x="6407280" y="5773680"/>
              <a:ext cx="1103400" cy="628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7381800" y="5518080"/>
              <a:ext cx="40464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111640" y="5519880"/>
            <a:ext cx="1377720" cy="882360"/>
            <a:chOff x="5111640" y="5519880"/>
            <a:chExt cx="1377720" cy="882360"/>
          </a:xfrm>
        </p:grpSpPr>
        <p:sp>
          <p:nvSpPr>
            <p:cNvPr id="307" name=""/>
            <p:cNvSpPr/>
            <p:nvPr/>
          </p:nvSpPr>
          <p:spPr>
            <a:xfrm>
              <a:off x="5111640" y="5773680"/>
              <a:ext cx="1103400" cy="628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6084720" y="5519880"/>
              <a:ext cx="40464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717640" y="5459400"/>
            <a:ext cx="1378080" cy="882720"/>
            <a:chOff x="2717640" y="5459400"/>
            <a:chExt cx="1378080" cy="882720"/>
          </a:xfrm>
        </p:grpSpPr>
        <p:sp>
          <p:nvSpPr>
            <p:cNvPr id="310" name=""/>
            <p:cNvSpPr/>
            <p:nvPr/>
          </p:nvSpPr>
          <p:spPr>
            <a:xfrm>
              <a:off x="2717640" y="5715000"/>
              <a:ext cx="1101600" cy="627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3691080" y="5459400"/>
              <a:ext cx="40464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 txBox="1"/>
          <p:nvPr/>
        </p:nvSpPr>
        <p:spPr>
          <a:xfrm>
            <a:off x="4060800" y="5759280"/>
            <a:ext cx="10098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Other 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40040" y="2684520"/>
            <a:ext cx="123840" cy="228456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28960" y="2379600"/>
            <a:ext cx="0" cy="27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28960" y="2313000"/>
            <a:ext cx="2344680" cy="68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28960" y="4473720"/>
            <a:ext cx="2344680" cy="68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1360" y="2251080"/>
            <a:ext cx="2098800" cy="125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89440" y="5091120"/>
            <a:ext cx="2100240" cy="12384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76640" y="5032440"/>
            <a:ext cx="800280" cy="861840"/>
          </a:xfrm>
          <a:prstGeom prst="line">
            <a:avLst/>
          </a:prstGeom>
          <a:ln w="101520">
            <a:solidFill>
              <a:srgbClr val="5f5f5f"/>
            </a:solidFill>
            <a:custDash>
              <a:ds d="400355" sp="400355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46560" y="4745160"/>
            <a:ext cx="168588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gent Inte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011240" y="1676520"/>
            <a:ext cx="1505160" cy="1467000"/>
            <a:chOff x="1011240" y="1676520"/>
            <a:chExt cx="1505160" cy="1467000"/>
          </a:xfrm>
        </p:grpSpPr>
        <p:sp>
          <p:nvSpPr>
            <p:cNvPr id="322" name=""/>
            <p:cNvSpPr/>
            <p:nvPr/>
          </p:nvSpPr>
          <p:spPr>
            <a:xfrm>
              <a:off x="1019160" y="1684440"/>
              <a:ext cx="1489320" cy="1451160"/>
            </a:xfrm>
            <a:custGeom>
              <a:avLst/>
              <a:gdLst/>
              <a:ahLst/>
              <a:rect l="0" t="0" r="r" b="b"/>
              <a:pathLst>
                <a:path w="4137" h="4031">
                  <a:moveTo>
                    <a:pt x="1165" y="1165"/>
                  </a:moveTo>
                  <a:lnTo>
                    <a:pt x="1134" y="1174"/>
                  </a:lnTo>
                  <a:lnTo>
                    <a:pt x="1103" y="1187"/>
                  </a:lnTo>
                  <a:lnTo>
                    <a:pt x="1072" y="1200"/>
                  </a:lnTo>
                  <a:lnTo>
                    <a:pt x="1041" y="1218"/>
                  </a:lnTo>
                  <a:lnTo>
                    <a:pt x="1019" y="1231"/>
                  </a:lnTo>
                  <a:lnTo>
                    <a:pt x="988" y="1249"/>
                  </a:lnTo>
                  <a:lnTo>
                    <a:pt x="966" y="1266"/>
                  </a:lnTo>
                  <a:lnTo>
                    <a:pt x="944" y="1280"/>
                  </a:lnTo>
                  <a:lnTo>
                    <a:pt x="927" y="1302"/>
                  </a:lnTo>
                  <a:lnTo>
                    <a:pt x="909" y="1324"/>
                  </a:lnTo>
                  <a:lnTo>
                    <a:pt x="891" y="1346"/>
                  </a:lnTo>
                  <a:lnTo>
                    <a:pt x="874" y="1364"/>
                  </a:lnTo>
                  <a:lnTo>
                    <a:pt x="865" y="1390"/>
                  </a:lnTo>
                  <a:lnTo>
                    <a:pt x="851" y="1412"/>
                  </a:lnTo>
                  <a:lnTo>
                    <a:pt x="843" y="1439"/>
                  </a:lnTo>
                  <a:lnTo>
                    <a:pt x="834" y="1465"/>
                  </a:lnTo>
                  <a:lnTo>
                    <a:pt x="825" y="1492"/>
                  </a:lnTo>
                  <a:lnTo>
                    <a:pt x="821" y="1518"/>
                  </a:lnTo>
                  <a:lnTo>
                    <a:pt x="812" y="1545"/>
                  </a:lnTo>
                  <a:lnTo>
                    <a:pt x="807" y="1571"/>
                  </a:lnTo>
                  <a:lnTo>
                    <a:pt x="807" y="1598"/>
                  </a:lnTo>
                  <a:lnTo>
                    <a:pt x="807" y="1624"/>
                  </a:lnTo>
                  <a:lnTo>
                    <a:pt x="807" y="1651"/>
                  </a:lnTo>
                  <a:lnTo>
                    <a:pt x="812" y="1686"/>
                  </a:lnTo>
                  <a:lnTo>
                    <a:pt x="812" y="1704"/>
                  </a:lnTo>
                  <a:lnTo>
                    <a:pt x="812" y="1730"/>
                  </a:lnTo>
                  <a:lnTo>
                    <a:pt x="825" y="1765"/>
                  </a:lnTo>
                  <a:lnTo>
                    <a:pt x="829" y="1796"/>
                  </a:lnTo>
                  <a:lnTo>
                    <a:pt x="834" y="1823"/>
                  </a:lnTo>
                  <a:lnTo>
                    <a:pt x="843" y="1845"/>
                  </a:lnTo>
                  <a:lnTo>
                    <a:pt x="851" y="1876"/>
                  </a:lnTo>
                  <a:lnTo>
                    <a:pt x="865" y="1898"/>
                  </a:lnTo>
                  <a:lnTo>
                    <a:pt x="834" y="1898"/>
                  </a:lnTo>
                  <a:lnTo>
                    <a:pt x="799" y="1902"/>
                  </a:lnTo>
                  <a:lnTo>
                    <a:pt x="772" y="1907"/>
                  </a:lnTo>
                  <a:lnTo>
                    <a:pt x="750" y="1915"/>
                  </a:lnTo>
                  <a:lnTo>
                    <a:pt x="719" y="1933"/>
                  </a:lnTo>
                  <a:lnTo>
                    <a:pt x="693" y="1955"/>
                  </a:lnTo>
                  <a:lnTo>
                    <a:pt x="679" y="1977"/>
                  </a:lnTo>
                  <a:lnTo>
                    <a:pt x="657" y="1995"/>
                  </a:lnTo>
                  <a:lnTo>
                    <a:pt x="644" y="2022"/>
                  </a:lnTo>
                  <a:lnTo>
                    <a:pt x="631" y="2049"/>
                  </a:lnTo>
                  <a:lnTo>
                    <a:pt x="618" y="2075"/>
                  </a:lnTo>
                  <a:lnTo>
                    <a:pt x="613" y="2111"/>
                  </a:lnTo>
                  <a:lnTo>
                    <a:pt x="609" y="2146"/>
                  </a:lnTo>
                  <a:lnTo>
                    <a:pt x="604" y="2172"/>
                  </a:lnTo>
                  <a:lnTo>
                    <a:pt x="609" y="2208"/>
                  </a:lnTo>
                  <a:lnTo>
                    <a:pt x="613" y="2243"/>
                  </a:lnTo>
                  <a:lnTo>
                    <a:pt x="578" y="2256"/>
                  </a:lnTo>
                  <a:lnTo>
                    <a:pt x="547" y="2274"/>
                  </a:lnTo>
                  <a:lnTo>
                    <a:pt x="516" y="2296"/>
                  </a:lnTo>
                  <a:lnTo>
                    <a:pt x="490" y="2314"/>
                  </a:lnTo>
                  <a:lnTo>
                    <a:pt x="463" y="2340"/>
                  </a:lnTo>
                  <a:lnTo>
                    <a:pt x="441" y="2367"/>
                  </a:lnTo>
                  <a:lnTo>
                    <a:pt x="423" y="2389"/>
                  </a:lnTo>
                  <a:lnTo>
                    <a:pt x="410" y="2415"/>
                  </a:lnTo>
                  <a:lnTo>
                    <a:pt x="397" y="2451"/>
                  </a:lnTo>
                  <a:lnTo>
                    <a:pt x="392" y="2477"/>
                  </a:lnTo>
                  <a:lnTo>
                    <a:pt x="384" y="2508"/>
                  </a:lnTo>
                  <a:lnTo>
                    <a:pt x="384" y="2534"/>
                  </a:lnTo>
                  <a:lnTo>
                    <a:pt x="392" y="2565"/>
                  </a:lnTo>
                  <a:lnTo>
                    <a:pt x="397" y="2596"/>
                  </a:lnTo>
                  <a:lnTo>
                    <a:pt x="406" y="2623"/>
                  </a:lnTo>
                  <a:lnTo>
                    <a:pt x="419" y="2649"/>
                  </a:lnTo>
                  <a:lnTo>
                    <a:pt x="384" y="2649"/>
                  </a:lnTo>
                  <a:lnTo>
                    <a:pt x="357" y="2654"/>
                  </a:lnTo>
                  <a:lnTo>
                    <a:pt x="322" y="2667"/>
                  </a:lnTo>
                  <a:lnTo>
                    <a:pt x="291" y="2671"/>
                  </a:lnTo>
                  <a:lnTo>
                    <a:pt x="260" y="2680"/>
                  </a:lnTo>
                  <a:lnTo>
                    <a:pt x="238" y="2693"/>
                  </a:lnTo>
                  <a:lnTo>
                    <a:pt x="207" y="2707"/>
                  </a:lnTo>
                  <a:lnTo>
                    <a:pt x="185" y="2724"/>
                  </a:lnTo>
                  <a:lnTo>
                    <a:pt x="163" y="2742"/>
                  </a:lnTo>
                  <a:lnTo>
                    <a:pt x="141" y="2760"/>
                  </a:lnTo>
                  <a:lnTo>
                    <a:pt x="119" y="2777"/>
                  </a:lnTo>
                  <a:lnTo>
                    <a:pt x="101" y="2799"/>
                  </a:lnTo>
                  <a:lnTo>
                    <a:pt x="88" y="2826"/>
                  </a:lnTo>
                  <a:lnTo>
                    <a:pt x="70" y="2852"/>
                  </a:lnTo>
                  <a:lnTo>
                    <a:pt x="57" y="2879"/>
                  </a:lnTo>
                  <a:lnTo>
                    <a:pt x="44" y="2905"/>
                  </a:lnTo>
                  <a:lnTo>
                    <a:pt x="30" y="2936"/>
                  </a:lnTo>
                  <a:lnTo>
                    <a:pt x="22" y="2963"/>
                  </a:lnTo>
                  <a:lnTo>
                    <a:pt x="13" y="2989"/>
                  </a:lnTo>
                  <a:lnTo>
                    <a:pt x="8" y="3020"/>
                  </a:lnTo>
                  <a:lnTo>
                    <a:pt x="4" y="3051"/>
                  </a:lnTo>
                  <a:lnTo>
                    <a:pt x="4" y="3077"/>
                  </a:lnTo>
                  <a:lnTo>
                    <a:pt x="0" y="3113"/>
                  </a:lnTo>
                  <a:lnTo>
                    <a:pt x="0" y="3144"/>
                  </a:lnTo>
                  <a:lnTo>
                    <a:pt x="0" y="3175"/>
                  </a:lnTo>
                  <a:lnTo>
                    <a:pt x="0" y="3205"/>
                  </a:lnTo>
                  <a:lnTo>
                    <a:pt x="4" y="3241"/>
                  </a:lnTo>
                  <a:lnTo>
                    <a:pt x="13" y="3267"/>
                  </a:lnTo>
                  <a:lnTo>
                    <a:pt x="22" y="3298"/>
                  </a:lnTo>
                  <a:lnTo>
                    <a:pt x="26" y="3329"/>
                  </a:lnTo>
                  <a:lnTo>
                    <a:pt x="39" y="3360"/>
                  </a:lnTo>
                  <a:lnTo>
                    <a:pt x="52" y="3386"/>
                  </a:lnTo>
                  <a:lnTo>
                    <a:pt x="39" y="3426"/>
                  </a:lnTo>
                  <a:lnTo>
                    <a:pt x="26" y="3466"/>
                  </a:lnTo>
                  <a:lnTo>
                    <a:pt x="22" y="3497"/>
                  </a:lnTo>
                  <a:lnTo>
                    <a:pt x="17" y="3537"/>
                  </a:lnTo>
                  <a:lnTo>
                    <a:pt x="13" y="3572"/>
                  </a:lnTo>
                  <a:lnTo>
                    <a:pt x="13" y="3612"/>
                  </a:lnTo>
                  <a:lnTo>
                    <a:pt x="13" y="3647"/>
                  </a:lnTo>
                  <a:lnTo>
                    <a:pt x="22" y="3682"/>
                  </a:lnTo>
                  <a:lnTo>
                    <a:pt x="30" y="3718"/>
                  </a:lnTo>
                  <a:lnTo>
                    <a:pt x="39" y="3748"/>
                  </a:lnTo>
                  <a:lnTo>
                    <a:pt x="52" y="3779"/>
                  </a:lnTo>
                  <a:lnTo>
                    <a:pt x="61" y="3810"/>
                  </a:lnTo>
                  <a:lnTo>
                    <a:pt x="79" y="3837"/>
                  </a:lnTo>
                  <a:lnTo>
                    <a:pt x="97" y="3868"/>
                  </a:lnTo>
                  <a:lnTo>
                    <a:pt x="119" y="3894"/>
                  </a:lnTo>
                  <a:lnTo>
                    <a:pt x="136" y="3912"/>
                  </a:lnTo>
                  <a:lnTo>
                    <a:pt x="158" y="3938"/>
                  </a:lnTo>
                  <a:lnTo>
                    <a:pt x="185" y="3960"/>
                  </a:lnTo>
                  <a:lnTo>
                    <a:pt x="211" y="3974"/>
                  </a:lnTo>
                  <a:lnTo>
                    <a:pt x="238" y="3991"/>
                  </a:lnTo>
                  <a:lnTo>
                    <a:pt x="260" y="4000"/>
                  </a:lnTo>
                  <a:lnTo>
                    <a:pt x="291" y="4013"/>
                  </a:lnTo>
                  <a:lnTo>
                    <a:pt x="322" y="4018"/>
                  </a:lnTo>
                  <a:lnTo>
                    <a:pt x="353" y="4031"/>
                  </a:lnTo>
                  <a:lnTo>
                    <a:pt x="379" y="4031"/>
                  </a:lnTo>
                  <a:lnTo>
                    <a:pt x="414" y="4031"/>
                  </a:lnTo>
                  <a:lnTo>
                    <a:pt x="450" y="4031"/>
                  </a:lnTo>
                  <a:lnTo>
                    <a:pt x="481" y="4018"/>
                  </a:lnTo>
                  <a:lnTo>
                    <a:pt x="516" y="4009"/>
                  </a:lnTo>
                  <a:lnTo>
                    <a:pt x="551" y="3996"/>
                  </a:lnTo>
                  <a:lnTo>
                    <a:pt x="587" y="3974"/>
                  </a:lnTo>
                  <a:lnTo>
                    <a:pt x="618" y="3956"/>
                  </a:lnTo>
                  <a:lnTo>
                    <a:pt x="657" y="3974"/>
                  </a:lnTo>
                  <a:lnTo>
                    <a:pt x="697" y="3987"/>
                  </a:lnTo>
                  <a:lnTo>
                    <a:pt x="741" y="4000"/>
                  </a:lnTo>
                  <a:lnTo>
                    <a:pt x="772" y="4013"/>
                  </a:lnTo>
                  <a:lnTo>
                    <a:pt x="812" y="4013"/>
                  </a:lnTo>
                  <a:lnTo>
                    <a:pt x="851" y="4013"/>
                  </a:lnTo>
                  <a:lnTo>
                    <a:pt x="891" y="4009"/>
                  </a:lnTo>
                  <a:lnTo>
                    <a:pt x="940" y="3996"/>
                  </a:lnTo>
                  <a:lnTo>
                    <a:pt x="980" y="3987"/>
                  </a:lnTo>
                  <a:lnTo>
                    <a:pt x="1015" y="3969"/>
                  </a:lnTo>
                  <a:lnTo>
                    <a:pt x="1055" y="3960"/>
                  </a:lnTo>
                  <a:lnTo>
                    <a:pt x="1094" y="3934"/>
                  </a:lnTo>
                  <a:lnTo>
                    <a:pt x="1125" y="3912"/>
                  </a:lnTo>
                  <a:lnTo>
                    <a:pt x="1160" y="3885"/>
                  </a:lnTo>
                  <a:lnTo>
                    <a:pt x="1200" y="3859"/>
                  </a:lnTo>
                  <a:lnTo>
                    <a:pt x="1236" y="3828"/>
                  </a:lnTo>
                  <a:lnTo>
                    <a:pt x="1266" y="3801"/>
                  </a:lnTo>
                  <a:lnTo>
                    <a:pt x="1297" y="3771"/>
                  </a:lnTo>
                  <a:lnTo>
                    <a:pt x="1328" y="3735"/>
                  </a:lnTo>
                  <a:lnTo>
                    <a:pt x="1355" y="3704"/>
                  </a:lnTo>
                  <a:lnTo>
                    <a:pt x="1381" y="3669"/>
                  </a:lnTo>
                  <a:lnTo>
                    <a:pt x="1408" y="3638"/>
                  </a:lnTo>
                  <a:lnTo>
                    <a:pt x="1425" y="3598"/>
                  </a:lnTo>
                  <a:lnTo>
                    <a:pt x="1452" y="3563"/>
                  </a:lnTo>
                  <a:lnTo>
                    <a:pt x="1465" y="3523"/>
                  </a:lnTo>
                  <a:lnTo>
                    <a:pt x="1474" y="3492"/>
                  </a:lnTo>
                  <a:lnTo>
                    <a:pt x="1492" y="3457"/>
                  </a:lnTo>
                  <a:lnTo>
                    <a:pt x="1500" y="3431"/>
                  </a:lnTo>
                  <a:lnTo>
                    <a:pt x="1505" y="3391"/>
                  </a:lnTo>
                  <a:lnTo>
                    <a:pt x="1509" y="3364"/>
                  </a:lnTo>
                  <a:lnTo>
                    <a:pt x="1509" y="3329"/>
                  </a:lnTo>
                  <a:lnTo>
                    <a:pt x="1505" y="3298"/>
                  </a:lnTo>
                  <a:lnTo>
                    <a:pt x="1527" y="3320"/>
                  </a:lnTo>
                  <a:lnTo>
                    <a:pt x="1540" y="3333"/>
                  </a:lnTo>
                  <a:lnTo>
                    <a:pt x="1562" y="3351"/>
                  </a:lnTo>
                  <a:lnTo>
                    <a:pt x="1575" y="3360"/>
                  </a:lnTo>
                  <a:lnTo>
                    <a:pt x="1589" y="3373"/>
                  </a:lnTo>
                  <a:lnTo>
                    <a:pt x="1611" y="3378"/>
                  </a:lnTo>
                  <a:lnTo>
                    <a:pt x="1633" y="3386"/>
                  </a:lnTo>
                  <a:lnTo>
                    <a:pt x="1650" y="3386"/>
                  </a:lnTo>
                  <a:lnTo>
                    <a:pt x="1673" y="3386"/>
                  </a:lnTo>
                  <a:lnTo>
                    <a:pt x="1690" y="3391"/>
                  </a:lnTo>
                  <a:lnTo>
                    <a:pt x="1717" y="3391"/>
                  </a:lnTo>
                  <a:lnTo>
                    <a:pt x="1734" y="3386"/>
                  </a:lnTo>
                  <a:lnTo>
                    <a:pt x="1748" y="3378"/>
                  </a:lnTo>
                  <a:lnTo>
                    <a:pt x="1770" y="3373"/>
                  </a:lnTo>
                  <a:lnTo>
                    <a:pt x="1787" y="3360"/>
                  </a:lnTo>
                  <a:lnTo>
                    <a:pt x="1805" y="3351"/>
                  </a:lnTo>
                  <a:lnTo>
                    <a:pt x="1823" y="3338"/>
                  </a:lnTo>
                  <a:lnTo>
                    <a:pt x="1840" y="3329"/>
                  </a:lnTo>
                  <a:lnTo>
                    <a:pt x="1858" y="3311"/>
                  </a:lnTo>
                  <a:lnTo>
                    <a:pt x="1876" y="3298"/>
                  </a:lnTo>
                  <a:lnTo>
                    <a:pt x="1889" y="3281"/>
                  </a:lnTo>
                  <a:lnTo>
                    <a:pt x="1902" y="3267"/>
                  </a:lnTo>
                  <a:lnTo>
                    <a:pt x="1920" y="3245"/>
                  </a:lnTo>
                  <a:lnTo>
                    <a:pt x="1933" y="3223"/>
                  </a:lnTo>
                  <a:lnTo>
                    <a:pt x="1937" y="3201"/>
                  </a:lnTo>
                  <a:lnTo>
                    <a:pt x="1955" y="3175"/>
                  </a:lnTo>
                  <a:lnTo>
                    <a:pt x="1964" y="3152"/>
                  </a:lnTo>
                  <a:lnTo>
                    <a:pt x="1968" y="3130"/>
                  </a:lnTo>
                  <a:lnTo>
                    <a:pt x="1977" y="3104"/>
                  </a:lnTo>
                  <a:lnTo>
                    <a:pt x="1982" y="3077"/>
                  </a:lnTo>
                  <a:lnTo>
                    <a:pt x="1990" y="3051"/>
                  </a:lnTo>
                  <a:lnTo>
                    <a:pt x="1990" y="3024"/>
                  </a:lnTo>
                  <a:lnTo>
                    <a:pt x="2008" y="3033"/>
                  </a:lnTo>
                  <a:lnTo>
                    <a:pt x="2035" y="3033"/>
                  </a:lnTo>
                  <a:lnTo>
                    <a:pt x="2057" y="3038"/>
                  </a:lnTo>
                  <a:lnTo>
                    <a:pt x="2080" y="3038"/>
                  </a:lnTo>
                  <a:lnTo>
                    <a:pt x="2102" y="3038"/>
                  </a:lnTo>
                  <a:lnTo>
                    <a:pt x="2124" y="3038"/>
                  </a:lnTo>
                  <a:lnTo>
                    <a:pt x="2141" y="3033"/>
                  </a:lnTo>
                  <a:lnTo>
                    <a:pt x="2164" y="3024"/>
                  </a:lnTo>
                  <a:lnTo>
                    <a:pt x="2190" y="3020"/>
                  </a:lnTo>
                  <a:lnTo>
                    <a:pt x="2208" y="3011"/>
                  </a:lnTo>
                  <a:lnTo>
                    <a:pt x="2230" y="3007"/>
                  </a:lnTo>
                  <a:lnTo>
                    <a:pt x="2247" y="2989"/>
                  </a:lnTo>
                  <a:lnTo>
                    <a:pt x="2265" y="2980"/>
                  </a:lnTo>
                  <a:lnTo>
                    <a:pt x="2283" y="2963"/>
                  </a:lnTo>
                  <a:lnTo>
                    <a:pt x="2296" y="2945"/>
                  </a:lnTo>
                  <a:lnTo>
                    <a:pt x="2318" y="2932"/>
                  </a:lnTo>
                  <a:lnTo>
                    <a:pt x="2331" y="2919"/>
                  </a:lnTo>
                  <a:lnTo>
                    <a:pt x="2349" y="2892"/>
                  </a:lnTo>
                  <a:lnTo>
                    <a:pt x="2362" y="2879"/>
                  </a:lnTo>
                  <a:lnTo>
                    <a:pt x="2375" y="2857"/>
                  </a:lnTo>
                  <a:lnTo>
                    <a:pt x="2384" y="2839"/>
                  </a:lnTo>
                  <a:lnTo>
                    <a:pt x="2398" y="2821"/>
                  </a:lnTo>
                  <a:lnTo>
                    <a:pt x="2406" y="2799"/>
                  </a:lnTo>
                  <a:lnTo>
                    <a:pt x="2415" y="2777"/>
                  </a:lnTo>
                  <a:lnTo>
                    <a:pt x="2415" y="2751"/>
                  </a:lnTo>
                  <a:lnTo>
                    <a:pt x="2428" y="2729"/>
                  </a:lnTo>
                  <a:lnTo>
                    <a:pt x="2433" y="2702"/>
                  </a:lnTo>
                  <a:lnTo>
                    <a:pt x="2433" y="2676"/>
                  </a:lnTo>
                  <a:lnTo>
                    <a:pt x="2433" y="2654"/>
                  </a:lnTo>
                  <a:lnTo>
                    <a:pt x="2433" y="2627"/>
                  </a:lnTo>
                  <a:lnTo>
                    <a:pt x="2433" y="2610"/>
                  </a:lnTo>
                  <a:lnTo>
                    <a:pt x="2433" y="2574"/>
                  </a:lnTo>
                  <a:lnTo>
                    <a:pt x="2464" y="2601"/>
                  </a:lnTo>
                  <a:lnTo>
                    <a:pt x="2486" y="2623"/>
                  </a:lnTo>
                  <a:lnTo>
                    <a:pt x="2517" y="2645"/>
                  </a:lnTo>
                  <a:lnTo>
                    <a:pt x="2548" y="2654"/>
                  </a:lnTo>
                  <a:lnTo>
                    <a:pt x="2583" y="2676"/>
                  </a:lnTo>
                  <a:lnTo>
                    <a:pt x="2618" y="2689"/>
                  </a:lnTo>
                  <a:lnTo>
                    <a:pt x="2649" y="2698"/>
                  </a:lnTo>
                  <a:lnTo>
                    <a:pt x="2684" y="2702"/>
                  </a:lnTo>
                  <a:lnTo>
                    <a:pt x="2720" y="2707"/>
                  </a:lnTo>
                  <a:lnTo>
                    <a:pt x="2755" y="2707"/>
                  </a:lnTo>
                  <a:lnTo>
                    <a:pt x="2790" y="2715"/>
                  </a:lnTo>
                  <a:lnTo>
                    <a:pt x="2830" y="2715"/>
                  </a:lnTo>
                  <a:lnTo>
                    <a:pt x="2865" y="2702"/>
                  </a:lnTo>
                  <a:lnTo>
                    <a:pt x="2905" y="2702"/>
                  </a:lnTo>
                  <a:lnTo>
                    <a:pt x="2941" y="2693"/>
                  </a:lnTo>
                  <a:lnTo>
                    <a:pt x="2980" y="2680"/>
                  </a:lnTo>
                  <a:lnTo>
                    <a:pt x="3011" y="2667"/>
                  </a:lnTo>
                  <a:lnTo>
                    <a:pt x="3046" y="2649"/>
                  </a:lnTo>
                  <a:lnTo>
                    <a:pt x="3077" y="2627"/>
                  </a:lnTo>
                  <a:lnTo>
                    <a:pt x="3108" y="2610"/>
                  </a:lnTo>
                  <a:lnTo>
                    <a:pt x="3144" y="2587"/>
                  </a:lnTo>
                  <a:lnTo>
                    <a:pt x="3179" y="2561"/>
                  </a:lnTo>
                  <a:lnTo>
                    <a:pt x="3205" y="2530"/>
                  </a:lnTo>
                  <a:lnTo>
                    <a:pt x="3232" y="2504"/>
                  </a:lnTo>
                  <a:lnTo>
                    <a:pt x="3258" y="2464"/>
                  </a:lnTo>
                  <a:lnTo>
                    <a:pt x="3285" y="2424"/>
                  </a:lnTo>
                  <a:lnTo>
                    <a:pt x="3302" y="2384"/>
                  </a:lnTo>
                  <a:lnTo>
                    <a:pt x="3329" y="2340"/>
                  </a:lnTo>
                  <a:lnTo>
                    <a:pt x="3347" y="2296"/>
                  </a:lnTo>
                  <a:lnTo>
                    <a:pt x="3364" y="2252"/>
                  </a:lnTo>
                  <a:lnTo>
                    <a:pt x="3378" y="2195"/>
                  </a:lnTo>
                  <a:lnTo>
                    <a:pt x="3386" y="2142"/>
                  </a:lnTo>
                  <a:lnTo>
                    <a:pt x="3422" y="2137"/>
                  </a:lnTo>
                  <a:lnTo>
                    <a:pt x="3448" y="2124"/>
                  </a:lnTo>
                  <a:lnTo>
                    <a:pt x="3475" y="2119"/>
                  </a:lnTo>
                  <a:lnTo>
                    <a:pt x="3497" y="2111"/>
                  </a:lnTo>
                  <a:lnTo>
                    <a:pt x="3519" y="2093"/>
                  </a:lnTo>
                  <a:lnTo>
                    <a:pt x="3532" y="2084"/>
                  </a:lnTo>
                  <a:lnTo>
                    <a:pt x="3545" y="2067"/>
                  </a:lnTo>
                  <a:lnTo>
                    <a:pt x="3567" y="2049"/>
                  </a:lnTo>
                  <a:lnTo>
                    <a:pt x="3572" y="2036"/>
                  </a:lnTo>
                  <a:lnTo>
                    <a:pt x="3581" y="2018"/>
                  </a:lnTo>
                  <a:lnTo>
                    <a:pt x="3585" y="1995"/>
                  </a:lnTo>
                  <a:lnTo>
                    <a:pt x="3598" y="1982"/>
                  </a:lnTo>
                  <a:lnTo>
                    <a:pt x="3598" y="1955"/>
                  </a:lnTo>
                  <a:lnTo>
                    <a:pt x="3603" y="1937"/>
                  </a:lnTo>
                  <a:lnTo>
                    <a:pt x="3603" y="1911"/>
                  </a:lnTo>
                  <a:lnTo>
                    <a:pt x="3598" y="1889"/>
                  </a:lnTo>
                  <a:lnTo>
                    <a:pt x="3625" y="1902"/>
                  </a:lnTo>
                  <a:lnTo>
                    <a:pt x="3656" y="1907"/>
                  </a:lnTo>
                  <a:lnTo>
                    <a:pt x="3687" y="1907"/>
                  </a:lnTo>
                  <a:lnTo>
                    <a:pt x="3722" y="1907"/>
                  </a:lnTo>
                  <a:lnTo>
                    <a:pt x="3748" y="1907"/>
                  </a:lnTo>
                  <a:lnTo>
                    <a:pt x="3775" y="1902"/>
                  </a:lnTo>
                  <a:lnTo>
                    <a:pt x="3806" y="1889"/>
                  </a:lnTo>
                  <a:lnTo>
                    <a:pt x="3837" y="1880"/>
                  </a:lnTo>
                  <a:lnTo>
                    <a:pt x="3868" y="1862"/>
                  </a:lnTo>
                  <a:lnTo>
                    <a:pt x="3890" y="1849"/>
                  </a:lnTo>
                  <a:lnTo>
                    <a:pt x="3921" y="1832"/>
                  </a:lnTo>
                  <a:lnTo>
                    <a:pt x="3951" y="1809"/>
                  </a:lnTo>
                  <a:lnTo>
                    <a:pt x="3969" y="1792"/>
                  </a:lnTo>
                  <a:lnTo>
                    <a:pt x="3991" y="1765"/>
                  </a:lnTo>
                  <a:lnTo>
                    <a:pt x="4013" y="1743"/>
                  </a:lnTo>
                  <a:lnTo>
                    <a:pt x="4035" y="1712"/>
                  </a:lnTo>
                  <a:lnTo>
                    <a:pt x="4053" y="1686"/>
                  </a:lnTo>
                  <a:lnTo>
                    <a:pt x="4071" y="1651"/>
                  </a:lnTo>
                  <a:lnTo>
                    <a:pt x="4088" y="1615"/>
                  </a:lnTo>
                  <a:lnTo>
                    <a:pt x="4106" y="1589"/>
                  </a:lnTo>
                  <a:lnTo>
                    <a:pt x="4115" y="1549"/>
                  </a:lnTo>
                  <a:lnTo>
                    <a:pt x="4119" y="1509"/>
                  </a:lnTo>
                  <a:lnTo>
                    <a:pt x="4128" y="1470"/>
                  </a:lnTo>
                  <a:lnTo>
                    <a:pt x="4137" y="1434"/>
                  </a:lnTo>
                  <a:lnTo>
                    <a:pt x="4137" y="1386"/>
                  </a:lnTo>
                  <a:lnTo>
                    <a:pt x="4137" y="1350"/>
                  </a:lnTo>
                  <a:lnTo>
                    <a:pt x="4128" y="1302"/>
                  </a:lnTo>
                  <a:lnTo>
                    <a:pt x="4124" y="1258"/>
                  </a:lnTo>
                  <a:lnTo>
                    <a:pt x="4115" y="1214"/>
                  </a:lnTo>
                  <a:lnTo>
                    <a:pt x="4102" y="1165"/>
                  </a:lnTo>
                  <a:lnTo>
                    <a:pt x="4084" y="1121"/>
                  </a:lnTo>
                  <a:lnTo>
                    <a:pt x="4066" y="1072"/>
                  </a:lnTo>
                  <a:lnTo>
                    <a:pt x="4079" y="1059"/>
                  </a:lnTo>
                  <a:lnTo>
                    <a:pt x="4088" y="1037"/>
                  </a:lnTo>
                  <a:lnTo>
                    <a:pt x="4106" y="1015"/>
                  </a:lnTo>
                  <a:lnTo>
                    <a:pt x="4110" y="993"/>
                  </a:lnTo>
                  <a:lnTo>
                    <a:pt x="4119" y="962"/>
                  </a:lnTo>
                  <a:lnTo>
                    <a:pt x="4119" y="935"/>
                  </a:lnTo>
                  <a:lnTo>
                    <a:pt x="4115" y="900"/>
                  </a:lnTo>
                  <a:lnTo>
                    <a:pt x="4115" y="874"/>
                  </a:lnTo>
                  <a:lnTo>
                    <a:pt x="4110" y="843"/>
                  </a:lnTo>
                  <a:lnTo>
                    <a:pt x="4093" y="803"/>
                  </a:lnTo>
                  <a:lnTo>
                    <a:pt x="4088" y="772"/>
                  </a:lnTo>
                  <a:lnTo>
                    <a:pt x="4075" y="746"/>
                  </a:lnTo>
                  <a:lnTo>
                    <a:pt x="4062" y="715"/>
                  </a:lnTo>
                  <a:lnTo>
                    <a:pt x="4040" y="688"/>
                  </a:lnTo>
                  <a:lnTo>
                    <a:pt x="4022" y="662"/>
                  </a:lnTo>
                  <a:lnTo>
                    <a:pt x="4000" y="644"/>
                  </a:lnTo>
                  <a:lnTo>
                    <a:pt x="3996" y="600"/>
                  </a:lnTo>
                  <a:lnTo>
                    <a:pt x="3987" y="560"/>
                  </a:lnTo>
                  <a:lnTo>
                    <a:pt x="3982" y="520"/>
                  </a:lnTo>
                  <a:lnTo>
                    <a:pt x="3969" y="481"/>
                  </a:lnTo>
                  <a:lnTo>
                    <a:pt x="3960" y="441"/>
                  </a:lnTo>
                  <a:lnTo>
                    <a:pt x="3947" y="406"/>
                  </a:lnTo>
                  <a:lnTo>
                    <a:pt x="3929" y="370"/>
                  </a:lnTo>
                  <a:lnTo>
                    <a:pt x="3912" y="331"/>
                  </a:lnTo>
                  <a:lnTo>
                    <a:pt x="3894" y="300"/>
                  </a:lnTo>
                  <a:lnTo>
                    <a:pt x="3872" y="264"/>
                  </a:lnTo>
                  <a:lnTo>
                    <a:pt x="3850" y="238"/>
                  </a:lnTo>
                  <a:lnTo>
                    <a:pt x="3828" y="203"/>
                  </a:lnTo>
                  <a:lnTo>
                    <a:pt x="3801" y="176"/>
                  </a:lnTo>
                  <a:lnTo>
                    <a:pt x="3775" y="150"/>
                  </a:lnTo>
                  <a:lnTo>
                    <a:pt x="3757" y="123"/>
                  </a:lnTo>
                  <a:lnTo>
                    <a:pt x="3731" y="105"/>
                  </a:lnTo>
                  <a:lnTo>
                    <a:pt x="3700" y="79"/>
                  </a:lnTo>
                  <a:lnTo>
                    <a:pt x="3673" y="66"/>
                  </a:lnTo>
                  <a:lnTo>
                    <a:pt x="3642" y="44"/>
                  </a:lnTo>
                  <a:lnTo>
                    <a:pt x="3612" y="35"/>
                  </a:lnTo>
                  <a:lnTo>
                    <a:pt x="3581" y="17"/>
                  </a:lnTo>
                  <a:lnTo>
                    <a:pt x="3554" y="13"/>
                  </a:lnTo>
                  <a:lnTo>
                    <a:pt x="3523" y="4"/>
                  </a:lnTo>
                  <a:lnTo>
                    <a:pt x="3488" y="0"/>
                  </a:lnTo>
                  <a:lnTo>
                    <a:pt x="3457" y="0"/>
                  </a:lnTo>
                  <a:lnTo>
                    <a:pt x="3426" y="4"/>
                  </a:lnTo>
                  <a:lnTo>
                    <a:pt x="3400" y="8"/>
                  </a:lnTo>
                  <a:lnTo>
                    <a:pt x="3369" y="8"/>
                  </a:lnTo>
                  <a:lnTo>
                    <a:pt x="3338" y="17"/>
                  </a:lnTo>
                  <a:lnTo>
                    <a:pt x="3307" y="35"/>
                  </a:lnTo>
                  <a:lnTo>
                    <a:pt x="3272" y="57"/>
                  </a:lnTo>
                  <a:lnTo>
                    <a:pt x="3245" y="70"/>
                  </a:lnTo>
                  <a:lnTo>
                    <a:pt x="3214" y="52"/>
                  </a:lnTo>
                  <a:lnTo>
                    <a:pt x="3183" y="39"/>
                  </a:lnTo>
                  <a:lnTo>
                    <a:pt x="3152" y="26"/>
                  </a:lnTo>
                  <a:lnTo>
                    <a:pt x="3117" y="13"/>
                  </a:lnTo>
                  <a:lnTo>
                    <a:pt x="3095" y="8"/>
                  </a:lnTo>
                  <a:lnTo>
                    <a:pt x="3069" y="8"/>
                  </a:lnTo>
                  <a:lnTo>
                    <a:pt x="3046" y="8"/>
                  </a:lnTo>
                  <a:lnTo>
                    <a:pt x="3020" y="13"/>
                  </a:lnTo>
                  <a:lnTo>
                    <a:pt x="2993" y="17"/>
                  </a:lnTo>
                  <a:lnTo>
                    <a:pt x="2976" y="35"/>
                  </a:lnTo>
                  <a:lnTo>
                    <a:pt x="2949" y="44"/>
                  </a:lnTo>
                  <a:lnTo>
                    <a:pt x="2932" y="66"/>
                  </a:lnTo>
                  <a:lnTo>
                    <a:pt x="2910" y="88"/>
                  </a:lnTo>
                  <a:lnTo>
                    <a:pt x="2896" y="114"/>
                  </a:lnTo>
                  <a:lnTo>
                    <a:pt x="2879" y="141"/>
                  </a:lnTo>
                  <a:lnTo>
                    <a:pt x="2865" y="176"/>
                  </a:lnTo>
                  <a:lnTo>
                    <a:pt x="2830" y="158"/>
                  </a:lnTo>
                  <a:lnTo>
                    <a:pt x="2799" y="145"/>
                  </a:lnTo>
                  <a:lnTo>
                    <a:pt x="2764" y="136"/>
                  </a:lnTo>
                  <a:lnTo>
                    <a:pt x="2733" y="123"/>
                  </a:lnTo>
                  <a:lnTo>
                    <a:pt x="2702" y="114"/>
                  </a:lnTo>
                  <a:lnTo>
                    <a:pt x="2667" y="105"/>
                  </a:lnTo>
                  <a:lnTo>
                    <a:pt x="2636" y="105"/>
                  </a:lnTo>
                  <a:lnTo>
                    <a:pt x="2605" y="92"/>
                  </a:lnTo>
                  <a:lnTo>
                    <a:pt x="2579" y="92"/>
                  </a:lnTo>
                  <a:lnTo>
                    <a:pt x="2548" y="97"/>
                  </a:lnTo>
                  <a:lnTo>
                    <a:pt x="2521" y="97"/>
                  </a:lnTo>
                  <a:lnTo>
                    <a:pt x="2486" y="105"/>
                  </a:lnTo>
                  <a:lnTo>
                    <a:pt x="2464" y="110"/>
                  </a:lnTo>
                  <a:lnTo>
                    <a:pt x="2433" y="119"/>
                  </a:lnTo>
                  <a:lnTo>
                    <a:pt x="2406" y="123"/>
                  </a:lnTo>
                  <a:lnTo>
                    <a:pt x="2384" y="136"/>
                  </a:lnTo>
                  <a:lnTo>
                    <a:pt x="2358" y="145"/>
                  </a:lnTo>
                  <a:lnTo>
                    <a:pt x="2331" y="163"/>
                  </a:lnTo>
                  <a:lnTo>
                    <a:pt x="2309" y="172"/>
                  </a:lnTo>
                  <a:lnTo>
                    <a:pt x="2283" y="194"/>
                  </a:lnTo>
                  <a:lnTo>
                    <a:pt x="2265" y="211"/>
                  </a:lnTo>
                  <a:lnTo>
                    <a:pt x="2243" y="229"/>
                  </a:lnTo>
                  <a:lnTo>
                    <a:pt x="2225" y="251"/>
                  </a:lnTo>
                  <a:lnTo>
                    <a:pt x="2203" y="273"/>
                  </a:lnTo>
                  <a:lnTo>
                    <a:pt x="2190" y="295"/>
                  </a:lnTo>
                  <a:lnTo>
                    <a:pt x="2168" y="322"/>
                  </a:lnTo>
                  <a:lnTo>
                    <a:pt x="2155" y="348"/>
                  </a:lnTo>
                  <a:lnTo>
                    <a:pt x="2137" y="375"/>
                  </a:lnTo>
                  <a:lnTo>
                    <a:pt x="2124" y="401"/>
                  </a:lnTo>
                  <a:lnTo>
                    <a:pt x="2115" y="428"/>
                  </a:lnTo>
                  <a:lnTo>
                    <a:pt x="2097" y="459"/>
                  </a:lnTo>
                  <a:lnTo>
                    <a:pt x="2089" y="494"/>
                  </a:lnTo>
                  <a:lnTo>
                    <a:pt x="2048" y="476"/>
                  </a:lnTo>
                  <a:lnTo>
                    <a:pt x="2004" y="463"/>
                  </a:lnTo>
                  <a:lnTo>
                    <a:pt x="1964" y="454"/>
                  </a:lnTo>
                  <a:lnTo>
                    <a:pt x="1924" y="450"/>
                  </a:lnTo>
                  <a:lnTo>
                    <a:pt x="1884" y="454"/>
                  </a:lnTo>
                  <a:lnTo>
                    <a:pt x="1845" y="450"/>
                  </a:lnTo>
                  <a:lnTo>
                    <a:pt x="1801" y="454"/>
                  </a:lnTo>
                  <a:lnTo>
                    <a:pt x="1761" y="463"/>
                  </a:lnTo>
                  <a:lnTo>
                    <a:pt x="1721" y="476"/>
                  </a:lnTo>
                  <a:lnTo>
                    <a:pt x="1681" y="485"/>
                  </a:lnTo>
                  <a:lnTo>
                    <a:pt x="1646" y="503"/>
                  </a:lnTo>
                  <a:lnTo>
                    <a:pt x="1606" y="520"/>
                  </a:lnTo>
                  <a:lnTo>
                    <a:pt x="1571" y="538"/>
                  </a:lnTo>
                  <a:lnTo>
                    <a:pt x="1531" y="565"/>
                  </a:lnTo>
                  <a:lnTo>
                    <a:pt x="1496" y="587"/>
                  </a:lnTo>
                  <a:lnTo>
                    <a:pt x="1465" y="613"/>
                  </a:lnTo>
                  <a:lnTo>
                    <a:pt x="1430" y="644"/>
                  </a:lnTo>
                  <a:lnTo>
                    <a:pt x="1394" y="675"/>
                  </a:lnTo>
                  <a:lnTo>
                    <a:pt x="1368" y="701"/>
                  </a:lnTo>
                  <a:lnTo>
                    <a:pt x="1341" y="732"/>
                  </a:lnTo>
                  <a:lnTo>
                    <a:pt x="1311" y="768"/>
                  </a:lnTo>
                  <a:lnTo>
                    <a:pt x="1293" y="803"/>
                  </a:lnTo>
                  <a:lnTo>
                    <a:pt x="1271" y="843"/>
                  </a:lnTo>
                  <a:lnTo>
                    <a:pt x="1249" y="874"/>
                  </a:lnTo>
                  <a:lnTo>
                    <a:pt x="1231" y="909"/>
                  </a:lnTo>
                  <a:lnTo>
                    <a:pt x="1218" y="949"/>
                  </a:lnTo>
                  <a:lnTo>
                    <a:pt x="1196" y="984"/>
                  </a:lnTo>
                  <a:lnTo>
                    <a:pt x="1187" y="1019"/>
                  </a:lnTo>
                  <a:lnTo>
                    <a:pt x="1178" y="1055"/>
                  </a:lnTo>
                  <a:lnTo>
                    <a:pt x="1174" y="1094"/>
                  </a:lnTo>
                  <a:lnTo>
                    <a:pt x="1165" y="1134"/>
                  </a:lnTo>
                  <a:lnTo>
                    <a:pt x="1165" y="1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03200" y="2095560"/>
              <a:ext cx="141480" cy="281520"/>
            </a:xfrm>
            <a:custGeom>
              <a:avLst/>
              <a:gdLst/>
              <a:ahLst/>
              <a:rect l="0" t="0" r="r" b="b"/>
              <a:pathLst>
                <a:path w="393" h="782">
                  <a:moveTo>
                    <a:pt x="71" y="782"/>
                  </a:moveTo>
                  <a:lnTo>
                    <a:pt x="89" y="751"/>
                  </a:lnTo>
                  <a:lnTo>
                    <a:pt x="80" y="724"/>
                  </a:lnTo>
                  <a:lnTo>
                    <a:pt x="66" y="707"/>
                  </a:lnTo>
                  <a:lnTo>
                    <a:pt x="62" y="680"/>
                  </a:lnTo>
                  <a:lnTo>
                    <a:pt x="57" y="653"/>
                  </a:lnTo>
                  <a:lnTo>
                    <a:pt x="49" y="627"/>
                  </a:lnTo>
                  <a:lnTo>
                    <a:pt x="44" y="600"/>
                  </a:lnTo>
                  <a:lnTo>
                    <a:pt x="40" y="568"/>
                  </a:lnTo>
                  <a:lnTo>
                    <a:pt x="40" y="537"/>
                  </a:lnTo>
                  <a:lnTo>
                    <a:pt x="40" y="515"/>
                  </a:lnTo>
                  <a:lnTo>
                    <a:pt x="31" y="484"/>
                  </a:lnTo>
                  <a:lnTo>
                    <a:pt x="31" y="462"/>
                  </a:lnTo>
                  <a:lnTo>
                    <a:pt x="40" y="435"/>
                  </a:lnTo>
                  <a:lnTo>
                    <a:pt x="44" y="404"/>
                  </a:lnTo>
                  <a:lnTo>
                    <a:pt x="49" y="382"/>
                  </a:lnTo>
                  <a:lnTo>
                    <a:pt x="53" y="355"/>
                  </a:lnTo>
                  <a:lnTo>
                    <a:pt x="57" y="333"/>
                  </a:lnTo>
                  <a:lnTo>
                    <a:pt x="66" y="306"/>
                  </a:lnTo>
                  <a:lnTo>
                    <a:pt x="80" y="280"/>
                  </a:lnTo>
                  <a:lnTo>
                    <a:pt x="89" y="262"/>
                  </a:lnTo>
                  <a:lnTo>
                    <a:pt x="102" y="240"/>
                  </a:lnTo>
                  <a:lnTo>
                    <a:pt x="111" y="218"/>
                  </a:lnTo>
                  <a:lnTo>
                    <a:pt x="133" y="196"/>
                  </a:lnTo>
                  <a:lnTo>
                    <a:pt x="151" y="172"/>
                  </a:lnTo>
                  <a:lnTo>
                    <a:pt x="169" y="150"/>
                  </a:lnTo>
                  <a:lnTo>
                    <a:pt x="187" y="137"/>
                  </a:lnTo>
                  <a:lnTo>
                    <a:pt x="215" y="119"/>
                  </a:lnTo>
                  <a:lnTo>
                    <a:pt x="241" y="106"/>
                  </a:lnTo>
                  <a:lnTo>
                    <a:pt x="259" y="88"/>
                  </a:lnTo>
                  <a:lnTo>
                    <a:pt x="295" y="70"/>
                  </a:lnTo>
                  <a:lnTo>
                    <a:pt x="322" y="62"/>
                  </a:lnTo>
                  <a:lnTo>
                    <a:pt x="357" y="44"/>
                  </a:lnTo>
                  <a:lnTo>
                    <a:pt x="393" y="35"/>
                  </a:lnTo>
                  <a:lnTo>
                    <a:pt x="380" y="0"/>
                  </a:lnTo>
                  <a:lnTo>
                    <a:pt x="339" y="13"/>
                  </a:lnTo>
                  <a:lnTo>
                    <a:pt x="308" y="26"/>
                  </a:lnTo>
                  <a:lnTo>
                    <a:pt x="277" y="35"/>
                  </a:lnTo>
                  <a:lnTo>
                    <a:pt x="246" y="53"/>
                  </a:lnTo>
                  <a:lnTo>
                    <a:pt x="219" y="66"/>
                  </a:lnTo>
                  <a:lnTo>
                    <a:pt x="197" y="88"/>
                  </a:lnTo>
                  <a:lnTo>
                    <a:pt x="169" y="106"/>
                  </a:lnTo>
                  <a:lnTo>
                    <a:pt x="142" y="124"/>
                  </a:lnTo>
                  <a:lnTo>
                    <a:pt x="124" y="141"/>
                  </a:lnTo>
                  <a:lnTo>
                    <a:pt x="107" y="164"/>
                  </a:lnTo>
                  <a:lnTo>
                    <a:pt x="93" y="190"/>
                  </a:lnTo>
                  <a:lnTo>
                    <a:pt x="71" y="213"/>
                  </a:lnTo>
                  <a:lnTo>
                    <a:pt x="57" y="240"/>
                  </a:lnTo>
                  <a:lnTo>
                    <a:pt x="49" y="267"/>
                  </a:lnTo>
                  <a:lnTo>
                    <a:pt x="40" y="289"/>
                  </a:lnTo>
                  <a:lnTo>
                    <a:pt x="26" y="320"/>
                  </a:lnTo>
                  <a:lnTo>
                    <a:pt x="17" y="342"/>
                  </a:lnTo>
                  <a:lnTo>
                    <a:pt x="13" y="369"/>
                  </a:lnTo>
                  <a:lnTo>
                    <a:pt x="4" y="400"/>
                  </a:lnTo>
                  <a:lnTo>
                    <a:pt x="4" y="426"/>
                  </a:lnTo>
                  <a:lnTo>
                    <a:pt x="4" y="453"/>
                  </a:lnTo>
                  <a:lnTo>
                    <a:pt x="0" y="479"/>
                  </a:lnTo>
                  <a:lnTo>
                    <a:pt x="0" y="510"/>
                  </a:lnTo>
                  <a:lnTo>
                    <a:pt x="0" y="542"/>
                  </a:lnTo>
                  <a:lnTo>
                    <a:pt x="4" y="568"/>
                  </a:lnTo>
                  <a:lnTo>
                    <a:pt x="8" y="600"/>
                  </a:lnTo>
                  <a:lnTo>
                    <a:pt x="13" y="631"/>
                  </a:lnTo>
                  <a:lnTo>
                    <a:pt x="17" y="658"/>
                  </a:lnTo>
                  <a:lnTo>
                    <a:pt x="26" y="684"/>
                  </a:lnTo>
                  <a:lnTo>
                    <a:pt x="40" y="715"/>
                  </a:lnTo>
                  <a:lnTo>
                    <a:pt x="49" y="738"/>
                  </a:lnTo>
                  <a:lnTo>
                    <a:pt x="57" y="769"/>
                  </a:lnTo>
                  <a:lnTo>
                    <a:pt x="71" y="742"/>
                  </a:lnTo>
                  <a:lnTo>
                    <a:pt x="57" y="769"/>
                  </a:lnTo>
                  <a:lnTo>
                    <a:pt x="62" y="769"/>
                  </a:lnTo>
                  <a:lnTo>
                    <a:pt x="66" y="782"/>
                  </a:lnTo>
                  <a:lnTo>
                    <a:pt x="71" y="782"/>
                  </a:lnTo>
                  <a:lnTo>
                    <a:pt x="84" y="782"/>
                  </a:lnTo>
                  <a:lnTo>
                    <a:pt x="89" y="769"/>
                  </a:lnTo>
                  <a:lnTo>
                    <a:pt x="93" y="764"/>
                  </a:lnTo>
                  <a:lnTo>
                    <a:pt x="89" y="751"/>
                  </a:lnTo>
                  <a:lnTo>
                    <a:pt x="71" y="7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31920" y="2359080"/>
              <a:ext cx="100440" cy="141480"/>
            </a:xfrm>
            <a:custGeom>
              <a:avLst/>
              <a:gdLst/>
              <a:ahLst/>
              <a:rect l="0" t="0" r="r" b="b"/>
              <a:pathLst>
                <a:path w="279" h="393">
                  <a:moveTo>
                    <a:pt x="26" y="393"/>
                  </a:moveTo>
                  <a:lnTo>
                    <a:pt x="40" y="371"/>
                  </a:lnTo>
                  <a:lnTo>
                    <a:pt x="31" y="331"/>
                  </a:lnTo>
                  <a:lnTo>
                    <a:pt x="31" y="304"/>
                  </a:lnTo>
                  <a:lnTo>
                    <a:pt x="31" y="273"/>
                  </a:lnTo>
                  <a:lnTo>
                    <a:pt x="40" y="241"/>
                  </a:lnTo>
                  <a:lnTo>
                    <a:pt x="49" y="215"/>
                  </a:lnTo>
                  <a:lnTo>
                    <a:pt x="53" y="187"/>
                  </a:lnTo>
                  <a:lnTo>
                    <a:pt x="62" y="160"/>
                  </a:lnTo>
                  <a:lnTo>
                    <a:pt x="86" y="133"/>
                  </a:lnTo>
                  <a:lnTo>
                    <a:pt x="99" y="111"/>
                  </a:lnTo>
                  <a:lnTo>
                    <a:pt x="121" y="93"/>
                  </a:lnTo>
                  <a:lnTo>
                    <a:pt x="139" y="80"/>
                  </a:lnTo>
                  <a:lnTo>
                    <a:pt x="166" y="62"/>
                  </a:lnTo>
                  <a:lnTo>
                    <a:pt x="189" y="53"/>
                  </a:lnTo>
                  <a:lnTo>
                    <a:pt x="217" y="40"/>
                  </a:lnTo>
                  <a:lnTo>
                    <a:pt x="252" y="40"/>
                  </a:lnTo>
                  <a:lnTo>
                    <a:pt x="279" y="40"/>
                  </a:lnTo>
                  <a:lnTo>
                    <a:pt x="279" y="4"/>
                  </a:lnTo>
                  <a:lnTo>
                    <a:pt x="243" y="0"/>
                  </a:lnTo>
                  <a:lnTo>
                    <a:pt x="207" y="4"/>
                  </a:lnTo>
                  <a:lnTo>
                    <a:pt x="180" y="13"/>
                  </a:lnTo>
                  <a:lnTo>
                    <a:pt x="148" y="26"/>
                  </a:lnTo>
                  <a:lnTo>
                    <a:pt x="126" y="40"/>
                  </a:lnTo>
                  <a:lnTo>
                    <a:pt x="99" y="57"/>
                  </a:lnTo>
                  <a:lnTo>
                    <a:pt x="72" y="84"/>
                  </a:lnTo>
                  <a:lnTo>
                    <a:pt x="53" y="107"/>
                  </a:lnTo>
                  <a:lnTo>
                    <a:pt x="40" y="138"/>
                  </a:lnTo>
                  <a:lnTo>
                    <a:pt x="22" y="165"/>
                  </a:lnTo>
                  <a:lnTo>
                    <a:pt x="8" y="197"/>
                  </a:lnTo>
                  <a:lnTo>
                    <a:pt x="4" y="228"/>
                  </a:lnTo>
                  <a:lnTo>
                    <a:pt x="0" y="264"/>
                  </a:lnTo>
                  <a:lnTo>
                    <a:pt x="0" y="299"/>
                  </a:lnTo>
                  <a:lnTo>
                    <a:pt x="4" y="331"/>
                  </a:lnTo>
                  <a:lnTo>
                    <a:pt x="8" y="371"/>
                  </a:lnTo>
                  <a:lnTo>
                    <a:pt x="13" y="348"/>
                  </a:lnTo>
                  <a:lnTo>
                    <a:pt x="8" y="371"/>
                  </a:lnTo>
                  <a:lnTo>
                    <a:pt x="8" y="380"/>
                  </a:lnTo>
                  <a:lnTo>
                    <a:pt x="17" y="384"/>
                  </a:lnTo>
                  <a:lnTo>
                    <a:pt x="22" y="393"/>
                  </a:lnTo>
                  <a:lnTo>
                    <a:pt x="26" y="384"/>
                  </a:lnTo>
                  <a:lnTo>
                    <a:pt x="31" y="393"/>
                  </a:lnTo>
                  <a:lnTo>
                    <a:pt x="40" y="380"/>
                  </a:lnTo>
                  <a:lnTo>
                    <a:pt x="40" y="375"/>
                  </a:lnTo>
                  <a:lnTo>
                    <a:pt x="40" y="371"/>
                  </a:lnTo>
                  <a:lnTo>
                    <a:pt x="26" y="3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50920" y="2482920"/>
              <a:ext cx="93960" cy="165600"/>
            </a:xfrm>
            <a:custGeom>
              <a:avLst/>
              <a:gdLst/>
              <a:ahLst/>
              <a:rect l="0" t="0" r="r" b="b"/>
              <a:pathLst>
                <a:path w="261" h="460">
                  <a:moveTo>
                    <a:pt x="58" y="460"/>
                  </a:moveTo>
                  <a:lnTo>
                    <a:pt x="67" y="429"/>
                  </a:lnTo>
                  <a:lnTo>
                    <a:pt x="53" y="402"/>
                  </a:lnTo>
                  <a:lnTo>
                    <a:pt x="49" y="376"/>
                  </a:lnTo>
                  <a:lnTo>
                    <a:pt x="40" y="349"/>
                  </a:lnTo>
                  <a:lnTo>
                    <a:pt x="40" y="317"/>
                  </a:lnTo>
                  <a:lnTo>
                    <a:pt x="40" y="294"/>
                  </a:lnTo>
                  <a:lnTo>
                    <a:pt x="44" y="268"/>
                  </a:lnTo>
                  <a:lnTo>
                    <a:pt x="49" y="241"/>
                  </a:lnTo>
                  <a:lnTo>
                    <a:pt x="58" y="210"/>
                  </a:lnTo>
                  <a:lnTo>
                    <a:pt x="67" y="188"/>
                  </a:lnTo>
                  <a:lnTo>
                    <a:pt x="94" y="161"/>
                  </a:lnTo>
                  <a:lnTo>
                    <a:pt x="112" y="134"/>
                  </a:lnTo>
                  <a:lnTo>
                    <a:pt x="135" y="116"/>
                  </a:lnTo>
                  <a:lnTo>
                    <a:pt x="162" y="89"/>
                  </a:lnTo>
                  <a:lnTo>
                    <a:pt x="193" y="66"/>
                  </a:lnTo>
                  <a:lnTo>
                    <a:pt x="229" y="53"/>
                  </a:lnTo>
                  <a:lnTo>
                    <a:pt x="261" y="40"/>
                  </a:lnTo>
                  <a:lnTo>
                    <a:pt x="243" y="0"/>
                  </a:lnTo>
                  <a:lnTo>
                    <a:pt x="207" y="13"/>
                  </a:lnTo>
                  <a:lnTo>
                    <a:pt x="171" y="35"/>
                  </a:lnTo>
                  <a:lnTo>
                    <a:pt x="140" y="57"/>
                  </a:lnTo>
                  <a:lnTo>
                    <a:pt x="112" y="80"/>
                  </a:lnTo>
                  <a:lnTo>
                    <a:pt x="85" y="106"/>
                  </a:lnTo>
                  <a:lnTo>
                    <a:pt x="58" y="130"/>
                  </a:lnTo>
                  <a:lnTo>
                    <a:pt x="40" y="161"/>
                  </a:lnTo>
                  <a:lnTo>
                    <a:pt x="26" y="192"/>
                  </a:lnTo>
                  <a:lnTo>
                    <a:pt x="13" y="219"/>
                  </a:lnTo>
                  <a:lnTo>
                    <a:pt x="4" y="250"/>
                  </a:lnTo>
                  <a:lnTo>
                    <a:pt x="0" y="285"/>
                  </a:lnTo>
                  <a:lnTo>
                    <a:pt x="4" y="317"/>
                  </a:lnTo>
                  <a:lnTo>
                    <a:pt x="4" y="349"/>
                  </a:lnTo>
                  <a:lnTo>
                    <a:pt x="13" y="389"/>
                  </a:lnTo>
                  <a:lnTo>
                    <a:pt x="22" y="420"/>
                  </a:lnTo>
                  <a:lnTo>
                    <a:pt x="44" y="447"/>
                  </a:lnTo>
                  <a:lnTo>
                    <a:pt x="53" y="420"/>
                  </a:lnTo>
                  <a:lnTo>
                    <a:pt x="44" y="447"/>
                  </a:lnTo>
                  <a:lnTo>
                    <a:pt x="44" y="451"/>
                  </a:lnTo>
                  <a:lnTo>
                    <a:pt x="53" y="460"/>
                  </a:lnTo>
                  <a:lnTo>
                    <a:pt x="58" y="460"/>
                  </a:lnTo>
                  <a:lnTo>
                    <a:pt x="62" y="460"/>
                  </a:lnTo>
                  <a:lnTo>
                    <a:pt x="76" y="451"/>
                  </a:lnTo>
                  <a:lnTo>
                    <a:pt x="76" y="447"/>
                  </a:lnTo>
                  <a:lnTo>
                    <a:pt x="67" y="438"/>
                  </a:lnTo>
                  <a:lnTo>
                    <a:pt x="67" y="429"/>
                  </a:lnTo>
                  <a:lnTo>
                    <a:pt x="58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11240" y="2631960"/>
              <a:ext cx="163800" cy="281520"/>
            </a:xfrm>
            <a:custGeom>
              <a:avLst/>
              <a:gdLst/>
              <a:ahLst/>
              <a:rect l="0" t="0" r="r" b="b"/>
              <a:pathLst>
                <a:path w="455" h="782">
                  <a:moveTo>
                    <a:pt x="89" y="769"/>
                  </a:moveTo>
                  <a:lnTo>
                    <a:pt x="89" y="751"/>
                  </a:lnTo>
                  <a:lnTo>
                    <a:pt x="75" y="720"/>
                  </a:lnTo>
                  <a:lnTo>
                    <a:pt x="66" y="693"/>
                  </a:lnTo>
                  <a:lnTo>
                    <a:pt x="57" y="667"/>
                  </a:lnTo>
                  <a:lnTo>
                    <a:pt x="48" y="636"/>
                  </a:lnTo>
                  <a:lnTo>
                    <a:pt x="44" y="605"/>
                  </a:lnTo>
                  <a:lnTo>
                    <a:pt x="40" y="577"/>
                  </a:lnTo>
                  <a:lnTo>
                    <a:pt x="31" y="542"/>
                  </a:lnTo>
                  <a:lnTo>
                    <a:pt x="31" y="510"/>
                  </a:lnTo>
                  <a:lnTo>
                    <a:pt x="40" y="484"/>
                  </a:lnTo>
                  <a:lnTo>
                    <a:pt x="31" y="453"/>
                  </a:lnTo>
                  <a:lnTo>
                    <a:pt x="40" y="422"/>
                  </a:lnTo>
                  <a:lnTo>
                    <a:pt x="48" y="395"/>
                  </a:lnTo>
                  <a:lnTo>
                    <a:pt x="48" y="369"/>
                  </a:lnTo>
                  <a:lnTo>
                    <a:pt x="57" y="333"/>
                  </a:lnTo>
                  <a:lnTo>
                    <a:pt x="66" y="306"/>
                  </a:lnTo>
                  <a:lnTo>
                    <a:pt x="84" y="280"/>
                  </a:lnTo>
                  <a:lnTo>
                    <a:pt x="93" y="253"/>
                  </a:lnTo>
                  <a:lnTo>
                    <a:pt x="106" y="227"/>
                  </a:lnTo>
                  <a:lnTo>
                    <a:pt x="120" y="209"/>
                  </a:lnTo>
                  <a:lnTo>
                    <a:pt x="138" y="186"/>
                  </a:lnTo>
                  <a:lnTo>
                    <a:pt x="155" y="159"/>
                  </a:lnTo>
                  <a:lnTo>
                    <a:pt x="173" y="141"/>
                  </a:lnTo>
                  <a:lnTo>
                    <a:pt x="200" y="119"/>
                  </a:lnTo>
                  <a:lnTo>
                    <a:pt x="218" y="106"/>
                  </a:lnTo>
                  <a:lnTo>
                    <a:pt x="245" y="88"/>
                  </a:lnTo>
                  <a:lnTo>
                    <a:pt x="268" y="79"/>
                  </a:lnTo>
                  <a:lnTo>
                    <a:pt x="294" y="62"/>
                  </a:lnTo>
                  <a:lnTo>
                    <a:pt x="326" y="53"/>
                  </a:lnTo>
                  <a:lnTo>
                    <a:pt x="357" y="44"/>
                  </a:lnTo>
                  <a:lnTo>
                    <a:pt x="388" y="35"/>
                  </a:lnTo>
                  <a:lnTo>
                    <a:pt x="419" y="35"/>
                  </a:lnTo>
                  <a:lnTo>
                    <a:pt x="455" y="35"/>
                  </a:lnTo>
                  <a:lnTo>
                    <a:pt x="446" y="0"/>
                  </a:lnTo>
                  <a:lnTo>
                    <a:pt x="410" y="0"/>
                  </a:lnTo>
                  <a:lnTo>
                    <a:pt x="379" y="0"/>
                  </a:lnTo>
                  <a:lnTo>
                    <a:pt x="343" y="8"/>
                  </a:lnTo>
                  <a:lnTo>
                    <a:pt x="312" y="13"/>
                  </a:lnTo>
                  <a:lnTo>
                    <a:pt x="281" y="26"/>
                  </a:lnTo>
                  <a:lnTo>
                    <a:pt x="250" y="39"/>
                  </a:lnTo>
                  <a:lnTo>
                    <a:pt x="218" y="53"/>
                  </a:lnTo>
                  <a:lnTo>
                    <a:pt x="200" y="70"/>
                  </a:lnTo>
                  <a:lnTo>
                    <a:pt x="173" y="88"/>
                  </a:lnTo>
                  <a:lnTo>
                    <a:pt x="155" y="110"/>
                  </a:lnTo>
                  <a:lnTo>
                    <a:pt x="129" y="133"/>
                  </a:lnTo>
                  <a:lnTo>
                    <a:pt x="115" y="150"/>
                  </a:lnTo>
                  <a:lnTo>
                    <a:pt x="89" y="177"/>
                  </a:lnTo>
                  <a:lnTo>
                    <a:pt x="75" y="209"/>
                  </a:lnTo>
                  <a:lnTo>
                    <a:pt x="57" y="236"/>
                  </a:lnTo>
                  <a:lnTo>
                    <a:pt x="48" y="262"/>
                  </a:lnTo>
                  <a:lnTo>
                    <a:pt x="40" y="293"/>
                  </a:lnTo>
                  <a:lnTo>
                    <a:pt x="26" y="320"/>
                  </a:lnTo>
                  <a:lnTo>
                    <a:pt x="17" y="351"/>
                  </a:lnTo>
                  <a:lnTo>
                    <a:pt x="13" y="382"/>
                  </a:lnTo>
                  <a:lnTo>
                    <a:pt x="8" y="417"/>
                  </a:lnTo>
                  <a:lnTo>
                    <a:pt x="4" y="448"/>
                  </a:lnTo>
                  <a:lnTo>
                    <a:pt x="4" y="479"/>
                  </a:lnTo>
                  <a:lnTo>
                    <a:pt x="0" y="510"/>
                  </a:lnTo>
                  <a:lnTo>
                    <a:pt x="0" y="542"/>
                  </a:lnTo>
                  <a:lnTo>
                    <a:pt x="4" y="577"/>
                  </a:lnTo>
                  <a:lnTo>
                    <a:pt x="8" y="609"/>
                  </a:lnTo>
                  <a:lnTo>
                    <a:pt x="17" y="640"/>
                  </a:lnTo>
                  <a:lnTo>
                    <a:pt x="22" y="671"/>
                  </a:lnTo>
                  <a:lnTo>
                    <a:pt x="31" y="711"/>
                  </a:lnTo>
                  <a:lnTo>
                    <a:pt x="48" y="738"/>
                  </a:lnTo>
                  <a:lnTo>
                    <a:pt x="53" y="769"/>
                  </a:lnTo>
                  <a:lnTo>
                    <a:pt x="57" y="747"/>
                  </a:lnTo>
                  <a:lnTo>
                    <a:pt x="53" y="769"/>
                  </a:lnTo>
                  <a:lnTo>
                    <a:pt x="62" y="773"/>
                  </a:lnTo>
                  <a:lnTo>
                    <a:pt x="66" y="782"/>
                  </a:lnTo>
                  <a:lnTo>
                    <a:pt x="80" y="782"/>
                  </a:lnTo>
                  <a:lnTo>
                    <a:pt x="84" y="782"/>
                  </a:lnTo>
                  <a:lnTo>
                    <a:pt x="89" y="773"/>
                  </a:lnTo>
                  <a:lnTo>
                    <a:pt x="89" y="769"/>
                  </a:lnTo>
                  <a:lnTo>
                    <a:pt x="93" y="760"/>
                  </a:lnTo>
                  <a:lnTo>
                    <a:pt x="89" y="751"/>
                  </a:lnTo>
                  <a:lnTo>
                    <a:pt x="89" y="7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19160" y="2898720"/>
              <a:ext cx="232200" cy="244800"/>
            </a:xfrm>
            <a:custGeom>
              <a:avLst/>
              <a:gdLst/>
              <a:ahLst/>
              <a:rect l="0" t="0" r="r" b="b"/>
              <a:pathLst>
                <a:path w="645" h="680">
                  <a:moveTo>
                    <a:pt x="632" y="564"/>
                  </a:moveTo>
                  <a:lnTo>
                    <a:pt x="619" y="564"/>
                  </a:lnTo>
                  <a:lnTo>
                    <a:pt x="579" y="586"/>
                  </a:lnTo>
                  <a:lnTo>
                    <a:pt x="548" y="604"/>
                  </a:lnTo>
                  <a:lnTo>
                    <a:pt x="517" y="613"/>
                  </a:lnTo>
                  <a:lnTo>
                    <a:pt x="485" y="631"/>
                  </a:lnTo>
                  <a:lnTo>
                    <a:pt x="449" y="635"/>
                  </a:lnTo>
                  <a:lnTo>
                    <a:pt x="413" y="635"/>
                  </a:lnTo>
                  <a:lnTo>
                    <a:pt x="387" y="640"/>
                  </a:lnTo>
                  <a:lnTo>
                    <a:pt x="356" y="635"/>
                  </a:lnTo>
                  <a:lnTo>
                    <a:pt x="329" y="631"/>
                  </a:lnTo>
                  <a:lnTo>
                    <a:pt x="294" y="622"/>
                  </a:lnTo>
                  <a:lnTo>
                    <a:pt x="267" y="613"/>
                  </a:lnTo>
                  <a:lnTo>
                    <a:pt x="245" y="604"/>
                  </a:lnTo>
                  <a:lnTo>
                    <a:pt x="218" y="586"/>
                  </a:lnTo>
                  <a:lnTo>
                    <a:pt x="196" y="564"/>
                  </a:lnTo>
                  <a:lnTo>
                    <a:pt x="174" y="551"/>
                  </a:lnTo>
                  <a:lnTo>
                    <a:pt x="146" y="529"/>
                  </a:lnTo>
                  <a:lnTo>
                    <a:pt x="128" y="506"/>
                  </a:lnTo>
                  <a:lnTo>
                    <a:pt x="106" y="480"/>
                  </a:lnTo>
                  <a:lnTo>
                    <a:pt x="97" y="453"/>
                  </a:lnTo>
                  <a:lnTo>
                    <a:pt x="75" y="427"/>
                  </a:lnTo>
                  <a:lnTo>
                    <a:pt x="62" y="400"/>
                  </a:lnTo>
                  <a:lnTo>
                    <a:pt x="57" y="369"/>
                  </a:lnTo>
                  <a:lnTo>
                    <a:pt x="48" y="332"/>
                  </a:lnTo>
                  <a:lnTo>
                    <a:pt x="44" y="301"/>
                  </a:lnTo>
                  <a:lnTo>
                    <a:pt x="31" y="270"/>
                  </a:lnTo>
                  <a:lnTo>
                    <a:pt x="31" y="235"/>
                  </a:lnTo>
                  <a:lnTo>
                    <a:pt x="31" y="199"/>
                  </a:lnTo>
                  <a:lnTo>
                    <a:pt x="31" y="164"/>
                  </a:lnTo>
                  <a:lnTo>
                    <a:pt x="35" y="133"/>
                  </a:lnTo>
                  <a:lnTo>
                    <a:pt x="48" y="88"/>
                  </a:lnTo>
                  <a:lnTo>
                    <a:pt x="53" y="57"/>
                  </a:lnTo>
                  <a:lnTo>
                    <a:pt x="66" y="17"/>
                  </a:lnTo>
                  <a:lnTo>
                    <a:pt x="35" y="0"/>
                  </a:lnTo>
                  <a:lnTo>
                    <a:pt x="22" y="35"/>
                  </a:lnTo>
                  <a:lnTo>
                    <a:pt x="13" y="79"/>
                  </a:lnTo>
                  <a:lnTo>
                    <a:pt x="4" y="119"/>
                  </a:lnTo>
                  <a:lnTo>
                    <a:pt x="0" y="159"/>
                  </a:lnTo>
                  <a:lnTo>
                    <a:pt x="0" y="195"/>
                  </a:lnTo>
                  <a:lnTo>
                    <a:pt x="0" y="235"/>
                  </a:lnTo>
                  <a:lnTo>
                    <a:pt x="0" y="270"/>
                  </a:lnTo>
                  <a:lnTo>
                    <a:pt x="4" y="301"/>
                  </a:lnTo>
                  <a:lnTo>
                    <a:pt x="13" y="347"/>
                  </a:lnTo>
                  <a:lnTo>
                    <a:pt x="22" y="378"/>
                  </a:lnTo>
                  <a:lnTo>
                    <a:pt x="35" y="413"/>
                  </a:lnTo>
                  <a:lnTo>
                    <a:pt x="53" y="440"/>
                  </a:lnTo>
                  <a:lnTo>
                    <a:pt x="66" y="475"/>
                  </a:lnTo>
                  <a:lnTo>
                    <a:pt x="88" y="502"/>
                  </a:lnTo>
                  <a:lnTo>
                    <a:pt x="106" y="533"/>
                  </a:lnTo>
                  <a:lnTo>
                    <a:pt x="128" y="555"/>
                  </a:lnTo>
                  <a:lnTo>
                    <a:pt x="150" y="582"/>
                  </a:lnTo>
                  <a:lnTo>
                    <a:pt x="178" y="604"/>
                  </a:lnTo>
                  <a:lnTo>
                    <a:pt x="205" y="617"/>
                  </a:lnTo>
                  <a:lnTo>
                    <a:pt x="227" y="640"/>
                  </a:lnTo>
                  <a:lnTo>
                    <a:pt x="258" y="649"/>
                  </a:lnTo>
                  <a:lnTo>
                    <a:pt x="289" y="662"/>
                  </a:lnTo>
                  <a:lnTo>
                    <a:pt x="325" y="666"/>
                  </a:lnTo>
                  <a:lnTo>
                    <a:pt x="351" y="671"/>
                  </a:lnTo>
                  <a:lnTo>
                    <a:pt x="387" y="680"/>
                  </a:lnTo>
                  <a:lnTo>
                    <a:pt x="422" y="680"/>
                  </a:lnTo>
                  <a:lnTo>
                    <a:pt x="453" y="671"/>
                  </a:lnTo>
                  <a:lnTo>
                    <a:pt x="490" y="666"/>
                  </a:lnTo>
                  <a:lnTo>
                    <a:pt x="530" y="649"/>
                  </a:lnTo>
                  <a:lnTo>
                    <a:pt x="565" y="640"/>
                  </a:lnTo>
                  <a:lnTo>
                    <a:pt x="596" y="617"/>
                  </a:lnTo>
                  <a:lnTo>
                    <a:pt x="636" y="595"/>
                  </a:lnTo>
                  <a:lnTo>
                    <a:pt x="619" y="604"/>
                  </a:lnTo>
                  <a:lnTo>
                    <a:pt x="636" y="595"/>
                  </a:lnTo>
                  <a:lnTo>
                    <a:pt x="645" y="595"/>
                  </a:lnTo>
                  <a:lnTo>
                    <a:pt x="645" y="586"/>
                  </a:lnTo>
                  <a:lnTo>
                    <a:pt x="645" y="582"/>
                  </a:lnTo>
                  <a:lnTo>
                    <a:pt x="645" y="569"/>
                  </a:lnTo>
                  <a:lnTo>
                    <a:pt x="632" y="569"/>
                  </a:lnTo>
                  <a:lnTo>
                    <a:pt x="632" y="564"/>
                  </a:lnTo>
                  <a:lnTo>
                    <a:pt x="619" y="564"/>
                  </a:lnTo>
                  <a:lnTo>
                    <a:pt x="632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39840" y="2865600"/>
              <a:ext cx="330480" cy="271800"/>
            </a:xfrm>
            <a:custGeom>
              <a:avLst/>
              <a:gdLst/>
              <a:ahLst/>
              <a:rect l="0" t="0" r="r" b="b"/>
              <a:pathLst>
                <a:path w="918" h="755">
                  <a:moveTo>
                    <a:pt x="909" y="4"/>
                  </a:moveTo>
                  <a:lnTo>
                    <a:pt x="873" y="17"/>
                  </a:lnTo>
                  <a:lnTo>
                    <a:pt x="887" y="44"/>
                  </a:lnTo>
                  <a:lnTo>
                    <a:pt x="882" y="70"/>
                  </a:lnTo>
                  <a:lnTo>
                    <a:pt x="873" y="102"/>
                  </a:lnTo>
                  <a:lnTo>
                    <a:pt x="873" y="137"/>
                  </a:lnTo>
                  <a:lnTo>
                    <a:pt x="860" y="168"/>
                  </a:lnTo>
                  <a:lnTo>
                    <a:pt x="851" y="199"/>
                  </a:lnTo>
                  <a:lnTo>
                    <a:pt x="842" y="230"/>
                  </a:lnTo>
                  <a:lnTo>
                    <a:pt x="825" y="270"/>
                  </a:lnTo>
                  <a:lnTo>
                    <a:pt x="807" y="306"/>
                  </a:lnTo>
                  <a:lnTo>
                    <a:pt x="780" y="337"/>
                  </a:lnTo>
                  <a:lnTo>
                    <a:pt x="758" y="368"/>
                  </a:lnTo>
                  <a:lnTo>
                    <a:pt x="732" y="409"/>
                  </a:lnTo>
                  <a:lnTo>
                    <a:pt x="705" y="444"/>
                  </a:lnTo>
                  <a:lnTo>
                    <a:pt x="670" y="471"/>
                  </a:lnTo>
                  <a:lnTo>
                    <a:pt x="643" y="506"/>
                  </a:lnTo>
                  <a:lnTo>
                    <a:pt x="612" y="533"/>
                  </a:lnTo>
                  <a:lnTo>
                    <a:pt x="577" y="559"/>
                  </a:lnTo>
                  <a:lnTo>
                    <a:pt x="546" y="586"/>
                  </a:lnTo>
                  <a:lnTo>
                    <a:pt x="506" y="608"/>
                  </a:lnTo>
                  <a:lnTo>
                    <a:pt x="470" y="635"/>
                  </a:lnTo>
                  <a:lnTo>
                    <a:pt x="434" y="657"/>
                  </a:lnTo>
                  <a:lnTo>
                    <a:pt x="389" y="675"/>
                  </a:lnTo>
                  <a:lnTo>
                    <a:pt x="354" y="684"/>
                  </a:lnTo>
                  <a:lnTo>
                    <a:pt x="314" y="692"/>
                  </a:lnTo>
                  <a:lnTo>
                    <a:pt x="279" y="706"/>
                  </a:lnTo>
                  <a:lnTo>
                    <a:pt x="239" y="715"/>
                  </a:lnTo>
                  <a:lnTo>
                    <a:pt x="194" y="710"/>
                  </a:lnTo>
                  <a:lnTo>
                    <a:pt x="159" y="706"/>
                  </a:lnTo>
                  <a:lnTo>
                    <a:pt x="124" y="706"/>
                  </a:lnTo>
                  <a:lnTo>
                    <a:pt x="88" y="692"/>
                  </a:lnTo>
                  <a:lnTo>
                    <a:pt x="48" y="679"/>
                  </a:lnTo>
                  <a:lnTo>
                    <a:pt x="13" y="657"/>
                  </a:lnTo>
                  <a:lnTo>
                    <a:pt x="0" y="692"/>
                  </a:lnTo>
                  <a:lnTo>
                    <a:pt x="39" y="710"/>
                  </a:lnTo>
                  <a:lnTo>
                    <a:pt x="70" y="732"/>
                  </a:lnTo>
                  <a:lnTo>
                    <a:pt x="119" y="741"/>
                  </a:lnTo>
                  <a:lnTo>
                    <a:pt x="159" y="746"/>
                  </a:lnTo>
                  <a:lnTo>
                    <a:pt x="203" y="746"/>
                  </a:lnTo>
                  <a:lnTo>
                    <a:pt x="243" y="755"/>
                  </a:lnTo>
                  <a:lnTo>
                    <a:pt x="283" y="746"/>
                  </a:lnTo>
                  <a:lnTo>
                    <a:pt x="323" y="737"/>
                  </a:lnTo>
                  <a:lnTo>
                    <a:pt x="363" y="728"/>
                  </a:lnTo>
                  <a:lnTo>
                    <a:pt x="407" y="710"/>
                  </a:lnTo>
                  <a:lnTo>
                    <a:pt x="443" y="688"/>
                  </a:lnTo>
                  <a:lnTo>
                    <a:pt x="483" y="666"/>
                  </a:lnTo>
                  <a:lnTo>
                    <a:pt x="523" y="648"/>
                  </a:lnTo>
                  <a:lnTo>
                    <a:pt x="563" y="621"/>
                  </a:lnTo>
                  <a:lnTo>
                    <a:pt x="594" y="599"/>
                  </a:lnTo>
                  <a:lnTo>
                    <a:pt x="630" y="568"/>
                  </a:lnTo>
                  <a:lnTo>
                    <a:pt x="670" y="533"/>
                  </a:lnTo>
                  <a:lnTo>
                    <a:pt x="696" y="502"/>
                  </a:lnTo>
                  <a:lnTo>
                    <a:pt x="732" y="471"/>
                  </a:lnTo>
                  <a:lnTo>
                    <a:pt x="758" y="435"/>
                  </a:lnTo>
                  <a:lnTo>
                    <a:pt x="785" y="400"/>
                  </a:lnTo>
                  <a:lnTo>
                    <a:pt x="811" y="359"/>
                  </a:lnTo>
                  <a:lnTo>
                    <a:pt x="834" y="332"/>
                  </a:lnTo>
                  <a:lnTo>
                    <a:pt x="856" y="288"/>
                  </a:lnTo>
                  <a:lnTo>
                    <a:pt x="869" y="257"/>
                  </a:lnTo>
                  <a:lnTo>
                    <a:pt x="887" y="217"/>
                  </a:lnTo>
                  <a:lnTo>
                    <a:pt x="900" y="181"/>
                  </a:lnTo>
                  <a:lnTo>
                    <a:pt x="909" y="146"/>
                  </a:lnTo>
                  <a:lnTo>
                    <a:pt x="918" y="115"/>
                  </a:lnTo>
                  <a:lnTo>
                    <a:pt x="918" y="84"/>
                  </a:lnTo>
                  <a:lnTo>
                    <a:pt x="918" y="44"/>
                  </a:lnTo>
                  <a:lnTo>
                    <a:pt x="918" y="17"/>
                  </a:lnTo>
                  <a:lnTo>
                    <a:pt x="882" y="31"/>
                  </a:lnTo>
                  <a:lnTo>
                    <a:pt x="918" y="17"/>
                  </a:lnTo>
                  <a:lnTo>
                    <a:pt x="909" y="8"/>
                  </a:lnTo>
                  <a:lnTo>
                    <a:pt x="904" y="0"/>
                  </a:lnTo>
                  <a:lnTo>
                    <a:pt x="900" y="0"/>
                  </a:lnTo>
                  <a:lnTo>
                    <a:pt x="896" y="0"/>
                  </a:lnTo>
                  <a:lnTo>
                    <a:pt x="887" y="4"/>
                  </a:lnTo>
                  <a:lnTo>
                    <a:pt x="882" y="8"/>
                  </a:lnTo>
                  <a:lnTo>
                    <a:pt x="882" y="13"/>
                  </a:lnTo>
                  <a:lnTo>
                    <a:pt x="873" y="17"/>
                  </a:lnTo>
                  <a:lnTo>
                    <a:pt x="90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5920" y="2765520"/>
              <a:ext cx="186120" cy="149760"/>
            </a:xfrm>
            <a:custGeom>
              <a:avLst/>
              <a:gdLst/>
              <a:ahLst/>
              <a:rect l="0" t="0" r="r" b="b"/>
              <a:pathLst>
                <a:path w="517" h="416">
                  <a:moveTo>
                    <a:pt x="504" y="0"/>
                  </a:moveTo>
                  <a:lnTo>
                    <a:pt x="486" y="13"/>
                  </a:lnTo>
                  <a:lnTo>
                    <a:pt x="482" y="40"/>
                  </a:lnTo>
                  <a:lnTo>
                    <a:pt x="473" y="66"/>
                  </a:lnTo>
                  <a:lnTo>
                    <a:pt x="469" y="89"/>
                  </a:lnTo>
                  <a:lnTo>
                    <a:pt x="464" y="116"/>
                  </a:lnTo>
                  <a:lnTo>
                    <a:pt x="460" y="139"/>
                  </a:lnTo>
                  <a:lnTo>
                    <a:pt x="446" y="165"/>
                  </a:lnTo>
                  <a:lnTo>
                    <a:pt x="442" y="188"/>
                  </a:lnTo>
                  <a:lnTo>
                    <a:pt x="424" y="201"/>
                  </a:lnTo>
                  <a:lnTo>
                    <a:pt x="415" y="223"/>
                  </a:lnTo>
                  <a:lnTo>
                    <a:pt x="406" y="246"/>
                  </a:lnTo>
                  <a:lnTo>
                    <a:pt x="387" y="263"/>
                  </a:lnTo>
                  <a:lnTo>
                    <a:pt x="374" y="286"/>
                  </a:lnTo>
                  <a:lnTo>
                    <a:pt x="361" y="295"/>
                  </a:lnTo>
                  <a:lnTo>
                    <a:pt x="339" y="304"/>
                  </a:lnTo>
                  <a:lnTo>
                    <a:pt x="325" y="322"/>
                  </a:lnTo>
                  <a:lnTo>
                    <a:pt x="307" y="331"/>
                  </a:lnTo>
                  <a:lnTo>
                    <a:pt x="290" y="345"/>
                  </a:lnTo>
                  <a:lnTo>
                    <a:pt x="267" y="349"/>
                  </a:lnTo>
                  <a:lnTo>
                    <a:pt x="254" y="358"/>
                  </a:lnTo>
                  <a:lnTo>
                    <a:pt x="232" y="367"/>
                  </a:lnTo>
                  <a:lnTo>
                    <a:pt x="218" y="371"/>
                  </a:lnTo>
                  <a:lnTo>
                    <a:pt x="205" y="371"/>
                  </a:lnTo>
                  <a:lnTo>
                    <a:pt x="178" y="371"/>
                  </a:lnTo>
                  <a:lnTo>
                    <a:pt x="165" y="371"/>
                  </a:lnTo>
                  <a:lnTo>
                    <a:pt x="143" y="367"/>
                  </a:lnTo>
                  <a:lnTo>
                    <a:pt x="124" y="358"/>
                  </a:lnTo>
                  <a:lnTo>
                    <a:pt x="106" y="354"/>
                  </a:lnTo>
                  <a:lnTo>
                    <a:pt x="93" y="345"/>
                  </a:lnTo>
                  <a:lnTo>
                    <a:pt x="71" y="331"/>
                  </a:lnTo>
                  <a:lnTo>
                    <a:pt x="57" y="322"/>
                  </a:lnTo>
                  <a:lnTo>
                    <a:pt x="44" y="304"/>
                  </a:lnTo>
                  <a:lnTo>
                    <a:pt x="26" y="286"/>
                  </a:lnTo>
                  <a:lnTo>
                    <a:pt x="0" y="313"/>
                  </a:lnTo>
                  <a:lnTo>
                    <a:pt x="17" y="331"/>
                  </a:lnTo>
                  <a:lnTo>
                    <a:pt x="40" y="349"/>
                  </a:lnTo>
                  <a:lnTo>
                    <a:pt x="57" y="367"/>
                  </a:lnTo>
                  <a:lnTo>
                    <a:pt x="80" y="380"/>
                  </a:lnTo>
                  <a:lnTo>
                    <a:pt x="97" y="394"/>
                  </a:lnTo>
                  <a:lnTo>
                    <a:pt x="120" y="398"/>
                  </a:lnTo>
                  <a:lnTo>
                    <a:pt x="138" y="403"/>
                  </a:lnTo>
                  <a:lnTo>
                    <a:pt x="161" y="416"/>
                  </a:lnTo>
                  <a:lnTo>
                    <a:pt x="183" y="416"/>
                  </a:lnTo>
                  <a:lnTo>
                    <a:pt x="205" y="416"/>
                  </a:lnTo>
                  <a:lnTo>
                    <a:pt x="223" y="407"/>
                  </a:lnTo>
                  <a:lnTo>
                    <a:pt x="245" y="403"/>
                  </a:lnTo>
                  <a:lnTo>
                    <a:pt x="263" y="398"/>
                  </a:lnTo>
                  <a:lnTo>
                    <a:pt x="285" y="394"/>
                  </a:lnTo>
                  <a:lnTo>
                    <a:pt x="307" y="380"/>
                  </a:lnTo>
                  <a:lnTo>
                    <a:pt x="325" y="371"/>
                  </a:lnTo>
                  <a:lnTo>
                    <a:pt x="347" y="358"/>
                  </a:lnTo>
                  <a:lnTo>
                    <a:pt x="365" y="345"/>
                  </a:lnTo>
                  <a:lnTo>
                    <a:pt x="383" y="327"/>
                  </a:lnTo>
                  <a:lnTo>
                    <a:pt x="402" y="313"/>
                  </a:lnTo>
                  <a:lnTo>
                    <a:pt x="411" y="290"/>
                  </a:lnTo>
                  <a:lnTo>
                    <a:pt x="428" y="268"/>
                  </a:lnTo>
                  <a:lnTo>
                    <a:pt x="446" y="250"/>
                  </a:lnTo>
                  <a:lnTo>
                    <a:pt x="455" y="228"/>
                  </a:lnTo>
                  <a:lnTo>
                    <a:pt x="469" y="210"/>
                  </a:lnTo>
                  <a:lnTo>
                    <a:pt x="482" y="183"/>
                  </a:lnTo>
                  <a:lnTo>
                    <a:pt x="491" y="161"/>
                  </a:lnTo>
                  <a:lnTo>
                    <a:pt x="500" y="125"/>
                  </a:lnTo>
                  <a:lnTo>
                    <a:pt x="504" y="107"/>
                  </a:lnTo>
                  <a:lnTo>
                    <a:pt x="517" y="80"/>
                  </a:lnTo>
                  <a:lnTo>
                    <a:pt x="517" y="44"/>
                  </a:lnTo>
                  <a:lnTo>
                    <a:pt x="517" y="26"/>
                  </a:lnTo>
                  <a:lnTo>
                    <a:pt x="495" y="40"/>
                  </a:lnTo>
                  <a:lnTo>
                    <a:pt x="517" y="26"/>
                  </a:lnTo>
                  <a:lnTo>
                    <a:pt x="517" y="8"/>
                  </a:lnTo>
                  <a:lnTo>
                    <a:pt x="517" y="4"/>
                  </a:lnTo>
                  <a:lnTo>
                    <a:pt x="504" y="0"/>
                  </a:lnTo>
                  <a:lnTo>
                    <a:pt x="500" y="0"/>
                  </a:lnTo>
                  <a:lnTo>
                    <a:pt x="495" y="0"/>
                  </a:lnTo>
                  <a:lnTo>
                    <a:pt x="491" y="4"/>
                  </a:lnTo>
                  <a:lnTo>
                    <a:pt x="486" y="4"/>
                  </a:lnTo>
                  <a:lnTo>
                    <a:pt x="486" y="13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33400" y="2603520"/>
              <a:ext cx="170280" cy="182880"/>
            </a:xfrm>
            <a:custGeom>
              <a:avLst/>
              <a:gdLst/>
              <a:ahLst/>
              <a:rect l="0" t="0" r="r" b="b"/>
              <a:pathLst>
                <a:path w="473" h="508">
                  <a:moveTo>
                    <a:pt x="460" y="4"/>
                  </a:moveTo>
                  <a:lnTo>
                    <a:pt x="438" y="26"/>
                  </a:lnTo>
                  <a:lnTo>
                    <a:pt x="438" y="44"/>
                  </a:lnTo>
                  <a:lnTo>
                    <a:pt x="438" y="71"/>
                  </a:lnTo>
                  <a:lnTo>
                    <a:pt x="438" y="93"/>
                  </a:lnTo>
                  <a:lnTo>
                    <a:pt x="438" y="120"/>
                  </a:lnTo>
                  <a:lnTo>
                    <a:pt x="429" y="146"/>
                  </a:lnTo>
                  <a:lnTo>
                    <a:pt x="429" y="164"/>
                  </a:lnTo>
                  <a:lnTo>
                    <a:pt x="420" y="186"/>
                  </a:lnTo>
                  <a:lnTo>
                    <a:pt x="415" y="213"/>
                  </a:lnTo>
                  <a:lnTo>
                    <a:pt x="411" y="226"/>
                  </a:lnTo>
                  <a:lnTo>
                    <a:pt x="398" y="253"/>
                  </a:lnTo>
                  <a:lnTo>
                    <a:pt x="389" y="276"/>
                  </a:lnTo>
                  <a:lnTo>
                    <a:pt x="375" y="299"/>
                  </a:lnTo>
                  <a:lnTo>
                    <a:pt x="367" y="312"/>
                  </a:lnTo>
                  <a:lnTo>
                    <a:pt x="348" y="334"/>
                  </a:lnTo>
                  <a:lnTo>
                    <a:pt x="334" y="347"/>
                  </a:lnTo>
                  <a:lnTo>
                    <a:pt x="321" y="365"/>
                  </a:lnTo>
                  <a:lnTo>
                    <a:pt x="303" y="383"/>
                  </a:lnTo>
                  <a:lnTo>
                    <a:pt x="290" y="392"/>
                  </a:lnTo>
                  <a:lnTo>
                    <a:pt x="276" y="405"/>
                  </a:lnTo>
                  <a:lnTo>
                    <a:pt x="254" y="419"/>
                  </a:lnTo>
                  <a:lnTo>
                    <a:pt x="236" y="432"/>
                  </a:lnTo>
                  <a:lnTo>
                    <a:pt x="214" y="441"/>
                  </a:lnTo>
                  <a:lnTo>
                    <a:pt x="192" y="445"/>
                  </a:lnTo>
                  <a:lnTo>
                    <a:pt x="174" y="454"/>
                  </a:lnTo>
                  <a:lnTo>
                    <a:pt x="152" y="459"/>
                  </a:lnTo>
                  <a:lnTo>
                    <a:pt x="134" y="463"/>
                  </a:lnTo>
                  <a:lnTo>
                    <a:pt x="111" y="468"/>
                  </a:lnTo>
                  <a:lnTo>
                    <a:pt x="93" y="468"/>
                  </a:lnTo>
                  <a:lnTo>
                    <a:pt x="66" y="468"/>
                  </a:lnTo>
                  <a:lnTo>
                    <a:pt x="48" y="459"/>
                  </a:lnTo>
                  <a:lnTo>
                    <a:pt x="26" y="459"/>
                  </a:lnTo>
                  <a:lnTo>
                    <a:pt x="8" y="454"/>
                  </a:lnTo>
                  <a:lnTo>
                    <a:pt x="0" y="494"/>
                  </a:lnTo>
                  <a:lnTo>
                    <a:pt x="22" y="499"/>
                  </a:lnTo>
                  <a:lnTo>
                    <a:pt x="48" y="499"/>
                  </a:lnTo>
                  <a:lnTo>
                    <a:pt x="66" y="499"/>
                  </a:lnTo>
                  <a:lnTo>
                    <a:pt x="93" y="508"/>
                  </a:lnTo>
                  <a:lnTo>
                    <a:pt x="125" y="508"/>
                  </a:lnTo>
                  <a:lnTo>
                    <a:pt x="143" y="499"/>
                  </a:lnTo>
                  <a:lnTo>
                    <a:pt x="165" y="499"/>
                  </a:lnTo>
                  <a:lnTo>
                    <a:pt x="187" y="490"/>
                  </a:lnTo>
                  <a:lnTo>
                    <a:pt x="210" y="490"/>
                  </a:lnTo>
                  <a:lnTo>
                    <a:pt x="236" y="472"/>
                  </a:lnTo>
                  <a:lnTo>
                    <a:pt x="250" y="463"/>
                  </a:lnTo>
                  <a:lnTo>
                    <a:pt x="276" y="454"/>
                  </a:lnTo>
                  <a:lnTo>
                    <a:pt x="294" y="441"/>
                  </a:lnTo>
                  <a:lnTo>
                    <a:pt x="308" y="428"/>
                  </a:lnTo>
                  <a:lnTo>
                    <a:pt x="330" y="410"/>
                  </a:lnTo>
                  <a:lnTo>
                    <a:pt x="343" y="392"/>
                  </a:lnTo>
                  <a:lnTo>
                    <a:pt x="362" y="383"/>
                  </a:lnTo>
                  <a:lnTo>
                    <a:pt x="380" y="361"/>
                  </a:lnTo>
                  <a:lnTo>
                    <a:pt x="398" y="339"/>
                  </a:lnTo>
                  <a:lnTo>
                    <a:pt x="407" y="321"/>
                  </a:lnTo>
                  <a:lnTo>
                    <a:pt x="415" y="299"/>
                  </a:lnTo>
                  <a:lnTo>
                    <a:pt x="429" y="272"/>
                  </a:lnTo>
                  <a:lnTo>
                    <a:pt x="442" y="253"/>
                  </a:lnTo>
                  <a:lnTo>
                    <a:pt x="451" y="231"/>
                  </a:lnTo>
                  <a:lnTo>
                    <a:pt x="456" y="204"/>
                  </a:lnTo>
                  <a:lnTo>
                    <a:pt x="460" y="173"/>
                  </a:lnTo>
                  <a:lnTo>
                    <a:pt x="473" y="151"/>
                  </a:lnTo>
                  <a:lnTo>
                    <a:pt x="473" y="133"/>
                  </a:lnTo>
                  <a:lnTo>
                    <a:pt x="473" y="97"/>
                  </a:lnTo>
                  <a:lnTo>
                    <a:pt x="473" y="80"/>
                  </a:lnTo>
                  <a:lnTo>
                    <a:pt x="464" y="44"/>
                  </a:lnTo>
                  <a:lnTo>
                    <a:pt x="464" y="17"/>
                  </a:lnTo>
                  <a:lnTo>
                    <a:pt x="442" y="40"/>
                  </a:lnTo>
                  <a:lnTo>
                    <a:pt x="464" y="17"/>
                  </a:lnTo>
                  <a:lnTo>
                    <a:pt x="460" y="13"/>
                  </a:lnTo>
                  <a:lnTo>
                    <a:pt x="460" y="4"/>
                  </a:lnTo>
                  <a:lnTo>
                    <a:pt x="451" y="4"/>
                  </a:lnTo>
                  <a:lnTo>
                    <a:pt x="447" y="0"/>
                  </a:lnTo>
                  <a:lnTo>
                    <a:pt x="442" y="4"/>
                  </a:lnTo>
                  <a:lnTo>
                    <a:pt x="438" y="4"/>
                  </a:lnTo>
                  <a:lnTo>
                    <a:pt x="429" y="13"/>
                  </a:lnTo>
                  <a:lnTo>
                    <a:pt x="438" y="26"/>
                  </a:lnTo>
                  <a:lnTo>
                    <a:pt x="46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90720" y="2449440"/>
              <a:ext cx="357480" cy="221040"/>
            </a:xfrm>
            <a:custGeom>
              <a:avLst/>
              <a:gdLst/>
              <a:ahLst/>
              <a:rect l="0" t="0" r="r" b="b"/>
              <a:pathLst>
                <a:path w="993" h="614">
                  <a:moveTo>
                    <a:pt x="971" y="0"/>
                  </a:moveTo>
                  <a:lnTo>
                    <a:pt x="962" y="8"/>
                  </a:lnTo>
                  <a:lnTo>
                    <a:pt x="944" y="62"/>
                  </a:lnTo>
                  <a:lnTo>
                    <a:pt x="931" y="115"/>
                  </a:lnTo>
                  <a:lnTo>
                    <a:pt x="917" y="160"/>
                  </a:lnTo>
                  <a:lnTo>
                    <a:pt x="895" y="205"/>
                  </a:lnTo>
                  <a:lnTo>
                    <a:pt x="873" y="249"/>
                  </a:lnTo>
                  <a:lnTo>
                    <a:pt x="851" y="294"/>
                  </a:lnTo>
                  <a:lnTo>
                    <a:pt x="829" y="325"/>
                  </a:lnTo>
                  <a:lnTo>
                    <a:pt x="802" y="360"/>
                  </a:lnTo>
                  <a:lnTo>
                    <a:pt x="776" y="391"/>
                  </a:lnTo>
                  <a:lnTo>
                    <a:pt x="745" y="418"/>
                  </a:lnTo>
                  <a:lnTo>
                    <a:pt x="714" y="440"/>
                  </a:lnTo>
                  <a:lnTo>
                    <a:pt x="683" y="468"/>
                  </a:lnTo>
                  <a:lnTo>
                    <a:pt x="656" y="490"/>
                  </a:lnTo>
                  <a:lnTo>
                    <a:pt x="621" y="508"/>
                  </a:lnTo>
                  <a:lnTo>
                    <a:pt x="585" y="521"/>
                  </a:lnTo>
                  <a:lnTo>
                    <a:pt x="550" y="539"/>
                  </a:lnTo>
                  <a:lnTo>
                    <a:pt x="514" y="548"/>
                  </a:lnTo>
                  <a:lnTo>
                    <a:pt x="478" y="561"/>
                  </a:lnTo>
                  <a:lnTo>
                    <a:pt x="442" y="566"/>
                  </a:lnTo>
                  <a:lnTo>
                    <a:pt x="403" y="570"/>
                  </a:lnTo>
                  <a:lnTo>
                    <a:pt x="367" y="570"/>
                  </a:lnTo>
                  <a:lnTo>
                    <a:pt x="336" y="570"/>
                  </a:lnTo>
                  <a:lnTo>
                    <a:pt x="305" y="566"/>
                  </a:lnTo>
                  <a:lnTo>
                    <a:pt x="261" y="561"/>
                  </a:lnTo>
                  <a:lnTo>
                    <a:pt x="230" y="552"/>
                  </a:lnTo>
                  <a:lnTo>
                    <a:pt x="194" y="543"/>
                  </a:lnTo>
                  <a:lnTo>
                    <a:pt x="163" y="535"/>
                  </a:lnTo>
                  <a:lnTo>
                    <a:pt x="132" y="517"/>
                  </a:lnTo>
                  <a:lnTo>
                    <a:pt x="101" y="499"/>
                  </a:lnTo>
                  <a:lnTo>
                    <a:pt x="70" y="486"/>
                  </a:lnTo>
                  <a:lnTo>
                    <a:pt x="44" y="463"/>
                  </a:lnTo>
                  <a:lnTo>
                    <a:pt x="17" y="436"/>
                  </a:lnTo>
                  <a:lnTo>
                    <a:pt x="0" y="472"/>
                  </a:lnTo>
                  <a:lnTo>
                    <a:pt x="26" y="495"/>
                  </a:lnTo>
                  <a:lnTo>
                    <a:pt x="57" y="517"/>
                  </a:lnTo>
                  <a:lnTo>
                    <a:pt x="88" y="539"/>
                  </a:lnTo>
                  <a:lnTo>
                    <a:pt x="124" y="552"/>
                  </a:lnTo>
                  <a:lnTo>
                    <a:pt x="159" y="570"/>
                  </a:lnTo>
                  <a:lnTo>
                    <a:pt x="194" y="579"/>
                  </a:lnTo>
                  <a:lnTo>
                    <a:pt x="221" y="592"/>
                  </a:lnTo>
                  <a:lnTo>
                    <a:pt x="261" y="597"/>
                  </a:lnTo>
                  <a:lnTo>
                    <a:pt x="296" y="606"/>
                  </a:lnTo>
                  <a:lnTo>
                    <a:pt x="332" y="614"/>
                  </a:lnTo>
                  <a:lnTo>
                    <a:pt x="372" y="606"/>
                  </a:lnTo>
                  <a:lnTo>
                    <a:pt x="411" y="606"/>
                  </a:lnTo>
                  <a:lnTo>
                    <a:pt x="447" y="601"/>
                  </a:lnTo>
                  <a:lnTo>
                    <a:pt x="487" y="601"/>
                  </a:lnTo>
                  <a:lnTo>
                    <a:pt x="523" y="588"/>
                  </a:lnTo>
                  <a:lnTo>
                    <a:pt x="559" y="579"/>
                  </a:lnTo>
                  <a:lnTo>
                    <a:pt x="598" y="561"/>
                  </a:lnTo>
                  <a:lnTo>
                    <a:pt x="634" y="543"/>
                  </a:lnTo>
                  <a:lnTo>
                    <a:pt x="669" y="526"/>
                  </a:lnTo>
                  <a:lnTo>
                    <a:pt x="705" y="499"/>
                  </a:lnTo>
                  <a:lnTo>
                    <a:pt x="740" y="481"/>
                  </a:lnTo>
                  <a:lnTo>
                    <a:pt x="771" y="445"/>
                  </a:lnTo>
                  <a:lnTo>
                    <a:pt x="802" y="418"/>
                  </a:lnTo>
                  <a:lnTo>
                    <a:pt x="829" y="387"/>
                  </a:lnTo>
                  <a:lnTo>
                    <a:pt x="860" y="351"/>
                  </a:lnTo>
                  <a:lnTo>
                    <a:pt x="882" y="320"/>
                  </a:lnTo>
                  <a:lnTo>
                    <a:pt x="904" y="271"/>
                  </a:lnTo>
                  <a:lnTo>
                    <a:pt x="926" y="223"/>
                  </a:lnTo>
                  <a:lnTo>
                    <a:pt x="944" y="178"/>
                  </a:lnTo>
                  <a:lnTo>
                    <a:pt x="966" y="133"/>
                  </a:lnTo>
                  <a:lnTo>
                    <a:pt x="979" y="79"/>
                  </a:lnTo>
                  <a:lnTo>
                    <a:pt x="993" y="17"/>
                  </a:lnTo>
                  <a:lnTo>
                    <a:pt x="975" y="35"/>
                  </a:lnTo>
                  <a:lnTo>
                    <a:pt x="993" y="17"/>
                  </a:lnTo>
                  <a:lnTo>
                    <a:pt x="993" y="13"/>
                  </a:lnTo>
                  <a:lnTo>
                    <a:pt x="993" y="4"/>
                  </a:lnTo>
                  <a:lnTo>
                    <a:pt x="984" y="4"/>
                  </a:lnTo>
                  <a:lnTo>
                    <a:pt x="975" y="0"/>
                  </a:lnTo>
                  <a:lnTo>
                    <a:pt x="971" y="0"/>
                  </a:lnTo>
                  <a:lnTo>
                    <a:pt x="966" y="0"/>
                  </a:lnTo>
                  <a:lnTo>
                    <a:pt x="962" y="4"/>
                  </a:lnTo>
                  <a:lnTo>
                    <a:pt x="962" y="8"/>
                  </a:lnTo>
                  <a:lnTo>
                    <a:pt x="9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38480" y="2357280"/>
              <a:ext cx="84600" cy="106560"/>
            </a:xfrm>
            <a:custGeom>
              <a:avLst/>
              <a:gdLst/>
              <a:ahLst/>
              <a:rect l="0" t="0" r="r" b="b"/>
              <a:pathLst>
                <a:path w="235" h="296">
                  <a:moveTo>
                    <a:pt x="217" y="0"/>
                  </a:moveTo>
                  <a:lnTo>
                    <a:pt x="190" y="26"/>
                  </a:lnTo>
                  <a:lnTo>
                    <a:pt x="199" y="44"/>
                  </a:lnTo>
                  <a:lnTo>
                    <a:pt x="199" y="62"/>
                  </a:lnTo>
                  <a:lnTo>
                    <a:pt x="199" y="80"/>
                  </a:lnTo>
                  <a:lnTo>
                    <a:pt x="190" y="98"/>
                  </a:lnTo>
                  <a:lnTo>
                    <a:pt x="186" y="116"/>
                  </a:lnTo>
                  <a:lnTo>
                    <a:pt x="181" y="138"/>
                  </a:lnTo>
                  <a:lnTo>
                    <a:pt x="177" y="147"/>
                  </a:lnTo>
                  <a:lnTo>
                    <a:pt x="167" y="166"/>
                  </a:lnTo>
                  <a:lnTo>
                    <a:pt x="149" y="180"/>
                  </a:lnTo>
                  <a:lnTo>
                    <a:pt x="135" y="197"/>
                  </a:lnTo>
                  <a:lnTo>
                    <a:pt x="122" y="206"/>
                  </a:lnTo>
                  <a:lnTo>
                    <a:pt x="99" y="220"/>
                  </a:lnTo>
                  <a:lnTo>
                    <a:pt x="81" y="229"/>
                  </a:lnTo>
                  <a:lnTo>
                    <a:pt x="53" y="242"/>
                  </a:lnTo>
                  <a:lnTo>
                    <a:pt x="26" y="247"/>
                  </a:lnTo>
                  <a:lnTo>
                    <a:pt x="0" y="256"/>
                  </a:lnTo>
                  <a:lnTo>
                    <a:pt x="4" y="296"/>
                  </a:lnTo>
                  <a:lnTo>
                    <a:pt x="40" y="287"/>
                  </a:lnTo>
                  <a:lnTo>
                    <a:pt x="63" y="278"/>
                  </a:lnTo>
                  <a:lnTo>
                    <a:pt x="95" y="269"/>
                  </a:lnTo>
                  <a:lnTo>
                    <a:pt x="122" y="256"/>
                  </a:lnTo>
                  <a:lnTo>
                    <a:pt x="140" y="247"/>
                  </a:lnTo>
                  <a:lnTo>
                    <a:pt x="162" y="229"/>
                  </a:lnTo>
                  <a:lnTo>
                    <a:pt x="177" y="215"/>
                  </a:lnTo>
                  <a:lnTo>
                    <a:pt x="190" y="193"/>
                  </a:lnTo>
                  <a:lnTo>
                    <a:pt x="204" y="175"/>
                  </a:lnTo>
                  <a:lnTo>
                    <a:pt x="213" y="162"/>
                  </a:lnTo>
                  <a:lnTo>
                    <a:pt x="222" y="138"/>
                  </a:lnTo>
                  <a:lnTo>
                    <a:pt x="226" y="116"/>
                  </a:lnTo>
                  <a:lnTo>
                    <a:pt x="235" y="94"/>
                  </a:lnTo>
                  <a:lnTo>
                    <a:pt x="235" y="67"/>
                  </a:lnTo>
                  <a:lnTo>
                    <a:pt x="235" y="44"/>
                  </a:lnTo>
                  <a:lnTo>
                    <a:pt x="235" y="17"/>
                  </a:lnTo>
                  <a:lnTo>
                    <a:pt x="213" y="35"/>
                  </a:lnTo>
                  <a:lnTo>
                    <a:pt x="235" y="17"/>
                  </a:lnTo>
                  <a:lnTo>
                    <a:pt x="226" y="8"/>
                  </a:lnTo>
                  <a:lnTo>
                    <a:pt x="217" y="0"/>
                  </a:lnTo>
                  <a:lnTo>
                    <a:pt x="213" y="4"/>
                  </a:lnTo>
                  <a:lnTo>
                    <a:pt x="208" y="0"/>
                  </a:lnTo>
                  <a:lnTo>
                    <a:pt x="204" y="4"/>
                  </a:lnTo>
                  <a:lnTo>
                    <a:pt x="190" y="8"/>
                  </a:lnTo>
                  <a:lnTo>
                    <a:pt x="190" y="26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14440" y="2063880"/>
              <a:ext cx="201960" cy="316440"/>
            </a:xfrm>
            <a:custGeom>
              <a:avLst/>
              <a:gdLst/>
              <a:ahLst/>
              <a:rect l="0" t="0" r="r" b="b"/>
              <a:pathLst>
                <a:path w="561" h="879">
                  <a:moveTo>
                    <a:pt x="458" y="0"/>
                  </a:moveTo>
                  <a:lnTo>
                    <a:pt x="454" y="26"/>
                  </a:lnTo>
                  <a:lnTo>
                    <a:pt x="472" y="70"/>
                  </a:lnTo>
                  <a:lnTo>
                    <a:pt x="489" y="119"/>
                  </a:lnTo>
                  <a:lnTo>
                    <a:pt x="503" y="163"/>
                  </a:lnTo>
                  <a:lnTo>
                    <a:pt x="512" y="203"/>
                  </a:lnTo>
                  <a:lnTo>
                    <a:pt x="521" y="253"/>
                  </a:lnTo>
                  <a:lnTo>
                    <a:pt x="521" y="293"/>
                  </a:lnTo>
                  <a:lnTo>
                    <a:pt x="525" y="333"/>
                  </a:lnTo>
                  <a:lnTo>
                    <a:pt x="521" y="377"/>
                  </a:lnTo>
                  <a:lnTo>
                    <a:pt x="521" y="413"/>
                  </a:lnTo>
                  <a:lnTo>
                    <a:pt x="507" y="453"/>
                  </a:lnTo>
                  <a:lnTo>
                    <a:pt x="503" y="488"/>
                  </a:lnTo>
                  <a:lnTo>
                    <a:pt x="489" y="523"/>
                  </a:lnTo>
                  <a:lnTo>
                    <a:pt x="481" y="559"/>
                  </a:lnTo>
                  <a:lnTo>
                    <a:pt x="458" y="590"/>
                  </a:lnTo>
                  <a:lnTo>
                    <a:pt x="449" y="621"/>
                  </a:lnTo>
                  <a:lnTo>
                    <a:pt x="427" y="648"/>
                  </a:lnTo>
                  <a:lnTo>
                    <a:pt x="405" y="675"/>
                  </a:lnTo>
                  <a:lnTo>
                    <a:pt x="383" y="702"/>
                  </a:lnTo>
                  <a:lnTo>
                    <a:pt x="361" y="724"/>
                  </a:lnTo>
                  <a:lnTo>
                    <a:pt x="338" y="746"/>
                  </a:lnTo>
                  <a:lnTo>
                    <a:pt x="312" y="764"/>
                  </a:lnTo>
                  <a:lnTo>
                    <a:pt x="289" y="782"/>
                  </a:lnTo>
                  <a:lnTo>
                    <a:pt x="257" y="790"/>
                  </a:lnTo>
                  <a:lnTo>
                    <a:pt x="231" y="808"/>
                  </a:lnTo>
                  <a:lnTo>
                    <a:pt x="204" y="817"/>
                  </a:lnTo>
                  <a:lnTo>
                    <a:pt x="173" y="830"/>
                  </a:lnTo>
                  <a:lnTo>
                    <a:pt x="146" y="830"/>
                  </a:lnTo>
                  <a:lnTo>
                    <a:pt x="120" y="835"/>
                  </a:lnTo>
                  <a:lnTo>
                    <a:pt x="88" y="839"/>
                  </a:lnTo>
                  <a:lnTo>
                    <a:pt x="62" y="835"/>
                  </a:lnTo>
                  <a:lnTo>
                    <a:pt x="26" y="830"/>
                  </a:lnTo>
                  <a:lnTo>
                    <a:pt x="4" y="817"/>
                  </a:lnTo>
                  <a:lnTo>
                    <a:pt x="0" y="857"/>
                  </a:lnTo>
                  <a:lnTo>
                    <a:pt x="22" y="866"/>
                  </a:lnTo>
                  <a:lnTo>
                    <a:pt x="57" y="870"/>
                  </a:lnTo>
                  <a:lnTo>
                    <a:pt x="93" y="879"/>
                  </a:lnTo>
                  <a:lnTo>
                    <a:pt x="120" y="879"/>
                  </a:lnTo>
                  <a:lnTo>
                    <a:pt x="151" y="879"/>
                  </a:lnTo>
                  <a:lnTo>
                    <a:pt x="186" y="861"/>
                  </a:lnTo>
                  <a:lnTo>
                    <a:pt x="217" y="857"/>
                  </a:lnTo>
                  <a:lnTo>
                    <a:pt x="248" y="852"/>
                  </a:lnTo>
                  <a:lnTo>
                    <a:pt x="281" y="830"/>
                  </a:lnTo>
                  <a:lnTo>
                    <a:pt x="303" y="817"/>
                  </a:lnTo>
                  <a:lnTo>
                    <a:pt x="334" y="799"/>
                  </a:lnTo>
                  <a:lnTo>
                    <a:pt x="361" y="777"/>
                  </a:lnTo>
                  <a:lnTo>
                    <a:pt x="387" y="755"/>
                  </a:lnTo>
                  <a:lnTo>
                    <a:pt x="409" y="728"/>
                  </a:lnTo>
                  <a:lnTo>
                    <a:pt x="432" y="706"/>
                  </a:lnTo>
                  <a:lnTo>
                    <a:pt x="454" y="675"/>
                  </a:lnTo>
                  <a:lnTo>
                    <a:pt x="472" y="648"/>
                  </a:lnTo>
                  <a:lnTo>
                    <a:pt x="494" y="612"/>
                  </a:lnTo>
                  <a:lnTo>
                    <a:pt x="507" y="572"/>
                  </a:lnTo>
                  <a:lnTo>
                    <a:pt x="525" y="541"/>
                  </a:lnTo>
                  <a:lnTo>
                    <a:pt x="534" y="497"/>
                  </a:lnTo>
                  <a:lnTo>
                    <a:pt x="547" y="466"/>
                  </a:lnTo>
                  <a:lnTo>
                    <a:pt x="547" y="426"/>
                  </a:lnTo>
                  <a:lnTo>
                    <a:pt x="561" y="382"/>
                  </a:lnTo>
                  <a:lnTo>
                    <a:pt x="561" y="337"/>
                  </a:lnTo>
                  <a:lnTo>
                    <a:pt x="552" y="293"/>
                  </a:lnTo>
                  <a:lnTo>
                    <a:pt x="552" y="253"/>
                  </a:lnTo>
                  <a:lnTo>
                    <a:pt x="543" y="199"/>
                  </a:lnTo>
                  <a:lnTo>
                    <a:pt x="534" y="150"/>
                  </a:lnTo>
                  <a:lnTo>
                    <a:pt x="525" y="110"/>
                  </a:lnTo>
                  <a:lnTo>
                    <a:pt x="503" y="57"/>
                  </a:lnTo>
                  <a:lnTo>
                    <a:pt x="481" y="8"/>
                  </a:lnTo>
                  <a:lnTo>
                    <a:pt x="481" y="35"/>
                  </a:lnTo>
                  <a:lnTo>
                    <a:pt x="481" y="8"/>
                  </a:lnTo>
                  <a:lnTo>
                    <a:pt x="472" y="4"/>
                  </a:lnTo>
                  <a:lnTo>
                    <a:pt x="467" y="0"/>
                  </a:lnTo>
                  <a:lnTo>
                    <a:pt x="463" y="4"/>
                  </a:lnTo>
                  <a:lnTo>
                    <a:pt x="458" y="0"/>
                  </a:lnTo>
                  <a:lnTo>
                    <a:pt x="454" y="4"/>
                  </a:lnTo>
                  <a:lnTo>
                    <a:pt x="454" y="8"/>
                  </a:lnTo>
                  <a:lnTo>
                    <a:pt x="449" y="13"/>
                  </a:lnTo>
                  <a:lnTo>
                    <a:pt x="454" y="26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51240" y="1909800"/>
              <a:ext cx="57600" cy="168480"/>
            </a:xfrm>
            <a:custGeom>
              <a:avLst/>
              <a:gdLst/>
              <a:ahLst/>
              <a:rect l="0" t="0" r="r" b="b"/>
              <a:pathLst>
                <a:path w="160" h="468">
                  <a:moveTo>
                    <a:pt x="0" y="13"/>
                  </a:moveTo>
                  <a:lnTo>
                    <a:pt x="13" y="35"/>
                  </a:lnTo>
                  <a:lnTo>
                    <a:pt x="27" y="57"/>
                  </a:lnTo>
                  <a:lnTo>
                    <a:pt x="50" y="71"/>
                  </a:lnTo>
                  <a:lnTo>
                    <a:pt x="69" y="97"/>
                  </a:lnTo>
                  <a:lnTo>
                    <a:pt x="82" y="124"/>
                  </a:lnTo>
                  <a:lnTo>
                    <a:pt x="96" y="155"/>
                  </a:lnTo>
                  <a:lnTo>
                    <a:pt x="105" y="182"/>
                  </a:lnTo>
                  <a:lnTo>
                    <a:pt x="114" y="213"/>
                  </a:lnTo>
                  <a:lnTo>
                    <a:pt x="114" y="250"/>
                  </a:lnTo>
                  <a:lnTo>
                    <a:pt x="124" y="281"/>
                  </a:lnTo>
                  <a:lnTo>
                    <a:pt x="129" y="308"/>
                  </a:lnTo>
                  <a:lnTo>
                    <a:pt x="124" y="334"/>
                  </a:lnTo>
                  <a:lnTo>
                    <a:pt x="114" y="361"/>
                  </a:lnTo>
                  <a:lnTo>
                    <a:pt x="109" y="379"/>
                  </a:lnTo>
                  <a:lnTo>
                    <a:pt x="96" y="406"/>
                  </a:lnTo>
                  <a:lnTo>
                    <a:pt x="87" y="419"/>
                  </a:lnTo>
                  <a:lnTo>
                    <a:pt x="73" y="428"/>
                  </a:lnTo>
                  <a:lnTo>
                    <a:pt x="96" y="468"/>
                  </a:lnTo>
                  <a:lnTo>
                    <a:pt x="114" y="450"/>
                  </a:lnTo>
                  <a:lnTo>
                    <a:pt x="133" y="428"/>
                  </a:lnTo>
                  <a:lnTo>
                    <a:pt x="142" y="401"/>
                  </a:lnTo>
                  <a:lnTo>
                    <a:pt x="151" y="370"/>
                  </a:lnTo>
                  <a:lnTo>
                    <a:pt x="151" y="343"/>
                  </a:lnTo>
                  <a:lnTo>
                    <a:pt x="160" y="317"/>
                  </a:lnTo>
                  <a:lnTo>
                    <a:pt x="160" y="281"/>
                  </a:lnTo>
                  <a:lnTo>
                    <a:pt x="151" y="250"/>
                  </a:lnTo>
                  <a:lnTo>
                    <a:pt x="147" y="209"/>
                  </a:lnTo>
                  <a:lnTo>
                    <a:pt x="138" y="173"/>
                  </a:lnTo>
                  <a:lnTo>
                    <a:pt x="124" y="142"/>
                  </a:lnTo>
                  <a:lnTo>
                    <a:pt x="109" y="111"/>
                  </a:lnTo>
                  <a:lnTo>
                    <a:pt x="91" y="75"/>
                  </a:lnTo>
                  <a:lnTo>
                    <a:pt x="69" y="48"/>
                  </a:lnTo>
                  <a:lnTo>
                    <a:pt x="55" y="22"/>
                  </a:lnTo>
                  <a:lnTo>
                    <a:pt x="22" y="4"/>
                  </a:lnTo>
                  <a:lnTo>
                    <a:pt x="41" y="17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8"/>
                  </a:lnTo>
                  <a:lnTo>
                    <a:pt x="4" y="13"/>
                  </a:lnTo>
                  <a:lnTo>
                    <a:pt x="0" y="17"/>
                  </a:lnTo>
                  <a:lnTo>
                    <a:pt x="4" y="22"/>
                  </a:lnTo>
                  <a:lnTo>
                    <a:pt x="13" y="3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79800" y="1676520"/>
              <a:ext cx="289440" cy="241560"/>
            </a:xfrm>
            <a:custGeom>
              <a:avLst/>
              <a:gdLst/>
              <a:ahLst/>
              <a:rect l="0" t="0" r="r" b="b"/>
              <a:pathLst>
                <a:path w="804" h="671">
                  <a:moveTo>
                    <a:pt x="13" y="115"/>
                  </a:moveTo>
                  <a:lnTo>
                    <a:pt x="26" y="110"/>
                  </a:lnTo>
                  <a:lnTo>
                    <a:pt x="57" y="88"/>
                  </a:lnTo>
                  <a:lnTo>
                    <a:pt x="88" y="71"/>
                  </a:lnTo>
                  <a:lnTo>
                    <a:pt x="119" y="62"/>
                  </a:lnTo>
                  <a:lnTo>
                    <a:pt x="141" y="48"/>
                  </a:lnTo>
                  <a:lnTo>
                    <a:pt x="172" y="44"/>
                  </a:lnTo>
                  <a:lnTo>
                    <a:pt x="209" y="39"/>
                  </a:lnTo>
                  <a:lnTo>
                    <a:pt x="240" y="39"/>
                  </a:lnTo>
                  <a:lnTo>
                    <a:pt x="271" y="39"/>
                  </a:lnTo>
                  <a:lnTo>
                    <a:pt x="298" y="39"/>
                  </a:lnTo>
                  <a:lnTo>
                    <a:pt x="324" y="48"/>
                  </a:lnTo>
                  <a:lnTo>
                    <a:pt x="360" y="62"/>
                  </a:lnTo>
                  <a:lnTo>
                    <a:pt x="386" y="71"/>
                  </a:lnTo>
                  <a:lnTo>
                    <a:pt x="413" y="88"/>
                  </a:lnTo>
                  <a:lnTo>
                    <a:pt x="439" y="102"/>
                  </a:lnTo>
                  <a:lnTo>
                    <a:pt x="471" y="119"/>
                  </a:lnTo>
                  <a:lnTo>
                    <a:pt x="493" y="142"/>
                  </a:lnTo>
                  <a:lnTo>
                    <a:pt x="524" y="155"/>
                  </a:lnTo>
                  <a:lnTo>
                    <a:pt x="550" y="190"/>
                  </a:lnTo>
                  <a:lnTo>
                    <a:pt x="568" y="208"/>
                  </a:lnTo>
                  <a:lnTo>
                    <a:pt x="595" y="244"/>
                  </a:lnTo>
                  <a:lnTo>
                    <a:pt x="618" y="270"/>
                  </a:lnTo>
                  <a:lnTo>
                    <a:pt x="636" y="301"/>
                  </a:lnTo>
                  <a:lnTo>
                    <a:pt x="658" y="332"/>
                  </a:lnTo>
                  <a:lnTo>
                    <a:pt x="675" y="364"/>
                  </a:lnTo>
                  <a:lnTo>
                    <a:pt x="698" y="396"/>
                  </a:lnTo>
                  <a:lnTo>
                    <a:pt x="707" y="440"/>
                  </a:lnTo>
                  <a:lnTo>
                    <a:pt x="729" y="471"/>
                  </a:lnTo>
                  <a:lnTo>
                    <a:pt x="733" y="515"/>
                  </a:lnTo>
                  <a:lnTo>
                    <a:pt x="746" y="551"/>
                  </a:lnTo>
                  <a:lnTo>
                    <a:pt x="751" y="591"/>
                  </a:lnTo>
                  <a:lnTo>
                    <a:pt x="755" y="626"/>
                  </a:lnTo>
                  <a:lnTo>
                    <a:pt x="760" y="662"/>
                  </a:lnTo>
                  <a:lnTo>
                    <a:pt x="804" y="671"/>
                  </a:lnTo>
                  <a:lnTo>
                    <a:pt x="791" y="626"/>
                  </a:lnTo>
                  <a:lnTo>
                    <a:pt x="786" y="578"/>
                  </a:lnTo>
                  <a:lnTo>
                    <a:pt x="782" y="542"/>
                  </a:lnTo>
                  <a:lnTo>
                    <a:pt x="769" y="502"/>
                  </a:lnTo>
                  <a:lnTo>
                    <a:pt x="751" y="462"/>
                  </a:lnTo>
                  <a:lnTo>
                    <a:pt x="742" y="422"/>
                  </a:lnTo>
                  <a:lnTo>
                    <a:pt x="720" y="387"/>
                  </a:lnTo>
                  <a:lnTo>
                    <a:pt x="707" y="351"/>
                  </a:lnTo>
                  <a:lnTo>
                    <a:pt x="684" y="310"/>
                  </a:lnTo>
                  <a:lnTo>
                    <a:pt x="667" y="279"/>
                  </a:lnTo>
                  <a:lnTo>
                    <a:pt x="644" y="244"/>
                  </a:lnTo>
                  <a:lnTo>
                    <a:pt x="622" y="217"/>
                  </a:lnTo>
                  <a:lnTo>
                    <a:pt x="599" y="181"/>
                  </a:lnTo>
                  <a:lnTo>
                    <a:pt x="568" y="155"/>
                  </a:lnTo>
                  <a:lnTo>
                    <a:pt x="546" y="128"/>
                  </a:lnTo>
                  <a:lnTo>
                    <a:pt x="515" y="110"/>
                  </a:lnTo>
                  <a:lnTo>
                    <a:pt x="484" y="84"/>
                  </a:lnTo>
                  <a:lnTo>
                    <a:pt x="453" y="66"/>
                  </a:lnTo>
                  <a:lnTo>
                    <a:pt x="426" y="48"/>
                  </a:lnTo>
                  <a:lnTo>
                    <a:pt x="400" y="35"/>
                  </a:lnTo>
                  <a:lnTo>
                    <a:pt x="364" y="22"/>
                  </a:lnTo>
                  <a:lnTo>
                    <a:pt x="329" y="13"/>
                  </a:lnTo>
                  <a:lnTo>
                    <a:pt x="298" y="8"/>
                  </a:lnTo>
                  <a:lnTo>
                    <a:pt x="271" y="0"/>
                  </a:lnTo>
                  <a:lnTo>
                    <a:pt x="236" y="4"/>
                  </a:lnTo>
                  <a:lnTo>
                    <a:pt x="199" y="4"/>
                  </a:lnTo>
                  <a:lnTo>
                    <a:pt x="168" y="8"/>
                  </a:lnTo>
                  <a:lnTo>
                    <a:pt x="137" y="8"/>
                  </a:lnTo>
                  <a:lnTo>
                    <a:pt x="101" y="22"/>
                  </a:lnTo>
                  <a:lnTo>
                    <a:pt x="70" y="39"/>
                  </a:lnTo>
                  <a:lnTo>
                    <a:pt x="39" y="57"/>
                  </a:lnTo>
                  <a:lnTo>
                    <a:pt x="8" y="84"/>
                  </a:lnTo>
                  <a:lnTo>
                    <a:pt x="26" y="75"/>
                  </a:lnTo>
                  <a:lnTo>
                    <a:pt x="8" y="84"/>
                  </a:lnTo>
                  <a:lnTo>
                    <a:pt x="4" y="84"/>
                  </a:lnTo>
                  <a:lnTo>
                    <a:pt x="0" y="88"/>
                  </a:lnTo>
                  <a:lnTo>
                    <a:pt x="0" y="97"/>
                  </a:lnTo>
                  <a:lnTo>
                    <a:pt x="4" y="110"/>
                  </a:lnTo>
                  <a:lnTo>
                    <a:pt x="8" y="110"/>
                  </a:lnTo>
                  <a:lnTo>
                    <a:pt x="17" y="110"/>
                  </a:lnTo>
                  <a:lnTo>
                    <a:pt x="22" y="115"/>
                  </a:lnTo>
                  <a:lnTo>
                    <a:pt x="26" y="110"/>
                  </a:lnTo>
                  <a:lnTo>
                    <a:pt x="13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43000" y="1679400"/>
              <a:ext cx="149760" cy="78120"/>
            </a:xfrm>
            <a:custGeom>
              <a:avLst/>
              <a:gdLst/>
              <a:ahLst/>
              <a:rect l="0" t="0" r="r" b="b"/>
              <a:pathLst>
                <a:path w="416" h="217">
                  <a:moveTo>
                    <a:pt x="8" y="217"/>
                  </a:moveTo>
                  <a:lnTo>
                    <a:pt x="31" y="199"/>
                  </a:lnTo>
                  <a:lnTo>
                    <a:pt x="44" y="172"/>
                  </a:lnTo>
                  <a:lnTo>
                    <a:pt x="62" y="145"/>
                  </a:lnTo>
                  <a:lnTo>
                    <a:pt x="84" y="113"/>
                  </a:lnTo>
                  <a:lnTo>
                    <a:pt x="93" y="94"/>
                  </a:lnTo>
                  <a:lnTo>
                    <a:pt x="116" y="72"/>
                  </a:lnTo>
                  <a:lnTo>
                    <a:pt x="139" y="63"/>
                  </a:lnTo>
                  <a:lnTo>
                    <a:pt x="156" y="54"/>
                  </a:lnTo>
                  <a:lnTo>
                    <a:pt x="179" y="40"/>
                  </a:lnTo>
                  <a:lnTo>
                    <a:pt x="206" y="40"/>
                  </a:lnTo>
                  <a:lnTo>
                    <a:pt x="232" y="40"/>
                  </a:lnTo>
                  <a:lnTo>
                    <a:pt x="250" y="40"/>
                  </a:lnTo>
                  <a:lnTo>
                    <a:pt x="277" y="40"/>
                  </a:lnTo>
                  <a:lnTo>
                    <a:pt x="308" y="58"/>
                  </a:lnTo>
                  <a:lnTo>
                    <a:pt x="331" y="67"/>
                  </a:lnTo>
                  <a:lnTo>
                    <a:pt x="363" y="85"/>
                  </a:lnTo>
                  <a:lnTo>
                    <a:pt x="398" y="108"/>
                  </a:lnTo>
                  <a:lnTo>
                    <a:pt x="416" y="67"/>
                  </a:lnTo>
                  <a:lnTo>
                    <a:pt x="385" y="45"/>
                  </a:lnTo>
                  <a:lnTo>
                    <a:pt x="345" y="31"/>
                  </a:lnTo>
                  <a:lnTo>
                    <a:pt x="313" y="13"/>
                  </a:lnTo>
                  <a:lnTo>
                    <a:pt x="281" y="4"/>
                  </a:lnTo>
                  <a:lnTo>
                    <a:pt x="255" y="0"/>
                  </a:lnTo>
                  <a:lnTo>
                    <a:pt x="228" y="0"/>
                  </a:lnTo>
                  <a:lnTo>
                    <a:pt x="197" y="0"/>
                  </a:lnTo>
                  <a:lnTo>
                    <a:pt x="165" y="4"/>
                  </a:lnTo>
                  <a:lnTo>
                    <a:pt x="143" y="13"/>
                  </a:lnTo>
                  <a:lnTo>
                    <a:pt x="121" y="27"/>
                  </a:lnTo>
                  <a:lnTo>
                    <a:pt x="93" y="45"/>
                  </a:lnTo>
                  <a:lnTo>
                    <a:pt x="66" y="63"/>
                  </a:lnTo>
                  <a:lnTo>
                    <a:pt x="53" y="85"/>
                  </a:lnTo>
                  <a:lnTo>
                    <a:pt x="31" y="118"/>
                  </a:lnTo>
                  <a:lnTo>
                    <a:pt x="17" y="149"/>
                  </a:lnTo>
                  <a:lnTo>
                    <a:pt x="4" y="181"/>
                  </a:lnTo>
                  <a:lnTo>
                    <a:pt x="22" y="176"/>
                  </a:lnTo>
                  <a:lnTo>
                    <a:pt x="4" y="181"/>
                  </a:lnTo>
                  <a:lnTo>
                    <a:pt x="0" y="190"/>
                  </a:lnTo>
                  <a:lnTo>
                    <a:pt x="4" y="199"/>
                  </a:lnTo>
                  <a:lnTo>
                    <a:pt x="4" y="203"/>
                  </a:lnTo>
                  <a:lnTo>
                    <a:pt x="8" y="208"/>
                  </a:lnTo>
                  <a:lnTo>
                    <a:pt x="13" y="208"/>
                  </a:lnTo>
                  <a:lnTo>
                    <a:pt x="26" y="208"/>
                  </a:lnTo>
                  <a:lnTo>
                    <a:pt x="31" y="199"/>
                  </a:lnTo>
                  <a:lnTo>
                    <a:pt x="8" y="2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65440" y="1711440"/>
              <a:ext cx="289440" cy="159120"/>
            </a:xfrm>
            <a:custGeom>
              <a:avLst/>
              <a:gdLst/>
              <a:ahLst/>
              <a:rect l="0" t="0" r="r" b="b"/>
              <a:pathLst>
                <a:path w="804" h="442">
                  <a:moveTo>
                    <a:pt x="8" y="442"/>
                  </a:moveTo>
                  <a:lnTo>
                    <a:pt x="26" y="434"/>
                  </a:lnTo>
                  <a:lnTo>
                    <a:pt x="39" y="398"/>
                  </a:lnTo>
                  <a:lnTo>
                    <a:pt x="53" y="367"/>
                  </a:lnTo>
                  <a:lnTo>
                    <a:pt x="62" y="344"/>
                  </a:lnTo>
                  <a:lnTo>
                    <a:pt x="79" y="312"/>
                  </a:lnTo>
                  <a:lnTo>
                    <a:pt x="93" y="286"/>
                  </a:lnTo>
                  <a:lnTo>
                    <a:pt x="106" y="259"/>
                  </a:lnTo>
                  <a:lnTo>
                    <a:pt x="128" y="237"/>
                  </a:lnTo>
                  <a:lnTo>
                    <a:pt x="141" y="210"/>
                  </a:lnTo>
                  <a:lnTo>
                    <a:pt x="164" y="196"/>
                  </a:lnTo>
                  <a:lnTo>
                    <a:pt x="177" y="174"/>
                  </a:lnTo>
                  <a:lnTo>
                    <a:pt x="204" y="152"/>
                  </a:lnTo>
                  <a:lnTo>
                    <a:pt x="222" y="139"/>
                  </a:lnTo>
                  <a:lnTo>
                    <a:pt x="244" y="121"/>
                  </a:lnTo>
                  <a:lnTo>
                    <a:pt x="271" y="102"/>
                  </a:lnTo>
                  <a:lnTo>
                    <a:pt x="293" y="93"/>
                  </a:lnTo>
                  <a:lnTo>
                    <a:pt x="315" y="75"/>
                  </a:lnTo>
                  <a:lnTo>
                    <a:pt x="346" y="71"/>
                  </a:lnTo>
                  <a:lnTo>
                    <a:pt x="369" y="62"/>
                  </a:lnTo>
                  <a:lnTo>
                    <a:pt x="395" y="57"/>
                  </a:lnTo>
                  <a:lnTo>
                    <a:pt x="426" y="44"/>
                  </a:lnTo>
                  <a:lnTo>
                    <a:pt x="448" y="44"/>
                  </a:lnTo>
                  <a:lnTo>
                    <a:pt x="479" y="40"/>
                  </a:lnTo>
                  <a:lnTo>
                    <a:pt x="506" y="40"/>
                  </a:lnTo>
                  <a:lnTo>
                    <a:pt x="537" y="44"/>
                  </a:lnTo>
                  <a:lnTo>
                    <a:pt x="564" y="44"/>
                  </a:lnTo>
                  <a:lnTo>
                    <a:pt x="595" y="57"/>
                  </a:lnTo>
                  <a:lnTo>
                    <a:pt x="631" y="62"/>
                  </a:lnTo>
                  <a:lnTo>
                    <a:pt x="662" y="66"/>
                  </a:lnTo>
                  <a:lnTo>
                    <a:pt x="693" y="71"/>
                  </a:lnTo>
                  <a:lnTo>
                    <a:pt x="729" y="89"/>
                  </a:lnTo>
                  <a:lnTo>
                    <a:pt x="755" y="102"/>
                  </a:lnTo>
                  <a:lnTo>
                    <a:pt x="786" y="125"/>
                  </a:lnTo>
                  <a:lnTo>
                    <a:pt x="804" y="89"/>
                  </a:lnTo>
                  <a:lnTo>
                    <a:pt x="769" y="66"/>
                  </a:lnTo>
                  <a:lnTo>
                    <a:pt x="733" y="48"/>
                  </a:lnTo>
                  <a:lnTo>
                    <a:pt x="702" y="40"/>
                  </a:lnTo>
                  <a:lnTo>
                    <a:pt x="671" y="31"/>
                  </a:lnTo>
                  <a:lnTo>
                    <a:pt x="631" y="17"/>
                  </a:lnTo>
                  <a:lnTo>
                    <a:pt x="599" y="13"/>
                  </a:lnTo>
                  <a:lnTo>
                    <a:pt x="564" y="4"/>
                  </a:lnTo>
                  <a:lnTo>
                    <a:pt x="537" y="4"/>
                  </a:lnTo>
                  <a:lnTo>
                    <a:pt x="506" y="4"/>
                  </a:lnTo>
                  <a:lnTo>
                    <a:pt x="475" y="0"/>
                  </a:lnTo>
                  <a:lnTo>
                    <a:pt x="444" y="4"/>
                  </a:lnTo>
                  <a:lnTo>
                    <a:pt x="413" y="8"/>
                  </a:lnTo>
                  <a:lnTo>
                    <a:pt x="386" y="13"/>
                  </a:lnTo>
                  <a:lnTo>
                    <a:pt x="355" y="22"/>
                  </a:lnTo>
                  <a:lnTo>
                    <a:pt x="329" y="31"/>
                  </a:lnTo>
                  <a:lnTo>
                    <a:pt x="306" y="40"/>
                  </a:lnTo>
                  <a:lnTo>
                    <a:pt x="275" y="57"/>
                  </a:lnTo>
                  <a:lnTo>
                    <a:pt x="249" y="66"/>
                  </a:lnTo>
                  <a:lnTo>
                    <a:pt x="231" y="84"/>
                  </a:lnTo>
                  <a:lnTo>
                    <a:pt x="204" y="97"/>
                  </a:lnTo>
                  <a:lnTo>
                    <a:pt x="177" y="121"/>
                  </a:lnTo>
                  <a:lnTo>
                    <a:pt x="159" y="143"/>
                  </a:lnTo>
                  <a:lnTo>
                    <a:pt x="133" y="156"/>
                  </a:lnTo>
                  <a:lnTo>
                    <a:pt x="119" y="183"/>
                  </a:lnTo>
                  <a:lnTo>
                    <a:pt x="97" y="210"/>
                  </a:lnTo>
                  <a:lnTo>
                    <a:pt x="79" y="232"/>
                  </a:lnTo>
                  <a:lnTo>
                    <a:pt x="62" y="259"/>
                  </a:lnTo>
                  <a:lnTo>
                    <a:pt x="53" y="290"/>
                  </a:lnTo>
                  <a:lnTo>
                    <a:pt x="31" y="317"/>
                  </a:lnTo>
                  <a:lnTo>
                    <a:pt x="22" y="349"/>
                  </a:lnTo>
                  <a:lnTo>
                    <a:pt x="8" y="376"/>
                  </a:lnTo>
                  <a:lnTo>
                    <a:pt x="0" y="416"/>
                  </a:lnTo>
                  <a:lnTo>
                    <a:pt x="17" y="402"/>
                  </a:lnTo>
                  <a:lnTo>
                    <a:pt x="0" y="416"/>
                  </a:lnTo>
                  <a:lnTo>
                    <a:pt x="0" y="420"/>
                  </a:lnTo>
                  <a:lnTo>
                    <a:pt x="0" y="429"/>
                  </a:lnTo>
                  <a:lnTo>
                    <a:pt x="4" y="434"/>
                  </a:lnTo>
                  <a:lnTo>
                    <a:pt x="8" y="442"/>
                  </a:lnTo>
                  <a:lnTo>
                    <a:pt x="17" y="442"/>
                  </a:lnTo>
                  <a:lnTo>
                    <a:pt x="22" y="434"/>
                  </a:lnTo>
                  <a:lnTo>
                    <a:pt x="26" y="434"/>
                  </a:lnTo>
                  <a:lnTo>
                    <a:pt x="8" y="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33520" y="1838160"/>
              <a:ext cx="341640" cy="275040"/>
            </a:xfrm>
            <a:custGeom>
              <a:avLst/>
              <a:gdLst/>
              <a:ahLst/>
              <a:rect l="0" t="0" r="r" b="b"/>
              <a:pathLst>
                <a:path w="949" h="764">
                  <a:moveTo>
                    <a:pt x="22" y="756"/>
                  </a:moveTo>
                  <a:lnTo>
                    <a:pt x="31" y="747"/>
                  </a:lnTo>
                  <a:lnTo>
                    <a:pt x="31" y="707"/>
                  </a:lnTo>
                  <a:lnTo>
                    <a:pt x="31" y="671"/>
                  </a:lnTo>
                  <a:lnTo>
                    <a:pt x="44" y="640"/>
                  </a:lnTo>
                  <a:lnTo>
                    <a:pt x="48" y="600"/>
                  </a:lnTo>
                  <a:lnTo>
                    <a:pt x="62" y="568"/>
                  </a:lnTo>
                  <a:lnTo>
                    <a:pt x="79" y="533"/>
                  </a:lnTo>
                  <a:lnTo>
                    <a:pt x="93" y="488"/>
                  </a:lnTo>
                  <a:lnTo>
                    <a:pt x="106" y="457"/>
                  </a:lnTo>
                  <a:lnTo>
                    <a:pt x="128" y="426"/>
                  </a:lnTo>
                  <a:lnTo>
                    <a:pt x="146" y="386"/>
                  </a:lnTo>
                  <a:lnTo>
                    <a:pt x="172" y="355"/>
                  </a:lnTo>
                  <a:lnTo>
                    <a:pt x="203" y="324"/>
                  </a:lnTo>
                  <a:lnTo>
                    <a:pt x="230" y="293"/>
                  </a:lnTo>
                  <a:lnTo>
                    <a:pt x="256" y="267"/>
                  </a:lnTo>
                  <a:lnTo>
                    <a:pt x="287" y="227"/>
                  </a:lnTo>
                  <a:lnTo>
                    <a:pt x="318" y="205"/>
                  </a:lnTo>
                  <a:lnTo>
                    <a:pt x="358" y="172"/>
                  </a:lnTo>
                  <a:lnTo>
                    <a:pt x="389" y="146"/>
                  </a:lnTo>
                  <a:lnTo>
                    <a:pt x="425" y="133"/>
                  </a:lnTo>
                  <a:lnTo>
                    <a:pt x="460" y="110"/>
                  </a:lnTo>
                  <a:lnTo>
                    <a:pt x="501" y="93"/>
                  </a:lnTo>
                  <a:lnTo>
                    <a:pt x="541" y="70"/>
                  </a:lnTo>
                  <a:lnTo>
                    <a:pt x="581" y="66"/>
                  </a:lnTo>
                  <a:lnTo>
                    <a:pt x="621" y="53"/>
                  </a:lnTo>
                  <a:lnTo>
                    <a:pt x="656" y="44"/>
                  </a:lnTo>
                  <a:lnTo>
                    <a:pt x="700" y="39"/>
                  </a:lnTo>
                  <a:lnTo>
                    <a:pt x="736" y="39"/>
                  </a:lnTo>
                  <a:lnTo>
                    <a:pt x="776" y="39"/>
                  </a:lnTo>
                  <a:lnTo>
                    <a:pt x="816" y="44"/>
                  </a:lnTo>
                  <a:lnTo>
                    <a:pt x="856" y="53"/>
                  </a:lnTo>
                  <a:lnTo>
                    <a:pt x="895" y="66"/>
                  </a:lnTo>
                  <a:lnTo>
                    <a:pt x="935" y="84"/>
                  </a:lnTo>
                  <a:lnTo>
                    <a:pt x="949" y="44"/>
                  </a:lnTo>
                  <a:lnTo>
                    <a:pt x="904" y="26"/>
                  </a:lnTo>
                  <a:lnTo>
                    <a:pt x="860" y="13"/>
                  </a:lnTo>
                  <a:lnTo>
                    <a:pt x="816" y="8"/>
                  </a:lnTo>
                  <a:lnTo>
                    <a:pt x="776" y="4"/>
                  </a:lnTo>
                  <a:lnTo>
                    <a:pt x="736" y="0"/>
                  </a:lnTo>
                  <a:lnTo>
                    <a:pt x="692" y="0"/>
                  </a:lnTo>
                  <a:lnTo>
                    <a:pt x="647" y="4"/>
                  </a:lnTo>
                  <a:lnTo>
                    <a:pt x="607" y="13"/>
                  </a:lnTo>
                  <a:lnTo>
                    <a:pt x="563" y="26"/>
                  </a:lnTo>
                  <a:lnTo>
                    <a:pt x="519" y="35"/>
                  </a:lnTo>
                  <a:lnTo>
                    <a:pt x="483" y="57"/>
                  </a:lnTo>
                  <a:lnTo>
                    <a:pt x="443" y="70"/>
                  </a:lnTo>
                  <a:lnTo>
                    <a:pt x="407" y="93"/>
                  </a:lnTo>
                  <a:lnTo>
                    <a:pt x="367" y="119"/>
                  </a:lnTo>
                  <a:lnTo>
                    <a:pt x="332" y="141"/>
                  </a:lnTo>
                  <a:lnTo>
                    <a:pt x="296" y="168"/>
                  </a:lnTo>
                  <a:lnTo>
                    <a:pt x="270" y="200"/>
                  </a:lnTo>
                  <a:lnTo>
                    <a:pt x="234" y="227"/>
                  </a:lnTo>
                  <a:lnTo>
                    <a:pt x="203" y="267"/>
                  </a:lnTo>
                  <a:lnTo>
                    <a:pt x="172" y="293"/>
                  </a:lnTo>
                  <a:lnTo>
                    <a:pt x="146" y="329"/>
                  </a:lnTo>
                  <a:lnTo>
                    <a:pt x="119" y="360"/>
                  </a:lnTo>
                  <a:lnTo>
                    <a:pt x="97" y="400"/>
                  </a:lnTo>
                  <a:lnTo>
                    <a:pt x="79" y="435"/>
                  </a:lnTo>
                  <a:lnTo>
                    <a:pt x="57" y="475"/>
                  </a:lnTo>
                  <a:lnTo>
                    <a:pt x="44" y="511"/>
                  </a:lnTo>
                  <a:lnTo>
                    <a:pt x="26" y="546"/>
                  </a:lnTo>
                  <a:lnTo>
                    <a:pt x="13" y="587"/>
                  </a:lnTo>
                  <a:lnTo>
                    <a:pt x="8" y="627"/>
                  </a:lnTo>
                  <a:lnTo>
                    <a:pt x="4" y="667"/>
                  </a:lnTo>
                  <a:lnTo>
                    <a:pt x="0" y="702"/>
                  </a:lnTo>
                  <a:lnTo>
                    <a:pt x="0" y="742"/>
                  </a:lnTo>
                  <a:lnTo>
                    <a:pt x="13" y="720"/>
                  </a:lnTo>
                  <a:lnTo>
                    <a:pt x="0" y="742"/>
                  </a:lnTo>
                  <a:lnTo>
                    <a:pt x="4" y="751"/>
                  </a:lnTo>
                  <a:lnTo>
                    <a:pt x="4" y="756"/>
                  </a:lnTo>
                  <a:lnTo>
                    <a:pt x="8" y="764"/>
                  </a:lnTo>
                  <a:lnTo>
                    <a:pt x="17" y="764"/>
                  </a:lnTo>
                  <a:lnTo>
                    <a:pt x="22" y="764"/>
                  </a:lnTo>
                  <a:lnTo>
                    <a:pt x="26" y="756"/>
                  </a:lnTo>
                  <a:lnTo>
                    <a:pt x="31" y="751"/>
                  </a:lnTo>
                  <a:lnTo>
                    <a:pt x="31" y="747"/>
                  </a:lnTo>
                  <a:lnTo>
                    <a:pt x="22" y="7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"/>
          <p:cNvSpPr txBox="1"/>
          <p:nvPr/>
        </p:nvSpPr>
        <p:spPr>
          <a:xfrm>
            <a:off x="1114560" y="2095560"/>
            <a:ext cx="153828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017720" y="2862360"/>
            <a:ext cx="1632240" cy="2741760"/>
            <a:chOff x="1017720" y="2862360"/>
            <a:chExt cx="1632240" cy="2741760"/>
          </a:xfrm>
        </p:grpSpPr>
        <p:sp>
          <p:nvSpPr>
            <p:cNvPr id="341" name=""/>
            <p:cNvSpPr/>
            <p:nvPr/>
          </p:nvSpPr>
          <p:spPr>
            <a:xfrm>
              <a:off x="1028880" y="2873520"/>
              <a:ext cx="1609920" cy="2721240"/>
            </a:xfrm>
            <a:custGeom>
              <a:avLst/>
              <a:gdLst/>
              <a:ahLst/>
              <a:rect l="0" t="0" r="r" b="b"/>
              <a:pathLst>
                <a:path w="4472" h="7559">
                  <a:moveTo>
                    <a:pt x="4225" y="4254"/>
                  </a:moveTo>
                  <a:lnTo>
                    <a:pt x="4260" y="4210"/>
                  </a:lnTo>
                  <a:lnTo>
                    <a:pt x="4295" y="4170"/>
                  </a:lnTo>
                  <a:lnTo>
                    <a:pt x="4326" y="4130"/>
                  </a:lnTo>
                  <a:lnTo>
                    <a:pt x="4348" y="4091"/>
                  </a:lnTo>
                  <a:lnTo>
                    <a:pt x="4379" y="4051"/>
                  </a:lnTo>
                  <a:lnTo>
                    <a:pt x="4401" y="4011"/>
                  </a:lnTo>
                  <a:lnTo>
                    <a:pt x="4415" y="3972"/>
                  </a:lnTo>
                  <a:lnTo>
                    <a:pt x="4432" y="3927"/>
                  </a:lnTo>
                  <a:lnTo>
                    <a:pt x="4445" y="3888"/>
                  </a:lnTo>
                  <a:lnTo>
                    <a:pt x="4454" y="3852"/>
                  </a:lnTo>
                  <a:lnTo>
                    <a:pt x="4463" y="3808"/>
                  </a:lnTo>
                  <a:lnTo>
                    <a:pt x="4463" y="3768"/>
                  </a:lnTo>
                  <a:lnTo>
                    <a:pt x="4463" y="3728"/>
                  </a:lnTo>
                  <a:lnTo>
                    <a:pt x="4468" y="3688"/>
                  </a:lnTo>
                  <a:lnTo>
                    <a:pt x="4459" y="3648"/>
                  </a:lnTo>
                  <a:lnTo>
                    <a:pt x="4450" y="3618"/>
                  </a:lnTo>
                  <a:lnTo>
                    <a:pt x="4445" y="3573"/>
                  </a:lnTo>
                  <a:lnTo>
                    <a:pt x="4437" y="3538"/>
                  </a:lnTo>
                  <a:lnTo>
                    <a:pt x="4423" y="3498"/>
                  </a:lnTo>
                  <a:lnTo>
                    <a:pt x="4406" y="3463"/>
                  </a:lnTo>
                  <a:lnTo>
                    <a:pt x="4388" y="3432"/>
                  </a:lnTo>
                  <a:lnTo>
                    <a:pt x="4375" y="3397"/>
                  </a:lnTo>
                  <a:lnTo>
                    <a:pt x="4353" y="3357"/>
                  </a:lnTo>
                  <a:lnTo>
                    <a:pt x="4326" y="3331"/>
                  </a:lnTo>
                  <a:lnTo>
                    <a:pt x="4309" y="3291"/>
                  </a:lnTo>
                  <a:lnTo>
                    <a:pt x="4278" y="3265"/>
                  </a:lnTo>
                  <a:lnTo>
                    <a:pt x="4251" y="3229"/>
                  </a:lnTo>
                  <a:lnTo>
                    <a:pt x="4225" y="3203"/>
                  </a:lnTo>
                  <a:lnTo>
                    <a:pt x="4194" y="3172"/>
                  </a:lnTo>
                  <a:lnTo>
                    <a:pt x="4167" y="3150"/>
                  </a:lnTo>
                  <a:lnTo>
                    <a:pt x="4132" y="3123"/>
                  </a:lnTo>
                  <a:lnTo>
                    <a:pt x="4106" y="3097"/>
                  </a:lnTo>
                  <a:lnTo>
                    <a:pt x="4145" y="3070"/>
                  </a:lnTo>
                  <a:lnTo>
                    <a:pt x="4181" y="3044"/>
                  </a:lnTo>
                  <a:lnTo>
                    <a:pt x="4212" y="3018"/>
                  </a:lnTo>
                  <a:lnTo>
                    <a:pt x="4242" y="2978"/>
                  </a:lnTo>
                  <a:lnTo>
                    <a:pt x="4264" y="2943"/>
                  </a:lnTo>
                  <a:lnTo>
                    <a:pt x="4282" y="2903"/>
                  </a:lnTo>
                  <a:lnTo>
                    <a:pt x="4295" y="2859"/>
                  </a:lnTo>
                  <a:lnTo>
                    <a:pt x="4300" y="2819"/>
                  </a:lnTo>
                  <a:lnTo>
                    <a:pt x="4304" y="2770"/>
                  </a:lnTo>
                  <a:lnTo>
                    <a:pt x="4300" y="2726"/>
                  </a:lnTo>
                  <a:lnTo>
                    <a:pt x="4295" y="2687"/>
                  </a:lnTo>
                  <a:lnTo>
                    <a:pt x="4282" y="2638"/>
                  </a:lnTo>
                  <a:lnTo>
                    <a:pt x="4264" y="2594"/>
                  </a:lnTo>
                  <a:lnTo>
                    <a:pt x="4247" y="2554"/>
                  </a:lnTo>
                  <a:lnTo>
                    <a:pt x="4216" y="2515"/>
                  </a:lnTo>
                  <a:lnTo>
                    <a:pt x="4185" y="2479"/>
                  </a:lnTo>
                  <a:lnTo>
                    <a:pt x="4220" y="2426"/>
                  </a:lnTo>
                  <a:lnTo>
                    <a:pt x="4256" y="2378"/>
                  </a:lnTo>
                  <a:lnTo>
                    <a:pt x="4282" y="2334"/>
                  </a:lnTo>
                  <a:lnTo>
                    <a:pt x="4300" y="2281"/>
                  </a:lnTo>
                  <a:lnTo>
                    <a:pt x="4317" y="2237"/>
                  </a:lnTo>
                  <a:lnTo>
                    <a:pt x="4326" y="2192"/>
                  </a:lnTo>
                  <a:lnTo>
                    <a:pt x="4331" y="2144"/>
                  </a:lnTo>
                  <a:lnTo>
                    <a:pt x="4331" y="2100"/>
                  </a:lnTo>
                  <a:lnTo>
                    <a:pt x="4322" y="2056"/>
                  </a:lnTo>
                  <a:lnTo>
                    <a:pt x="4313" y="2012"/>
                  </a:lnTo>
                  <a:lnTo>
                    <a:pt x="4300" y="1972"/>
                  </a:lnTo>
                  <a:lnTo>
                    <a:pt x="4278" y="1932"/>
                  </a:lnTo>
                  <a:lnTo>
                    <a:pt x="4251" y="1897"/>
                  </a:lnTo>
                  <a:lnTo>
                    <a:pt x="4220" y="1866"/>
                  </a:lnTo>
                  <a:lnTo>
                    <a:pt x="4185" y="1835"/>
                  </a:lnTo>
                  <a:lnTo>
                    <a:pt x="4145" y="1817"/>
                  </a:lnTo>
                  <a:lnTo>
                    <a:pt x="4194" y="1786"/>
                  </a:lnTo>
                  <a:lnTo>
                    <a:pt x="4234" y="1756"/>
                  </a:lnTo>
                  <a:lnTo>
                    <a:pt x="4273" y="1720"/>
                  </a:lnTo>
                  <a:lnTo>
                    <a:pt x="4304" y="1694"/>
                  </a:lnTo>
                  <a:lnTo>
                    <a:pt x="4335" y="1654"/>
                  </a:lnTo>
                  <a:lnTo>
                    <a:pt x="4366" y="1623"/>
                  </a:lnTo>
                  <a:lnTo>
                    <a:pt x="4388" y="1584"/>
                  </a:lnTo>
                  <a:lnTo>
                    <a:pt x="4406" y="1544"/>
                  </a:lnTo>
                  <a:lnTo>
                    <a:pt x="4428" y="1504"/>
                  </a:lnTo>
                  <a:lnTo>
                    <a:pt x="4445" y="1464"/>
                  </a:lnTo>
                  <a:lnTo>
                    <a:pt x="4454" y="1425"/>
                  </a:lnTo>
                  <a:lnTo>
                    <a:pt x="4463" y="1376"/>
                  </a:lnTo>
                  <a:lnTo>
                    <a:pt x="4468" y="1336"/>
                  </a:lnTo>
                  <a:lnTo>
                    <a:pt x="4472" y="1297"/>
                  </a:lnTo>
                  <a:lnTo>
                    <a:pt x="4472" y="1248"/>
                  </a:lnTo>
                  <a:lnTo>
                    <a:pt x="4472" y="1204"/>
                  </a:lnTo>
                  <a:lnTo>
                    <a:pt x="4463" y="1164"/>
                  </a:lnTo>
                  <a:lnTo>
                    <a:pt x="4454" y="1120"/>
                  </a:lnTo>
                  <a:lnTo>
                    <a:pt x="4445" y="1076"/>
                  </a:lnTo>
                  <a:lnTo>
                    <a:pt x="4432" y="1036"/>
                  </a:lnTo>
                  <a:lnTo>
                    <a:pt x="4415" y="992"/>
                  </a:lnTo>
                  <a:lnTo>
                    <a:pt x="4397" y="948"/>
                  </a:lnTo>
                  <a:lnTo>
                    <a:pt x="4384" y="913"/>
                  </a:lnTo>
                  <a:lnTo>
                    <a:pt x="4357" y="873"/>
                  </a:lnTo>
                  <a:lnTo>
                    <a:pt x="4331" y="829"/>
                  </a:lnTo>
                  <a:lnTo>
                    <a:pt x="4309" y="798"/>
                  </a:lnTo>
                  <a:lnTo>
                    <a:pt x="4282" y="758"/>
                  </a:lnTo>
                  <a:lnTo>
                    <a:pt x="4247" y="728"/>
                  </a:lnTo>
                  <a:lnTo>
                    <a:pt x="4216" y="697"/>
                  </a:lnTo>
                  <a:lnTo>
                    <a:pt x="4185" y="666"/>
                  </a:lnTo>
                  <a:lnTo>
                    <a:pt x="4145" y="635"/>
                  </a:lnTo>
                  <a:lnTo>
                    <a:pt x="4106" y="608"/>
                  </a:lnTo>
                  <a:lnTo>
                    <a:pt x="4101" y="551"/>
                  </a:lnTo>
                  <a:lnTo>
                    <a:pt x="4084" y="498"/>
                  </a:lnTo>
                  <a:lnTo>
                    <a:pt x="4066" y="445"/>
                  </a:lnTo>
                  <a:lnTo>
                    <a:pt x="4048" y="397"/>
                  </a:lnTo>
                  <a:lnTo>
                    <a:pt x="4022" y="344"/>
                  </a:lnTo>
                  <a:lnTo>
                    <a:pt x="4000" y="304"/>
                  </a:lnTo>
                  <a:lnTo>
                    <a:pt x="3969" y="260"/>
                  </a:lnTo>
                  <a:lnTo>
                    <a:pt x="3938" y="220"/>
                  </a:lnTo>
                  <a:lnTo>
                    <a:pt x="3903" y="180"/>
                  </a:lnTo>
                  <a:lnTo>
                    <a:pt x="3863" y="150"/>
                  </a:lnTo>
                  <a:lnTo>
                    <a:pt x="3828" y="119"/>
                  </a:lnTo>
                  <a:lnTo>
                    <a:pt x="3788" y="92"/>
                  </a:lnTo>
                  <a:lnTo>
                    <a:pt x="3748" y="66"/>
                  </a:lnTo>
                  <a:lnTo>
                    <a:pt x="3704" y="44"/>
                  </a:lnTo>
                  <a:lnTo>
                    <a:pt x="3664" y="26"/>
                  </a:lnTo>
                  <a:lnTo>
                    <a:pt x="3616" y="17"/>
                  </a:lnTo>
                  <a:lnTo>
                    <a:pt x="3571" y="8"/>
                  </a:lnTo>
                  <a:lnTo>
                    <a:pt x="3523" y="0"/>
                  </a:lnTo>
                  <a:lnTo>
                    <a:pt x="3474" y="0"/>
                  </a:lnTo>
                  <a:lnTo>
                    <a:pt x="3430" y="0"/>
                  </a:lnTo>
                  <a:lnTo>
                    <a:pt x="3386" y="0"/>
                  </a:lnTo>
                  <a:lnTo>
                    <a:pt x="3333" y="8"/>
                  </a:lnTo>
                  <a:lnTo>
                    <a:pt x="3289" y="22"/>
                  </a:lnTo>
                  <a:lnTo>
                    <a:pt x="3249" y="39"/>
                  </a:lnTo>
                  <a:lnTo>
                    <a:pt x="3201" y="61"/>
                  </a:lnTo>
                  <a:lnTo>
                    <a:pt x="3157" y="88"/>
                  </a:lnTo>
                  <a:lnTo>
                    <a:pt x="3117" y="119"/>
                  </a:lnTo>
                  <a:lnTo>
                    <a:pt x="3082" y="154"/>
                  </a:lnTo>
                  <a:lnTo>
                    <a:pt x="3042" y="194"/>
                  </a:lnTo>
                  <a:lnTo>
                    <a:pt x="3002" y="238"/>
                  </a:lnTo>
                  <a:lnTo>
                    <a:pt x="2971" y="286"/>
                  </a:lnTo>
                  <a:lnTo>
                    <a:pt x="2940" y="344"/>
                  </a:lnTo>
                  <a:lnTo>
                    <a:pt x="2874" y="344"/>
                  </a:lnTo>
                  <a:lnTo>
                    <a:pt x="2812" y="352"/>
                  </a:lnTo>
                  <a:lnTo>
                    <a:pt x="2755" y="370"/>
                  </a:lnTo>
                  <a:lnTo>
                    <a:pt x="2693" y="388"/>
                  </a:lnTo>
                  <a:lnTo>
                    <a:pt x="2636" y="419"/>
                  </a:lnTo>
                  <a:lnTo>
                    <a:pt x="2587" y="450"/>
                  </a:lnTo>
                  <a:lnTo>
                    <a:pt x="2539" y="485"/>
                  </a:lnTo>
                  <a:lnTo>
                    <a:pt x="2494" y="529"/>
                  </a:lnTo>
                  <a:lnTo>
                    <a:pt x="2446" y="569"/>
                  </a:lnTo>
                  <a:lnTo>
                    <a:pt x="2406" y="617"/>
                  </a:lnTo>
                  <a:lnTo>
                    <a:pt x="2362" y="670"/>
                  </a:lnTo>
                  <a:lnTo>
                    <a:pt x="2327" y="728"/>
                  </a:lnTo>
                  <a:lnTo>
                    <a:pt x="2296" y="785"/>
                  </a:lnTo>
                  <a:lnTo>
                    <a:pt x="2261" y="838"/>
                  </a:lnTo>
                  <a:lnTo>
                    <a:pt x="2238" y="904"/>
                  </a:lnTo>
                  <a:lnTo>
                    <a:pt x="2215" y="966"/>
                  </a:lnTo>
                  <a:lnTo>
                    <a:pt x="2189" y="1028"/>
                  </a:lnTo>
                  <a:lnTo>
                    <a:pt x="2171" y="1094"/>
                  </a:lnTo>
                  <a:lnTo>
                    <a:pt x="2158" y="1156"/>
                  </a:lnTo>
                  <a:lnTo>
                    <a:pt x="2145" y="1222"/>
                  </a:lnTo>
                  <a:lnTo>
                    <a:pt x="2131" y="1283"/>
                  </a:lnTo>
                  <a:lnTo>
                    <a:pt x="2123" y="1345"/>
                  </a:lnTo>
                  <a:lnTo>
                    <a:pt x="2123" y="1407"/>
                  </a:lnTo>
                  <a:lnTo>
                    <a:pt x="2123" y="1464"/>
                  </a:lnTo>
                  <a:lnTo>
                    <a:pt x="2127" y="1526"/>
                  </a:lnTo>
                  <a:lnTo>
                    <a:pt x="2127" y="1579"/>
                  </a:lnTo>
                  <a:lnTo>
                    <a:pt x="2136" y="1628"/>
                  </a:lnTo>
                  <a:lnTo>
                    <a:pt x="2149" y="1681"/>
                  </a:lnTo>
                  <a:lnTo>
                    <a:pt x="2162" y="1725"/>
                  </a:lnTo>
                  <a:lnTo>
                    <a:pt x="2184" y="1769"/>
                  </a:lnTo>
                  <a:lnTo>
                    <a:pt x="2207" y="1804"/>
                  </a:lnTo>
                  <a:lnTo>
                    <a:pt x="2233" y="1839"/>
                  </a:lnTo>
                  <a:lnTo>
                    <a:pt x="2198" y="1826"/>
                  </a:lnTo>
                  <a:lnTo>
                    <a:pt x="2158" y="1817"/>
                  </a:lnTo>
                  <a:lnTo>
                    <a:pt x="2127" y="1813"/>
                  </a:lnTo>
                  <a:lnTo>
                    <a:pt x="2096" y="1813"/>
                  </a:lnTo>
                  <a:lnTo>
                    <a:pt x="2065" y="1813"/>
                  </a:lnTo>
                  <a:lnTo>
                    <a:pt x="2034" y="1822"/>
                  </a:lnTo>
                  <a:lnTo>
                    <a:pt x="2003" y="1831"/>
                  </a:lnTo>
                  <a:lnTo>
                    <a:pt x="1973" y="1839"/>
                  </a:lnTo>
                  <a:lnTo>
                    <a:pt x="1946" y="1853"/>
                  </a:lnTo>
                  <a:lnTo>
                    <a:pt x="1924" y="1870"/>
                  </a:lnTo>
                  <a:lnTo>
                    <a:pt x="1898" y="1884"/>
                  </a:lnTo>
                  <a:lnTo>
                    <a:pt x="1871" y="1906"/>
                  </a:lnTo>
                  <a:lnTo>
                    <a:pt x="1853" y="1928"/>
                  </a:lnTo>
                  <a:lnTo>
                    <a:pt x="1827" y="1954"/>
                  </a:lnTo>
                  <a:lnTo>
                    <a:pt x="1814" y="1981"/>
                  </a:lnTo>
                  <a:lnTo>
                    <a:pt x="1796" y="2007"/>
                  </a:lnTo>
                  <a:lnTo>
                    <a:pt x="1778" y="2034"/>
                  </a:lnTo>
                  <a:lnTo>
                    <a:pt x="1761" y="2064"/>
                  </a:lnTo>
                  <a:lnTo>
                    <a:pt x="1752" y="2095"/>
                  </a:lnTo>
                  <a:lnTo>
                    <a:pt x="1743" y="2131"/>
                  </a:lnTo>
                  <a:lnTo>
                    <a:pt x="1734" y="2162"/>
                  </a:lnTo>
                  <a:lnTo>
                    <a:pt x="1725" y="2197"/>
                  </a:lnTo>
                  <a:lnTo>
                    <a:pt x="1725" y="2232"/>
                  </a:lnTo>
                  <a:lnTo>
                    <a:pt x="1721" y="2267"/>
                  </a:lnTo>
                  <a:lnTo>
                    <a:pt x="1721" y="2298"/>
                  </a:lnTo>
                  <a:lnTo>
                    <a:pt x="1730" y="2338"/>
                  </a:lnTo>
                  <a:lnTo>
                    <a:pt x="1730" y="2373"/>
                  </a:lnTo>
                  <a:lnTo>
                    <a:pt x="1739" y="2409"/>
                  </a:lnTo>
                  <a:lnTo>
                    <a:pt x="1747" y="2448"/>
                  </a:lnTo>
                  <a:lnTo>
                    <a:pt x="1761" y="2488"/>
                  </a:lnTo>
                  <a:lnTo>
                    <a:pt x="1770" y="2519"/>
                  </a:lnTo>
                  <a:lnTo>
                    <a:pt x="1792" y="2554"/>
                  </a:lnTo>
                  <a:lnTo>
                    <a:pt x="1752" y="2567"/>
                  </a:lnTo>
                  <a:lnTo>
                    <a:pt x="1717" y="2581"/>
                  </a:lnTo>
                  <a:lnTo>
                    <a:pt x="1690" y="2594"/>
                  </a:lnTo>
                  <a:lnTo>
                    <a:pt x="1655" y="2612"/>
                  </a:lnTo>
                  <a:lnTo>
                    <a:pt x="1628" y="2625"/>
                  </a:lnTo>
                  <a:lnTo>
                    <a:pt x="1602" y="2647"/>
                  </a:lnTo>
                  <a:lnTo>
                    <a:pt x="1575" y="2665"/>
                  </a:lnTo>
                  <a:lnTo>
                    <a:pt x="1549" y="2691"/>
                  </a:lnTo>
                  <a:lnTo>
                    <a:pt x="1531" y="2713"/>
                  </a:lnTo>
                  <a:lnTo>
                    <a:pt x="1505" y="2744"/>
                  </a:lnTo>
                  <a:lnTo>
                    <a:pt x="1487" y="2766"/>
                  </a:lnTo>
                  <a:lnTo>
                    <a:pt x="1474" y="2801"/>
                  </a:lnTo>
                  <a:lnTo>
                    <a:pt x="1452" y="2828"/>
                  </a:lnTo>
                  <a:lnTo>
                    <a:pt x="1438" y="2854"/>
                  </a:lnTo>
                  <a:lnTo>
                    <a:pt x="1425" y="2894"/>
                  </a:lnTo>
                  <a:lnTo>
                    <a:pt x="1416" y="2920"/>
                  </a:lnTo>
                  <a:lnTo>
                    <a:pt x="1408" y="2956"/>
                  </a:lnTo>
                  <a:lnTo>
                    <a:pt x="1399" y="2987"/>
                  </a:lnTo>
                  <a:lnTo>
                    <a:pt x="1399" y="3022"/>
                  </a:lnTo>
                  <a:lnTo>
                    <a:pt x="1394" y="3057"/>
                  </a:lnTo>
                  <a:lnTo>
                    <a:pt x="1390" y="3088"/>
                  </a:lnTo>
                  <a:lnTo>
                    <a:pt x="1394" y="3128"/>
                  </a:lnTo>
                  <a:lnTo>
                    <a:pt x="1399" y="3159"/>
                  </a:lnTo>
                  <a:lnTo>
                    <a:pt x="1399" y="3194"/>
                  </a:lnTo>
                  <a:lnTo>
                    <a:pt x="1412" y="3229"/>
                  </a:lnTo>
                  <a:lnTo>
                    <a:pt x="1421" y="3265"/>
                  </a:lnTo>
                  <a:lnTo>
                    <a:pt x="1430" y="3295"/>
                  </a:lnTo>
                  <a:lnTo>
                    <a:pt x="1447" y="3331"/>
                  </a:lnTo>
                  <a:lnTo>
                    <a:pt x="1465" y="3362"/>
                  </a:lnTo>
                  <a:lnTo>
                    <a:pt x="1478" y="3393"/>
                  </a:lnTo>
                  <a:lnTo>
                    <a:pt x="1496" y="3423"/>
                  </a:lnTo>
                  <a:lnTo>
                    <a:pt x="1527" y="3454"/>
                  </a:lnTo>
                  <a:lnTo>
                    <a:pt x="1465" y="3441"/>
                  </a:lnTo>
                  <a:lnTo>
                    <a:pt x="1412" y="3437"/>
                  </a:lnTo>
                  <a:lnTo>
                    <a:pt x="1359" y="3441"/>
                  </a:lnTo>
                  <a:lnTo>
                    <a:pt x="1302" y="3446"/>
                  </a:lnTo>
                  <a:lnTo>
                    <a:pt x="1249" y="3454"/>
                  </a:lnTo>
                  <a:lnTo>
                    <a:pt x="1196" y="3463"/>
                  </a:lnTo>
                  <a:lnTo>
                    <a:pt x="1147" y="3476"/>
                  </a:lnTo>
                  <a:lnTo>
                    <a:pt x="1090" y="3494"/>
                  </a:lnTo>
                  <a:lnTo>
                    <a:pt x="1037" y="3521"/>
                  </a:lnTo>
                  <a:lnTo>
                    <a:pt x="993" y="3538"/>
                  </a:lnTo>
                  <a:lnTo>
                    <a:pt x="940" y="3565"/>
                  </a:lnTo>
                  <a:lnTo>
                    <a:pt x="896" y="3600"/>
                  </a:lnTo>
                  <a:lnTo>
                    <a:pt x="843" y="3631"/>
                  </a:lnTo>
                  <a:lnTo>
                    <a:pt x="803" y="3666"/>
                  </a:lnTo>
                  <a:lnTo>
                    <a:pt x="759" y="3701"/>
                  </a:lnTo>
                  <a:lnTo>
                    <a:pt x="723" y="3750"/>
                  </a:lnTo>
                  <a:lnTo>
                    <a:pt x="679" y="3795"/>
                  </a:lnTo>
                  <a:lnTo>
                    <a:pt x="648" y="3844"/>
                  </a:lnTo>
                  <a:lnTo>
                    <a:pt x="617" y="3888"/>
                  </a:lnTo>
                  <a:lnTo>
                    <a:pt x="587" y="3945"/>
                  </a:lnTo>
                  <a:lnTo>
                    <a:pt x="565" y="3998"/>
                  </a:lnTo>
                  <a:lnTo>
                    <a:pt x="547" y="4055"/>
                  </a:lnTo>
                  <a:lnTo>
                    <a:pt x="525" y="4108"/>
                  </a:lnTo>
                  <a:lnTo>
                    <a:pt x="507" y="4175"/>
                  </a:lnTo>
                  <a:lnTo>
                    <a:pt x="498" y="4236"/>
                  </a:lnTo>
                  <a:lnTo>
                    <a:pt x="489" y="4302"/>
                  </a:lnTo>
                  <a:lnTo>
                    <a:pt x="489" y="4373"/>
                  </a:lnTo>
                  <a:lnTo>
                    <a:pt x="494" y="4444"/>
                  </a:lnTo>
                  <a:lnTo>
                    <a:pt x="507" y="4514"/>
                  </a:lnTo>
                  <a:lnTo>
                    <a:pt x="512" y="4589"/>
                  </a:lnTo>
                  <a:lnTo>
                    <a:pt x="529" y="4664"/>
                  </a:lnTo>
                  <a:lnTo>
                    <a:pt x="556" y="4739"/>
                  </a:lnTo>
                  <a:lnTo>
                    <a:pt x="520" y="4770"/>
                  </a:lnTo>
                  <a:lnTo>
                    <a:pt x="489" y="4805"/>
                  </a:lnTo>
                  <a:lnTo>
                    <a:pt x="463" y="4832"/>
                  </a:lnTo>
                  <a:lnTo>
                    <a:pt x="436" y="4867"/>
                  </a:lnTo>
                  <a:lnTo>
                    <a:pt x="423" y="4898"/>
                  </a:lnTo>
                  <a:lnTo>
                    <a:pt x="410" y="4925"/>
                  </a:lnTo>
                  <a:lnTo>
                    <a:pt x="397" y="4960"/>
                  </a:lnTo>
                  <a:lnTo>
                    <a:pt x="392" y="4986"/>
                  </a:lnTo>
                  <a:lnTo>
                    <a:pt x="388" y="5017"/>
                  </a:lnTo>
                  <a:lnTo>
                    <a:pt x="392" y="5044"/>
                  </a:lnTo>
                  <a:lnTo>
                    <a:pt x="392" y="5075"/>
                  </a:lnTo>
                  <a:lnTo>
                    <a:pt x="401" y="5106"/>
                  </a:lnTo>
                  <a:lnTo>
                    <a:pt x="410" y="5132"/>
                  </a:lnTo>
                  <a:lnTo>
                    <a:pt x="423" y="5158"/>
                  </a:lnTo>
                  <a:lnTo>
                    <a:pt x="441" y="5189"/>
                  </a:lnTo>
                  <a:lnTo>
                    <a:pt x="459" y="5216"/>
                  </a:lnTo>
                  <a:lnTo>
                    <a:pt x="414" y="5225"/>
                  </a:lnTo>
                  <a:lnTo>
                    <a:pt x="375" y="5242"/>
                  </a:lnTo>
                  <a:lnTo>
                    <a:pt x="326" y="5260"/>
                  </a:lnTo>
                  <a:lnTo>
                    <a:pt x="291" y="5282"/>
                  </a:lnTo>
                  <a:lnTo>
                    <a:pt x="247" y="5313"/>
                  </a:lnTo>
                  <a:lnTo>
                    <a:pt x="216" y="5348"/>
                  </a:lnTo>
                  <a:lnTo>
                    <a:pt x="180" y="5375"/>
                  </a:lnTo>
                  <a:lnTo>
                    <a:pt x="154" y="5410"/>
                  </a:lnTo>
                  <a:lnTo>
                    <a:pt x="123" y="5450"/>
                  </a:lnTo>
                  <a:lnTo>
                    <a:pt x="92" y="5489"/>
                  </a:lnTo>
                  <a:lnTo>
                    <a:pt x="70" y="5534"/>
                  </a:lnTo>
                  <a:lnTo>
                    <a:pt x="52" y="5578"/>
                  </a:lnTo>
                  <a:lnTo>
                    <a:pt x="35" y="5622"/>
                  </a:lnTo>
                  <a:lnTo>
                    <a:pt x="22" y="5675"/>
                  </a:lnTo>
                  <a:lnTo>
                    <a:pt x="13" y="5723"/>
                  </a:lnTo>
                  <a:lnTo>
                    <a:pt x="8" y="5772"/>
                  </a:lnTo>
                  <a:lnTo>
                    <a:pt x="0" y="5825"/>
                  </a:lnTo>
                  <a:lnTo>
                    <a:pt x="0" y="5878"/>
                  </a:lnTo>
                  <a:lnTo>
                    <a:pt x="4" y="5931"/>
                  </a:lnTo>
                  <a:lnTo>
                    <a:pt x="8" y="5988"/>
                  </a:lnTo>
                  <a:lnTo>
                    <a:pt x="17" y="6041"/>
                  </a:lnTo>
                  <a:lnTo>
                    <a:pt x="35" y="6094"/>
                  </a:lnTo>
                  <a:lnTo>
                    <a:pt x="52" y="6142"/>
                  </a:lnTo>
                  <a:lnTo>
                    <a:pt x="75" y="6200"/>
                  </a:lnTo>
                  <a:lnTo>
                    <a:pt x="105" y="6257"/>
                  </a:lnTo>
                  <a:lnTo>
                    <a:pt x="141" y="6306"/>
                  </a:lnTo>
                  <a:lnTo>
                    <a:pt x="176" y="6354"/>
                  </a:lnTo>
                  <a:lnTo>
                    <a:pt x="216" y="6412"/>
                  </a:lnTo>
                  <a:lnTo>
                    <a:pt x="264" y="6460"/>
                  </a:lnTo>
                  <a:lnTo>
                    <a:pt x="313" y="6504"/>
                  </a:lnTo>
                  <a:lnTo>
                    <a:pt x="370" y="6553"/>
                  </a:lnTo>
                  <a:lnTo>
                    <a:pt x="432" y="6592"/>
                  </a:lnTo>
                  <a:lnTo>
                    <a:pt x="419" y="6628"/>
                  </a:lnTo>
                  <a:lnTo>
                    <a:pt x="414" y="6663"/>
                  </a:lnTo>
                  <a:lnTo>
                    <a:pt x="414" y="6694"/>
                  </a:lnTo>
                  <a:lnTo>
                    <a:pt x="423" y="6734"/>
                  </a:lnTo>
                  <a:lnTo>
                    <a:pt x="436" y="6769"/>
                  </a:lnTo>
                  <a:lnTo>
                    <a:pt x="459" y="6809"/>
                  </a:lnTo>
                  <a:lnTo>
                    <a:pt x="481" y="6853"/>
                  </a:lnTo>
                  <a:lnTo>
                    <a:pt x="507" y="6884"/>
                  </a:lnTo>
                  <a:lnTo>
                    <a:pt x="538" y="6923"/>
                  </a:lnTo>
                  <a:lnTo>
                    <a:pt x="573" y="6959"/>
                  </a:lnTo>
                  <a:lnTo>
                    <a:pt x="609" y="6985"/>
                  </a:lnTo>
                  <a:lnTo>
                    <a:pt x="653" y="7012"/>
                  </a:lnTo>
                  <a:lnTo>
                    <a:pt x="697" y="7043"/>
                  </a:lnTo>
                  <a:lnTo>
                    <a:pt x="741" y="7060"/>
                  </a:lnTo>
                  <a:lnTo>
                    <a:pt x="781" y="7078"/>
                  </a:lnTo>
                  <a:lnTo>
                    <a:pt x="825" y="7082"/>
                  </a:lnTo>
                  <a:lnTo>
                    <a:pt x="860" y="7131"/>
                  </a:lnTo>
                  <a:lnTo>
                    <a:pt x="896" y="7179"/>
                  </a:lnTo>
                  <a:lnTo>
                    <a:pt x="940" y="7223"/>
                  </a:lnTo>
                  <a:lnTo>
                    <a:pt x="979" y="7263"/>
                  </a:lnTo>
                  <a:lnTo>
                    <a:pt x="1024" y="7303"/>
                  </a:lnTo>
                  <a:lnTo>
                    <a:pt x="1072" y="7334"/>
                  </a:lnTo>
                  <a:lnTo>
                    <a:pt x="1116" y="7365"/>
                  </a:lnTo>
                  <a:lnTo>
                    <a:pt x="1165" y="7400"/>
                  </a:lnTo>
                  <a:lnTo>
                    <a:pt x="1213" y="7431"/>
                  </a:lnTo>
                  <a:lnTo>
                    <a:pt x="1266" y="7457"/>
                  </a:lnTo>
                  <a:lnTo>
                    <a:pt x="1315" y="7479"/>
                  </a:lnTo>
                  <a:lnTo>
                    <a:pt x="1368" y="7501"/>
                  </a:lnTo>
                  <a:lnTo>
                    <a:pt x="1425" y="7515"/>
                  </a:lnTo>
                  <a:lnTo>
                    <a:pt x="1474" y="7532"/>
                  </a:lnTo>
                  <a:lnTo>
                    <a:pt x="1527" y="7541"/>
                  </a:lnTo>
                  <a:lnTo>
                    <a:pt x="1580" y="7550"/>
                  </a:lnTo>
                  <a:lnTo>
                    <a:pt x="1628" y="7554"/>
                  </a:lnTo>
                  <a:lnTo>
                    <a:pt x="1681" y="7559"/>
                  </a:lnTo>
                  <a:lnTo>
                    <a:pt x="1734" y="7554"/>
                  </a:lnTo>
                  <a:lnTo>
                    <a:pt x="1778" y="7550"/>
                  </a:lnTo>
                  <a:lnTo>
                    <a:pt x="1827" y="7546"/>
                  </a:lnTo>
                  <a:lnTo>
                    <a:pt x="1875" y="7532"/>
                  </a:lnTo>
                  <a:lnTo>
                    <a:pt x="1924" y="7515"/>
                  </a:lnTo>
                  <a:lnTo>
                    <a:pt x="1968" y="7497"/>
                  </a:lnTo>
                  <a:lnTo>
                    <a:pt x="2008" y="7475"/>
                  </a:lnTo>
                  <a:lnTo>
                    <a:pt x="2052" y="7448"/>
                  </a:lnTo>
                  <a:lnTo>
                    <a:pt x="2092" y="7418"/>
                  </a:lnTo>
                  <a:lnTo>
                    <a:pt x="2127" y="7387"/>
                  </a:lnTo>
                  <a:lnTo>
                    <a:pt x="2162" y="7351"/>
                  </a:lnTo>
                  <a:lnTo>
                    <a:pt x="2189" y="7307"/>
                  </a:lnTo>
                  <a:lnTo>
                    <a:pt x="2215" y="7263"/>
                  </a:lnTo>
                  <a:lnTo>
                    <a:pt x="2247" y="7210"/>
                  </a:lnTo>
                  <a:lnTo>
                    <a:pt x="2300" y="7215"/>
                  </a:lnTo>
                  <a:lnTo>
                    <a:pt x="2349" y="7210"/>
                  </a:lnTo>
                  <a:lnTo>
                    <a:pt x="2402" y="7206"/>
                  </a:lnTo>
                  <a:lnTo>
                    <a:pt x="2446" y="7193"/>
                  </a:lnTo>
                  <a:lnTo>
                    <a:pt x="2490" y="7179"/>
                  </a:lnTo>
                  <a:lnTo>
                    <a:pt x="2530" y="7166"/>
                  </a:lnTo>
                  <a:lnTo>
                    <a:pt x="2561" y="7144"/>
                  </a:lnTo>
                  <a:lnTo>
                    <a:pt x="2587" y="7118"/>
                  </a:lnTo>
                  <a:lnTo>
                    <a:pt x="2614" y="7091"/>
                  </a:lnTo>
                  <a:lnTo>
                    <a:pt x="2640" y="7056"/>
                  </a:lnTo>
                  <a:lnTo>
                    <a:pt x="2653" y="7016"/>
                  </a:lnTo>
                  <a:lnTo>
                    <a:pt x="2667" y="6981"/>
                  </a:lnTo>
                  <a:lnTo>
                    <a:pt x="2675" y="6937"/>
                  </a:lnTo>
                  <a:lnTo>
                    <a:pt x="2680" y="6893"/>
                  </a:lnTo>
                  <a:lnTo>
                    <a:pt x="2675" y="6844"/>
                  </a:lnTo>
                  <a:lnTo>
                    <a:pt x="2675" y="6791"/>
                  </a:lnTo>
                  <a:lnTo>
                    <a:pt x="2733" y="6787"/>
                  </a:lnTo>
                  <a:lnTo>
                    <a:pt x="2786" y="6778"/>
                  </a:lnTo>
                  <a:lnTo>
                    <a:pt x="2839" y="6769"/>
                  </a:lnTo>
                  <a:lnTo>
                    <a:pt x="2892" y="6765"/>
                  </a:lnTo>
                  <a:lnTo>
                    <a:pt x="2940" y="6747"/>
                  </a:lnTo>
                  <a:lnTo>
                    <a:pt x="2984" y="6729"/>
                  </a:lnTo>
                  <a:lnTo>
                    <a:pt x="3033" y="6712"/>
                  </a:lnTo>
                  <a:lnTo>
                    <a:pt x="3077" y="6690"/>
                  </a:lnTo>
                  <a:lnTo>
                    <a:pt x="3117" y="6672"/>
                  </a:lnTo>
                  <a:lnTo>
                    <a:pt x="3152" y="6650"/>
                  </a:lnTo>
                  <a:lnTo>
                    <a:pt x="3192" y="6623"/>
                  </a:lnTo>
                  <a:lnTo>
                    <a:pt x="3227" y="6597"/>
                  </a:lnTo>
                  <a:lnTo>
                    <a:pt x="3258" y="6566"/>
                  </a:lnTo>
                  <a:lnTo>
                    <a:pt x="3293" y="6540"/>
                  </a:lnTo>
                  <a:lnTo>
                    <a:pt x="3320" y="6504"/>
                  </a:lnTo>
                  <a:lnTo>
                    <a:pt x="3346" y="6473"/>
                  </a:lnTo>
                  <a:lnTo>
                    <a:pt x="3373" y="6438"/>
                  </a:lnTo>
                  <a:lnTo>
                    <a:pt x="3399" y="6403"/>
                  </a:lnTo>
                  <a:lnTo>
                    <a:pt x="3417" y="6367"/>
                  </a:lnTo>
                  <a:lnTo>
                    <a:pt x="3439" y="6328"/>
                  </a:lnTo>
                  <a:lnTo>
                    <a:pt x="3452" y="6292"/>
                  </a:lnTo>
                  <a:lnTo>
                    <a:pt x="3466" y="6248"/>
                  </a:lnTo>
                  <a:lnTo>
                    <a:pt x="3479" y="6209"/>
                  </a:lnTo>
                  <a:lnTo>
                    <a:pt x="3492" y="6169"/>
                  </a:lnTo>
                  <a:lnTo>
                    <a:pt x="3496" y="6125"/>
                  </a:lnTo>
                  <a:lnTo>
                    <a:pt x="3501" y="6076"/>
                  </a:lnTo>
                  <a:lnTo>
                    <a:pt x="3501" y="6032"/>
                  </a:lnTo>
                  <a:lnTo>
                    <a:pt x="3501" y="5984"/>
                  </a:lnTo>
                  <a:lnTo>
                    <a:pt x="3496" y="5939"/>
                  </a:lnTo>
                  <a:lnTo>
                    <a:pt x="3496" y="5891"/>
                  </a:lnTo>
                  <a:lnTo>
                    <a:pt x="3488" y="5847"/>
                  </a:lnTo>
                  <a:lnTo>
                    <a:pt x="3479" y="5798"/>
                  </a:lnTo>
                  <a:lnTo>
                    <a:pt x="3545" y="5785"/>
                  </a:lnTo>
                  <a:lnTo>
                    <a:pt x="3607" y="5772"/>
                  </a:lnTo>
                  <a:lnTo>
                    <a:pt x="3673" y="5754"/>
                  </a:lnTo>
                  <a:lnTo>
                    <a:pt x="3730" y="5732"/>
                  </a:lnTo>
                  <a:lnTo>
                    <a:pt x="3788" y="5692"/>
                  </a:lnTo>
                  <a:lnTo>
                    <a:pt x="3841" y="5661"/>
                  </a:lnTo>
                  <a:lnTo>
                    <a:pt x="3889" y="5626"/>
                  </a:lnTo>
                  <a:lnTo>
                    <a:pt x="3942" y="5586"/>
                  </a:lnTo>
                  <a:lnTo>
                    <a:pt x="3986" y="5538"/>
                  </a:lnTo>
                  <a:lnTo>
                    <a:pt x="4031" y="5494"/>
                  </a:lnTo>
                  <a:lnTo>
                    <a:pt x="4070" y="5445"/>
                  </a:lnTo>
                  <a:lnTo>
                    <a:pt x="4106" y="5397"/>
                  </a:lnTo>
                  <a:lnTo>
                    <a:pt x="4141" y="5339"/>
                  </a:lnTo>
                  <a:lnTo>
                    <a:pt x="4176" y="5278"/>
                  </a:lnTo>
                  <a:lnTo>
                    <a:pt x="4203" y="5225"/>
                  </a:lnTo>
                  <a:lnTo>
                    <a:pt x="4234" y="5163"/>
                  </a:lnTo>
                  <a:lnTo>
                    <a:pt x="4251" y="5106"/>
                  </a:lnTo>
                  <a:lnTo>
                    <a:pt x="4269" y="5044"/>
                  </a:lnTo>
                  <a:lnTo>
                    <a:pt x="4291" y="4982"/>
                  </a:lnTo>
                  <a:lnTo>
                    <a:pt x="4304" y="4925"/>
                  </a:lnTo>
                  <a:lnTo>
                    <a:pt x="4317" y="4858"/>
                  </a:lnTo>
                  <a:lnTo>
                    <a:pt x="4317" y="4797"/>
                  </a:lnTo>
                  <a:lnTo>
                    <a:pt x="4331" y="4735"/>
                  </a:lnTo>
                  <a:lnTo>
                    <a:pt x="4326" y="4673"/>
                  </a:lnTo>
                  <a:lnTo>
                    <a:pt x="4326" y="4616"/>
                  </a:lnTo>
                  <a:lnTo>
                    <a:pt x="4326" y="4558"/>
                  </a:lnTo>
                  <a:lnTo>
                    <a:pt x="4313" y="4497"/>
                  </a:lnTo>
                  <a:lnTo>
                    <a:pt x="4300" y="4444"/>
                  </a:lnTo>
                  <a:lnTo>
                    <a:pt x="4287" y="4391"/>
                  </a:lnTo>
                  <a:lnTo>
                    <a:pt x="4269" y="4342"/>
                  </a:lnTo>
                  <a:lnTo>
                    <a:pt x="4242" y="4294"/>
                  </a:lnTo>
                  <a:lnTo>
                    <a:pt x="4225" y="42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92280" y="3978360"/>
              <a:ext cx="154440" cy="432000"/>
            </a:xfrm>
            <a:custGeom>
              <a:avLst/>
              <a:gdLst/>
              <a:ahLst/>
              <a:rect l="0" t="0" r="r" b="b"/>
              <a:pathLst>
                <a:path w="429" h="1200">
                  <a:moveTo>
                    <a:pt x="13" y="4"/>
                  </a:moveTo>
                  <a:lnTo>
                    <a:pt x="13" y="44"/>
                  </a:lnTo>
                  <a:lnTo>
                    <a:pt x="49" y="75"/>
                  </a:lnTo>
                  <a:lnTo>
                    <a:pt x="75" y="97"/>
                  </a:lnTo>
                  <a:lnTo>
                    <a:pt x="112" y="123"/>
                  </a:lnTo>
                  <a:lnTo>
                    <a:pt x="139" y="150"/>
                  </a:lnTo>
                  <a:lnTo>
                    <a:pt x="165" y="181"/>
                  </a:lnTo>
                  <a:lnTo>
                    <a:pt x="192" y="208"/>
                  </a:lnTo>
                  <a:lnTo>
                    <a:pt x="214" y="239"/>
                  </a:lnTo>
                  <a:lnTo>
                    <a:pt x="237" y="269"/>
                  </a:lnTo>
                  <a:lnTo>
                    <a:pt x="259" y="305"/>
                  </a:lnTo>
                  <a:lnTo>
                    <a:pt x="281" y="331"/>
                  </a:lnTo>
                  <a:lnTo>
                    <a:pt x="303" y="367"/>
                  </a:lnTo>
                  <a:lnTo>
                    <a:pt x="312" y="402"/>
                  </a:lnTo>
                  <a:lnTo>
                    <a:pt x="327" y="442"/>
                  </a:lnTo>
                  <a:lnTo>
                    <a:pt x="345" y="473"/>
                  </a:lnTo>
                  <a:lnTo>
                    <a:pt x="349" y="508"/>
                  </a:lnTo>
                  <a:lnTo>
                    <a:pt x="362" y="544"/>
                  </a:lnTo>
                  <a:lnTo>
                    <a:pt x="367" y="584"/>
                  </a:lnTo>
                  <a:lnTo>
                    <a:pt x="371" y="620"/>
                  </a:lnTo>
                  <a:lnTo>
                    <a:pt x="371" y="656"/>
                  </a:lnTo>
                  <a:lnTo>
                    <a:pt x="371" y="700"/>
                  </a:lnTo>
                  <a:lnTo>
                    <a:pt x="367" y="740"/>
                  </a:lnTo>
                  <a:lnTo>
                    <a:pt x="362" y="775"/>
                  </a:lnTo>
                  <a:lnTo>
                    <a:pt x="349" y="810"/>
                  </a:lnTo>
                  <a:lnTo>
                    <a:pt x="340" y="855"/>
                  </a:lnTo>
                  <a:lnTo>
                    <a:pt x="327" y="890"/>
                  </a:lnTo>
                  <a:lnTo>
                    <a:pt x="303" y="930"/>
                  </a:lnTo>
                  <a:lnTo>
                    <a:pt x="286" y="965"/>
                  </a:lnTo>
                  <a:lnTo>
                    <a:pt x="263" y="1010"/>
                  </a:lnTo>
                  <a:lnTo>
                    <a:pt x="232" y="1049"/>
                  </a:lnTo>
                  <a:lnTo>
                    <a:pt x="205" y="1089"/>
                  </a:lnTo>
                  <a:lnTo>
                    <a:pt x="165" y="1120"/>
                  </a:lnTo>
                  <a:lnTo>
                    <a:pt x="130" y="1160"/>
                  </a:lnTo>
                  <a:lnTo>
                    <a:pt x="174" y="1200"/>
                  </a:lnTo>
                  <a:lnTo>
                    <a:pt x="214" y="1160"/>
                  </a:lnTo>
                  <a:lnTo>
                    <a:pt x="246" y="1125"/>
                  </a:lnTo>
                  <a:lnTo>
                    <a:pt x="286" y="1080"/>
                  </a:lnTo>
                  <a:lnTo>
                    <a:pt x="312" y="1041"/>
                  </a:lnTo>
                  <a:lnTo>
                    <a:pt x="340" y="1001"/>
                  </a:lnTo>
                  <a:lnTo>
                    <a:pt x="358" y="952"/>
                  </a:lnTo>
                  <a:lnTo>
                    <a:pt x="376" y="917"/>
                  </a:lnTo>
                  <a:lnTo>
                    <a:pt x="398" y="872"/>
                  </a:lnTo>
                  <a:lnTo>
                    <a:pt x="411" y="828"/>
                  </a:lnTo>
                  <a:lnTo>
                    <a:pt x="416" y="793"/>
                  </a:lnTo>
                  <a:lnTo>
                    <a:pt x="425" y="748"/>
                  </a:lnTo>
                  <a:lnTo>
                    <a:pt x="425" y="709"/>
                  </a:lnTo>
                  <a:lnTo>
                    <a:pt x="429" y="669"/>
                  </a:lnTo>
                  <a:lnTo>
                    <a:pt x="429" y="625"/>
                  </a:lnTo>
                  <a:lnTo>
                    <a:pt x="425" y="584"/>
                  </a:lnTo>
                  <a:lnTo>
                    <a:pt x="416" y="544"/>
                  </a:lnTo>
                  <a:lnTo>
                    <a:pt x="407" y="500"/>
                  </a:lnTo>
                  <a:lnTo>
                    <a:pt x="403" y="460"/>
                  </a:lnTo>
                  <a:lnTo>
                    <a:pt x="385" y="424"/>
                  </a:lnTo>
                  <a:lnTo>
                    <a:pt x="367" y="385"/>
                  </a:lnTo>
                  <a:lnTo>
                    <a:pt x="349" y="349"/>
                  </a:lnTo>
                  <a:lnTo>
                    <a:pt x="331" y="309"/>
                  </a:lnTo>
                  <a:lnTo>
                    <a:pt x="312" y="278"/>
                  </a:lnTo>
                  <a:lnTo>
                    <a:pt x="286" y="243"/>
                  </a:lnTo>
                  <a:lnTo>
                    <a:pt x="259" y="212"/>
                  </a:lnTo>
                  <a:lnTo>
                    <a:pt x="232" y="177"/>
                  </a:lnTo>
                  <a:lnTo>
                    <a:pt x="205" y="150"/>
                  </a:lnTo>
                  <a:lnTo>
                    <a:pt x="179" y="115"/>
                  </a:lnTo>
                  <a:lnTo>
                    <a:pt x="143" y="88"/>
                  </a:lnTo>
                  <a:lnTo>
                    <a:pt x="112" y="57"/>
                  </a:lnTo>
                  <a:lnTo>
                    <a:pt x="80" y="30"/>
                  </a:lnTo>
                  <a:lnTo>
                    <a:pt x="44" y="8"/>
                  </a:lnTo>
                  <a:lnTo>
                    <a:pt x="44" y="53"/>
                  </a:lnTo>
                  <a:lnTo>
                    <a:pt x="44" y="8"/>
                  </a:lnTo>
                  <a:lnTo>
                    <a:pt x="35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4" y="8"/>
                  </a:lnTo>
                  <a:lnTo>
                    <a:pt x="0" y="17"/>
                  </a:lnTo>
                  <a:lnTo>
                    <a:pt x="4" y="30"/>
                  </a:lnTo>
                  <a:lnTo>
                    <a:pt x="4" y="39"/>
                  </a:lnTo>
                  <a:lnTo>
                    <a:pt x="13" y="4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96960" y="3755880"/>
              <a:ext cx="92520" cy="243360"/>
            </a:xfrm>
            <a:custGeom>
              <a:avLst/>
              <a:gdLst/>
              <a:ahLst/>
              <a:rect l="0" t="0" r="r" b="b"/>
              <a:pathLst>
                <a:path w="257" h="676">
                  <a:moveTo>
                    <a:pt x="81" y="4"/>
                  </a:moveTo>
                  <a:lnTo>
                    <a:pt x="86" y="35"/>
                  </a:lnTo>
                  <a:lnTo>
                    <a:pt x="113" y="75"/>
                  </a:lnTo>
                  <a:lnTo>
                    <a:pt x="135" y="110"/>
                  </a:lnTo>
                  <a:lnTo>
                    <a:pt x="162" y="150"/>
                  </a:lnTo>
                  <a:lnTo>
                    <a:pt x="175" y="196"/>
                  </a:lnTo>
                  <a:lnTo>
                    <a:pt x="189" y="231"/>
                  </a:lnTo>
                  <a:lnTo>
                    <a:pt x="194" y="276"/>
                  </a:lnTo>
                  <a:lnTo>
                    <a:pt x="194" y="316"/>
                  </a:lnTo>
                  <a:lnTo>
                    <a:pt x="194" y="360"/>
                  </a:lnTo>
                  <a:lnTo>
                    <a:pt x="184" y="400"/>
                  </a:lnTo>
                  <a:lnTo>
                    <a:pt x="175" y="440"/>
                  </a:lnTo>
                  <a:lnTo>
                    <a:pt x="158" y="480"/>
                  </a:lnTo>
                  <a:lnTo>
                    <a:pt x="135" y="516"/>
                  </a:lnTo>
                  <a:lnTo>
                    <a:pt x="108" y="547"/>
                  </a:lnTo>
                  <a:lnTo>
                    <a:pt x="77" y="579"/>
                  </a:lnTo>
                  <a:lnTo>
                    <a:pt x="44" y="601"/>
                  </a:lnTo>
                  <a:lnTo>
                    <a:pt x="0" y="627"/>
                  </a:lnTo>
                  <a:lnTo>
                    <a:pt x="31" y="676"/>
                  </a:lnTo>
                  <a:lnTo>
                    <a:pt x="81" y="650"/>
                  </a:lnTo>
                  <a:lnTo>
                    <a:pt x="122" y="618"/>
                  </a:lnTo>
                  <a:lnTo>
                    <a:pt x="153" y="583"/>
                  </a:lnTo>
                  <a:lnTo>
                    <a:pt x="184" y="552"/>
                  </a:lnTo>
                  <a:lnTo>
                    <a:pt x="212" y="508"/>
                  </a:lnTo>
                  <a:lnTo>
                    <a:pt x="226" y="467"/>
                  </a:lnTo>
                  <a:lnTo>
                    <a:pt x="244" y="413"/>
                  </a:lnTo>
                  <a:lnTo>
                    <a:pt x="253" y="369"/>
                  </a:lnTo>
                  <a:lnTo>
                    <a:pt x="253" y="325"/>
                  </a:lnTo>
                  <a:lnTo>
                    <a:pt x="257" y="280"/>
                  </a:lnTo>
                  <a:lnTo>
                    <a:pt x="244" y="231"/>
                  </a:lnTo>
                  <a:lnTo>
                    <a:pt x="235" y="178"/>
                  </a:lnTo>
                  <a:lnTo>
                    <a:pt x="212" y="137"/>
                  </a:lnTo>
                  <a:lnTo>
                    <a:pt x="189" y="88"/>
                  </a:lnTo>
                  <a:lnTo>
                    <a:pt x="158" y="48"/>
                  </a:lnTo>
                  <a:lnTo>
                    <a:pt x="126" y="4"/>
                  </a:lnTo>
                  <a:lnTo>
                    <a:pt x="126" y="44"/>
                  </a:lnTo>
                  <a:lnTo>
                    <a:pt x="126" y="4"/>
                  </a:lnTo>
                  <a:lnTo>
                    <a:pt x="113" y="0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6" y="4"/>
                  </a:lnTo>
                  <a:lnTo>
                    <a:pt x="81" y="8"/>
                  </a:lnTo>
                  <a:lnTo>
                    <a:pt x="72" y="17"/>
                  </a:lnTo>
                  <a:lnTo>
                    <a:pt x="81" y="26"/>
                  </a:lnTo>
                  <a:lnTo>
                    <a:pt x="86" y="35"/>
                  </a:lnTo>
                  <a:lnTo>
                    <a:pt x="8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08120" y="3516480"/>
              <a:ext cx="89280" cy="257400"/>
            </a:xfrm>
            <a:custGeom>
              <a:avLst/>
              <a:gdLst/>
              <a:ahLst/>
              <a:rect l="0" t="0" r="r" b="b"/>
              <a:pathLst>
                <a:path w="248" h="715">
                  <a:moveTo>
                    <a:pt x="17" y="4"/>
                  </a:moveTo>
                  <a:lnTo>
                    <a:pt x="17" y="48"/>
                  </a:lnTo>
                  <a:lnTo>
                    <a:pt x="58" y="70"/>
                  </a:lnTo>
                  <a:lnTo>
                    <a:pt x="90" y="97"/>
                  </a:lnTo>
                  <a:lnTo>
                    <a:pt x="117" y="124"/>
                  </a:lnTo>
                  <a:lnTo>
                    <a:pt x="140" y="155"/>
                  </a:lnTo>
                  <a:lnTo>
                    <a:pt x="162" y="195"/>
                  </a:lnTo>
                  <a:lnTo>
                    <a:pt x="171" y="230"/>
                  </a:lnTo>
                  <a:lnTo>
                    <a:pt x="185" y="270"/>
                  </a:lnTo>
                  <a:lnTo>
                    <a:pt x="190" y="310"/>
                  </a:lnTo>
                  <a:lnTo>
                    <a:pt x="190" y="350"/>
                  </a:lnTo>
                  <a:lnTo>
                    <a:pt x="190" y="395"/>
                  </a:lnTo>
                  <a:lnTo>
                    <a:pt x="180" y="449"/>
                  </a:lnTo>
                  <a:lnTo>
                    <a:pt x="162" y="489"/>
                  </a:lnTo>
                  <a:lnTo>
                    <a:pt x="140" y="537"/>
                  </a:lnTo>
                  <a:lnTo>
                    <a:pt x="117" y="586"/>
                  </a:lnTo>
                  <a:lnTo>
                    <a:pt x="86" y="631"/>
                  </a:lnTo>
                  <a:lnTo>
                    <a:pt x="49" y="675"/>
                  </a:lnTo>
                  <a:lnTo>
                    <a:pt x="95" y="715"/>
                  </a:lnTo>
                  <a:lnTo>
                    <a:pt x="135" y="666"/>
                  </a:lnTo>
                  <a:lnTo>
                    <a:pt x="167" y="613"/>
                  </a:lnTo>
                  <a:lnTo>
                    <a:pt x="195" y="564"/>
                  </a:lnTo>
                  <a:lnTo>
                    <a:pt x="217" y="515"/>
                  </a:lnTo>
                  <a:lnTo>
                    <a:pt x="235" y="462"/>
                  </a:lnTo>
                  <a:lnTo>
                    <a:pt x="248" y="409"/>
                  </a:lnTo>
                  <a:lnTo>
                    <a:pt x="248" y="364"/>
                  </a:lnTo>
                  <a:lnTo>
                    <a:pt x="248" y="310"/>
                  </a:lnTo>
                  <a:lnTo>
                    <a:pt x="244" y="261"/>
                  </a:lnTo>
                  <a:lnTo>
                    <a:pt x="230" y="217"/>
                  </a:lnTo>
                  <a:lnTo>
                    <a:pt x="213" y="177"/>
                  </a:lnTo>
                  <a:lnTo>
                    <a:pt x="195" y="137"/>
                  </a:lnTo>
                  <a:lnTo>
                    <a:pt x="167" y="97"/>
                  </a:lnTo>
                  <a:lnTo>
                    <a:pt x="131" y="57"/>
                  </a:lnTo>
                  <a:lnTo>
                    <a:pt x="90" y="35"/>
                  </a:lnTo>
                  <a:lnTo>
                    <a:pt x="44" y="4"/>
                  </a:lnTo>
                  <a:lnTo>
                    <a:pt x="49" y="53"/>
                  </a:lnTo>
                  <a:lnTo>
                    <a:pt x="44" y="4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13" y="4"/>
                  </a:lnTo>
                  <a:lnTo>
                    <a:pt x="4" y="13"/>
                  </a:lnTo>
                  <a:lnTo>
                    <a:pt x="4" y="26"/>
                  </a:lnTo>
                  <a:lnTo>
                    <a:pt x="0" y="35"/>
                  </a:lnTo>
                  <a:lnTo>
                    <a:pt x="13" y="39"/>
                  </a:lnTo>
                  <a:lnTo>
                    <a:pt x="22" y="53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95520" y="3083040"/>
              <a:ext cx="154440" cy="454320"/>
            </a:xfrm>
            <a:custGeom>
              <a:avLst/>
              <a:gdLst/>
              <a:ahLst/>
              <a:rect l="0" t="0" r="r" b="b"/>
              <a:pathLst>
                <a:path w="429" h="1262">
                  <a:moveTo>
                    <a:pt x="0" y="26"/>
                  </a:moveTo>
                  <a:lnTo>
                    <a:pt x="17" y="48"/>
                  </a:lnTo>
                  <a:lnTo>
                    <a:pt x="53" y="75"/>
                  </a:lnTo>
                  <a:lnTo>
                    <a:pt x="84" y="106"/>
                  </a:lnTo>
                  <a:lnTo>
                    <a:pt x="125" y="132"/>
                  </a:lnTo>
                  <a:lnTo>
                    <a:pt x="148" y="159"/>
                  </a:lnTo>
                  <a:lnTo>
                    <a:pt x="179" y="199"/>
                  </a:lnTo>
                  <a:lnTo>
                    <a:pt x="210" y="225"/>
                  </a:lnTo>
                  <a:lnTo>
                    <a:pt x="232" y="269"/>
                  </a:lnTo>
                  <a:lnTo>
                    <a:pt x="254" y="305"/>
                  </a:lnTo>
                  <a:lnTo>
                    <a:pt x="281" y="336"/>
                  </a:lnTo>
                  <a:lnTo>
                    <a:pt x="303" y="380"/>
                  </a:lnTo>
                  <a:lnTo>
                    <a:pt x="317" y="420"/>
                  </a:lnTo>
                  <a:lnTo>
                    <a:pt x="331" y="455"/>
                  </a:lnTo>
                  <a:lnTo>
                    <a:pt x="345" y="500"/>
                  </a:lnTo>
                  <a:lnTo>
                    <a:pt x="353" y="539"/>
                  </a:lnTo>
                  <a:lnTo>
                    <a:pt x="367" y="584"/>
                  </a:lnTo>
                  <a:lnTo>
                    <a:pt x="367" y="628"/>
                  </a:lnTo>
                  <a:lnTo>
                    <a:pt x="367" y="669"/>
                  </a:lnTo>
                  <a:lnTo>
                    <a:pt x="367" y="709"/>
                  </a:lnTo>
                  <a:lnTo>
                    <a:pt x="367" y="753"/>
                  </a:lnTo>
                  <a:lnTo>
                    <a:pt x="362" y="793"/>
                  </a:lnTo>
                  <a:lnTo>
                    <a:pt x="353" y="837"/>
                  </a:lnTo>
                  <a:lnTo>
                    <a:pt x="336" y="872"/>
                  </a:lnTo>
                  <a:lnTo>
                    <a:pt x="321" y="912"/>
                  </a:lnTo>
                  <a:lnTo>
                    <a:pt x="308" y="952"/>
                  </a:lnTo>
                  <a:lnTo>
                    <a:pt x="290" y="987"/>
                  </a:lnTo>
                  <a:lnTo>
                    <a:pt x="263" y="1027"/>
                  </a:lnTo>
                  <a:lnTo>
                    <a:pt x="237" y="1063"/>
                  </a:lnTo>
                  <a:lnTo>
                    <a:pt x="205" y="1094"/>
                  </a:lnTo>
                  <a:lnTo>
                    <a:pt x="174" y="1129"/>
                  </a:lnTo>
                  <a:lnTo>
                    <a:pt x="139" y="1160"/>
                  </a:lnTo>
                  <a:lnTo>
                    <a:pt x="93" y="1186"/>
                  </a:lnTo>
                  <a:lnTo>
                    <a:pt x="53" y="1213"/>
                  </a:lnTo>
                  <a:lnTo>
                    <a:pt x="84" y="1262"/>
                  </a:lnTo>
                  <a:lnTo>
                    <a:pt x="130" y="1231"/>
                  </a:lnTo>
                  <a:lnTo>
                    <a:pt x="179" y="1204"/>
                  </a:lnTo>
                  <a:lnTo>
                    <a:pt x="214" y="1169"/>
                  </a:lnTo>
                  <a:lnTo>
                    <a:pt x="250" y="1133"/>
                  </a:lnTo>
                  <a:lnTo>
                    <a:pt x="286" y="1098"/>
                  </a:lnTo>
                  <a:lnTo>
                    <a:pt x="312" y="1058"/>
                  </a:lnTo>
                  <a:lnTo>
                    <a:pt x="336" y="1023"/>
                  </a:lnTo>
                  <a:lnTo>
                    <a:pt x="362" y="978"/>
                  </a:lnTo>
                  <a:lnTo>
                    <a:pt x="385" y="939"/>
                  </a:lnTo>
                  <a:lnTo>
                    <a:pt x="398" y="894"/>
                  </a:lnTo>
                  <a:lnTo>
                    <a:pt x="407" y="850"/>
                  </a:lnTo>
                  <a:lnTo>
                    <a:pt x="416" y="810"/>
                  </a:lnTo>
                  <a:lnTo>
                    <a:pt x="420" y="766"/>
                  </a:lnTo>
                  <a:lnTo>
                    <a:pt x="425" y="722"/>
                  </a:lnTo>
                  <a:lnTo>
                    <a:pt x="429" y="673"/>
                  </a:lnTo>
                  <a:lnTo>
                    <a:pt x="425" y="628"/>
                  </a:lnTo>
                  <a:lnTo>
                    <a:pt x="420" y="584"/>
                  </a:lnTo>
                  <a:lnTo>
                    <a:pt x="411" y="539"/>
                  </a:lnTo>
                  <a:lnTo>
                    <a:pt x="398" y="495"/>
                  </a:lnTo>
                  <a:lnTo>
                    <a:pt x="385" y="451"/>
                  </a:lnTo>
                  <a:lnTo>
                    <a:pt x="371" y="402"/>
                  </a:lnTo>
                  <a:lnTo>
                    <a:pt x="349" y="362"/>
                  </a:lnTo>
                  <a:lnTo>
                    <a:pt x="336" y="323"/>
                  </a:lnTo>
                  <a:lnTo>
                    <a:pt x="308" y="278"/>
                  </a:lnTo>
                  <a:lnTo>
                    <a:pt x="281" y="238"/>
                  </a:lnTo>
                  <a:lnTo>
                    <a:pt x="254" y="199"/>
                  </a:lnTo>
                  <a:lnTo>
                    <a:pt x="223" y="163"/>
                  </a:lnTo>
                  <a:lnTo>
                    <a:pt x="192" y="132"/>
                  </a:lnTo>
                  <a:lnTo>
                    <a:pt x="161" y="92"/>
                  </a:lnTo>
                  <a:lnTo>
                    <a:pt x="121" y="66"/>
                  </a:lnTo>
                  <a:lnTo>
                    <a:pt x="84" y="35"/>
                  </a:lnTo>
                  <a:lnTo>
                    <a:pt x="44" y="4"/>
                  </a:lnTo>
                  <a:lnTo>
                    <a:pt x="62" y="30"/>
                  </a:lnTo>
                  <a:lnTo>
                    <a:pt x="44" y="4"/>
                  </a:lnTo>
                  <a:lnTo>
                    <a:pt x="31" y="4"/>
                  </a:lnTo>
                  <a:lnTo>
                    <a:pt x="22" y="0"/>
                  </a:lnTo>
                  <a:lnTo>
                    <a:pt x="13" y="4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0" y="26"/>
                  </a:lnTo>
                  <a:lnTo>
                    <a:pt x="4" y="39"/>
                  </a:lnTo>
                  <a:lnTo>
                    <a:pt x="17" y="4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75040" y="2862360"/>
              <a:ext cx="444960" cy="233640"/>
            </a:xfrm>
            <a:custGeom>
              <a:avLst/>
              <a:gdLst/>
              <a:ahLst/>
              <a:rect l="0" t="0" r="r" b="b"/>
              <a:pathLst>
                <a:path w="1236" h="649">
                  <a:moveTo>
                    <a:pt x="35" y="400"/>
                  </a:moveTo>
                  <a:lnTo>
                    <a:pt x="53" y="387"/>
                  </a:lnTo>
                  <a:lnTo>
                    <a:pt x="88" y="333"/>
                  </a:lnTo>
                  <a:lnTo>
                    <a:pt x="123" y="288"/>
                  </a:lnTo>
                  <a:lnTo>
                    <a:pt x="154" y="244"/>
                  </a:lnTo>
                  <a:lnTo>
                    <a:pt x="194" y="208"/>
                  </a:lnTo>
                  <a:lnTo>
                    <a:pt x="230" y="168"/>
                  </a:lnTo>
                  <a:lnTo>
                    <a:pt x="274" y="146"/>
                  </a:lnTo>
                  <a:lnTo>
                    <a:pt x="305" y="119"/>
                  </a:lnTo>
                  <a:lnTo>
                    <a:pt x="355" y="102"/>
                  </a:lnTo>
                  <a:lnTo>
                    <a:pt x="399" y="79"/>
                  </a:lnTo>
                  <a:lnTo>
                    <a:pt x="443" y="66"/>
                  </a:lnTo>
                  <a:lnTo>
                    <a:pt x="483" y="57"/>
                  </a:lnTo>
                  <a:lnTo>
                    <a:pt x="523" y="57"/>
                  </a:lnTo>
                  <a:lnTo>
                    <a:pt x="571" y="57"/>
                  </a:lnTo>
                  <a:lnTo>
                    <a:pt x="620" y="62"/>
                  </a:lnTo>
                  <a:lnTo>
                    <a:pt x="664" y="62"/>
                  </a:lnTo>
                  <a:lnTo>
                    <a:pt x="704" y="71"/>
                  </a:lnTo>
                  <a:lnTo>
                    <a:pt x="748" y="84"/>
                  </a:lnTo>
                  <a:lnTo>
                    <a:pt x="793" y="102"/>
                  </a:lnTo>
                  <a:lnTo>
                    <a:pt x="828" y="124"/>
                  </a:lnTo>
                  <a:lnTo>
                    <a:pt x="868" y="146"/>
                  </a:lnTo>
                  <a:lnTo>
                    <a:pt x="908" y="168"/>
                  </a:lnTo>
                  <a:lnTo>
                    <a:pt x="949" y="195"/>
                  </a:lnTo>
                  <a:lnTo>
                    <a:pt x="975" y="235"/>
                  </a:lnTo>
                  <a:lnTo>
                    <a:pt x="1011" y="266"/>
                  </a:lnTo>
                  <a:lnTo>
                    <a:pt x="1046" y="306"/>
                  </a:lnTo>
                  <a:lnTo>
                    <a:pt x="1072" y="347"/>
                  </a:lnTo>
                  <a:lnTo>
                    <a:pt x="1090" y="396"/>
                  </a:lnTo>
                  <a:lnTo>
                    <a:pt x="1117" y="436"/>
                  </a:lnTo>
                  <a:lnTo>
                    <a:pt x="1139" y="484"/>
                  </a:lnTo>
                  <a:lnTo>
                    <a:pt x="1152" y="538"/>
                  </a:lnTo>
                  <a:lnTo>
                    <a:pt x="1165" y="587"/>
                  </a:lnTo>
                  <a:lnTo>
                    <a:pt x="1174" y="644"/>
                  </a:lnTo>
                  <a:lnTo>
                    <a:pt x="1236" y="649"/>
                  </a:lnTo>
                  <a:lnTo>
                    <a:pt x="1219" y="587"/>
                  </a:lnTo>
                  <a:lnTo>
                    <a:pt x="1210" y="524"/>
                  </a:lnTo>
                  <a:lnTo>
                    <a:pt x="1192" y="471"/>
                  </a:lnTo>
                  <a:lnTo>
                    <a:pt x="1170" y="418"/>
                  </a:lnTo>
                  <a:lnTo>
                    <a:pt x="1143" y="373"/>
                  </a:lnTo>
                  <a:lnTo>
                    <a:pt x="1117" y="319"/>
                  </a:lnTo>
                  <a:lnTo>
                    <a:pt x="1090" y="279"/>
                  </a:lnTo>
                  <a:lnTo>
                    <a:pt x="1050" y="235"/>
                  </a:lnTo>
                  <a:lnTo>
                    <a:pt x="1019" y="199"/>
                  </a:lnTo>
                  <a:lnTo>
                    <a:pt x="980" y="164"/>
                  </a:lnTo>
                  <a:lnTo>
                    <a:pt x="935" y="133"/>
                  </a:lnTo>
                  <a:lnTo>
                    <a:pt x="894" y="102"/>
                  </a:lnTo>
                  <a:lnTo>
                    <a:pt x="855" y="75"/>
                  </a:lnTo>
                  <a:lnTo>
                    <a:pt x="806" y="53"/>
                  </a:lnTo>
                  <a:lnTo>
                    <a:pt x="757" y="35"/>
                  </a:lnTo>
                  <a:lnTo>
                    <a:pt x="713" y="22"/>
                  </a:lnTo>
                  <a:lnTo>
                    <a:pt x="664" y="13"/>
                  </a:lnTo>
                  <a:lnTo>
                    <a:pt x="616" y="8"/>
                  </a:lnTo>
                  <a:lnTo>
                    <a:pt x="563" y="0"/>
                  </a:lnTo>
                  <a:lnTo>
                    <a:pt x="518" y="0"/>
                  </a:lnTo>
                  <a:lnTo>
                    <a:pt x="470" y="8"/>
                  </a:lnTo>
                  <a:lnTo>
                    <a:pt x="421" y="17"/>
                  </a:lnTo>
                  <a:lnTo>
                    <a:pt x="377" y="26"/>
                  </a:lnTo>
                  <a:lnTo>
                    <a:pt x="324" y="44"/>
                  </a:lnTo>
                  <a:lnTo>
                    <a:pt x="278" y="71"/>
                  </a:lnTo>
                  <a:lnTo>
                    <a:pt x="234" y="93"/>
                  </a:lnTo>
                  <a:lnTo>
                    <a:pt x="194" y="128"/>
                  </a:lnTo>
                  <a:lnTo>
                    <a:pt x="146" y="164"/>
                  </a:lnTo>
                  <a:lnTo>
                    <a:pt x="110" y="208"/>
                  </a:lnTo>
                  <a:lnTo>
                    <a:pt x="75" y="253"/>
                  </a:lnTo>
                  <a:lnTo>
                    <a:pt x="39" y="301"/>
                  </a:lnTo>
                  <a:lnTo>
                    <a:pt x="4" y="360"/>
                  </a:lnTo>
                  <a:lnTo>
                    <a:pt x="30" y="347"/>
                  </a:lnTo>
                  <a:lnTo>
                    <a:pt x="4" y="360"/>
                  </a:lnTo>
                  <a:lnTo>
                    <a:pt x="4" y="369"/>
                  </a:lnTo>
                  <a:lnTo>
                    <a:pt x="0" y="378"/>
                  </a:lnTo>
                  <a:lnTo>
                    <a:pt x="13" y="391"/>
                  </a:lnTo>
                  <a:lnTo>
                    <a:pt x="22" y="396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53" y="396"/>
                  </a:lnTo>
                  <a:lnTo>
                    <a:pt x="53" y="387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81280" y="2986200"/>
              <a:ext cx="308160" cy="560880"/>
            </a:xfrm>
            <a:custGeom>
              <a:avLst/>
              <a:gdLst/>
              <a:ahLst/>
              <a:rect l="0" t="0" r="r" b="b"/>
              <a:pathLst>
                <a:path w="856" h="1558">
                  <a:moveTo>
                    <a:pt x="137" y="1554"/>
                  </a:moveTo>
                  <a:lnTo>
                    <a:pt x="159" y="1514"/>
                  </a:lnTo>
                  <a:lnTo>
                    <a:pt x="137" y="1487"/>
                  </a:lnTo>
                  <a:lnTo>
                    <a:pt x="119" y="1448"/>
                  </a:lnTo>
                  <a:lnTo>
                    <a:pt x="97" y="1412"/>
                  </a:lnTo>
                  <a:lnTo>
                    <a:pt x="84" y="1368"/>
                  </a:lnTo>
                  <a:lnTo>
                    <a:pt x="75" y="1324"/>
                  </a:lnTo>
                  <a:lnTo>
                    <a:pt x="66" y="1271"/>
                  </a:lnTo>
                  <a:lnTo>
                    <a:pt x="57" y="1218"/>
                  </a:lnTo>
                  <a:lnTo>
                    <a:pt x="62" y="1159"/>
                  </a:lnTo>
                  <a:lnTo>
                    <a:pt x="62" y="1102"/>
                  </a:lnTo>
                  <a:lnTo>
                    <a:pt x="62" y="1040"/>
                  </a:lnTo>
                  <a:lnTo>
                    <a:pt x="66" y="982"/>
                  </a:lnTo>
                  <a:lnTo>
                    <a:pt x="79" y="916"/>
                  </a:lnTo>
                  <a:lnTo>
                    <a:pt x="93" y="858"/>
                  </a:lnTo>
                  <a:lnTo>
                    <a:pt x="106" y="792"/>
                  </a:lnTo>
                  <a:lnTo>
                    <a:pt x="124" y="730"/>
                  </a:lnTo>
                  <a:lnTo>
                    <a:pt x="146" y="668"/>
                  </a:lnTo>
                  <a:lnTo>
                    <a:pt x="172" y="602"/>
                  </a:lnTo>
                  <a:lnTo>
                    <a:pt x="199" y="544"/>
                  </a:lnTo>
                  <a:lnTo>
                    <a:pt x="230" y="487"/>
                  </a:lnTo>
                  <a:lnTo>
                    <a:pt x="265" y="429"/>
                  </a:lnTo>
                  <a:lnTo>
                    <a:pt x="301" y="375"/>
                  </a:lnTo>
                  <a:lnTo>
                    <a:pt x="336" y="327"/>
                  </a:lnTo>
                  <a:lnTo>
                    <a:pt x="381" y="278"/>
                  </a:lnTo>
                  <a:lnTo>
                    <a:pt x="425" y="234"/>
                  </a:lnTo>
                  <a:lnTo>
                    <a:pt x="470" y="194"/>
                  </a:lnTo>
                  <a:lnTo>
                    <a:pt x="515" y="154"/>
                  </a:lnTo>
                  <a:lnTo>
                    <a:pt x="568" y="123"/>
                  </a:lnTo>
                  <a:lnTo>
                    <a:pt x="617" y="101"/>
                  </a:lnTo>
                  <a:lnTo>
                    <a:pt x="674" y="79"/>
                  </a:lnTo>
                  <a:lnTo>
                    <a:pt x="736" y="66"/>
                  </a:lnTo>
                  <a:lnTo>
                    <a:pt x="794" y="57"/>
                  </a:lnTo>
                  <a:lnTo>
                    <a:pt x="856" y="53"/>
                  </a:lnTo>
                  <a:lnTo>
                    <a:pt x="852" y="0"/>
                  </a:lnTo>
                  <a:lnTo>
                    <a:pt x="781" y="0"/>
                  </a:lnTo>
                  <a:lnTo>
                    <a:pt x="719" y="8"/>
                  </a:lnTo>
                  <a:lnTo>
                    <a:pt x="652" y="26"/>
                  </a:lnTo>
                  <a:lnTo>
                    <a:pt x="590" y="53"/>
                  </a:lnTo>
                  <a:lnTo>
                    <a:pt x="537" y="79"/>
                  </a:lnTo>
                  <a:lnTo>
                    <a:pt x="484" y="114"/>
                  </a:lnTo>
                  <a:lnTo>
                    <a:pt x="425" y="150"/>
                  </a:lnTo>
                  <a:lnTo>
                    <a:pt x="381" y="194"/>
                  </a:lnTo>
                  <a:lnTo>
                    <a:pt x="336" y="238"/>
                  </a:lnTo>
                  <a:lnTo>
                    <a:pt x="292" y="291"/>
                  </a:lnTo>
                  <a:lnTo>
                    <a:pt x="252" y="344"/>
                  </a:lnTo>
                  <a:lnTo>
                    <a:pt x="212" y="399"/>
                  </a:lnTo>
                  <a:lnTo>
                    <a:pt x="177" y="456"/>
                  </a:lnTo>
                  <a:lnTo>
                    <a:pt x="146" y="518"/>
                  </a:lnTo>
                  <a:lnTo>
                    <a:pt x="115" y="580"/>
                  </a:lnTo>
                  <a:lnTo>
                    <a:pt x="93" y="642"/>
                  </a:lnTo>
                  <a:lnTo>
                    <a:pt x="70" y="704"/>
                  </a:lnTo>
                  <a:lnTo>
                    <a:pt x="48" y="774"/>
                  </a:lnTo>
                  <a:lnTo>
                    <a:pt x="35" y="836"/>
                  </a:lnTo>
                  <a:lnTo>
                    <a:pt x="22" y="903"/>
                  </a:lnTo>
                  <a:lnTo>
                    <a:pt x="13" y="969"/>
                  </a:lnTo>
                  <a:lnTo>
                    <a:pt x="4" y="1031"/>
                  </a:lnTo>
                  <a:lnTo>
                    <a:pt x="0" y="1093"/>
                  </a:lnTo>
                  <a:lnTo>
                    <a:pt x="0" y="1150"/>
                  </a:lnTo>
                  <a:lnTo>
                    <a:pt x="4" y="1213"/>
                  </a:lnTo>
                  <a:lnTo>
                    <a:pt x="8" y="1266"/>
                  </a:lnTo>
                  <a:lnTo>
                    <a:pt x="13" y="1324"/>
                  </a:lnTo>
                  <a:lnTo>
                    <a:pt x="26" y="1377"/>
                  </a:lnTo>
                  <a:lnTo>
                    <a:pt x="44" y="1425"/>
                  </a:lnTo>
                  <a:lnTo>
                    <a:pt x="66" y="1465"/>
                  </a:lnTo>
                  <a:lnTo>
                    <a:pt x="88" y="1509"/>
                  </a:lnTo>
                  <a:lnTo>
                    <a:pt x="115" y="1545"/>
                  </a:lnTo>
                  <a:lnTo>
                    <a:pt x="146" y="1505"/>
                  </a:lnTo>
                  <a:lnTo>
                    <a:pt x="115" y="1545"/>
                  </a:lnTo>
                  <a:lnTo>
                    <a:pt x="132" y="1554"/>
                  </a:lnTo>
                  <a:lnTo>
                    <a:pt x="137" y="1558"/>
                  </a:lnTo>
                  <a:lnTo>
                    <a:pt x="150" y="1558"/>
                  </a:lnTo>
                  <a:lnTo>
                    <a:pt x="159" y="1549"/>
                  </a:lnTo>
                  <a:lnTo>
                    <a:pt x="159" y="1540"/>
                  </a:lnTo>
                  <a:lnTo>
                    <a:pt x="168" y="1536"/>
                  </a:lnTo>
                  <a:lnTo>
                    <a:pt x="164" y="1523"/>
                  </a:lnTo>
                  <a:lnTo>
                    <a:pt x="159" y="1514"/>
                  </a:lnTo>
                  <a:lnTo>
                    <a:pt x="137" y="15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38360" y="3516480"/>
              <a:ext cx="197280" cy="287640"/>
            </a:xfrm>
            <a:custGeom>
              <a:avLst/>
              <a:gdLst/>
              <a:ahLst/>
              <a:rect l="0" t="0" r="r" b="b"/>
              <a:pathLst>
                <a:path w="548" h="799">
                  <a:moveTo>
                    <a:pt x="106" y="799"/>
                  </a:moveTo>
                  <a:lnTo>
                    <a:pt x="120" y="763"/>
                  </a:lnTo>
                  <a:lnTo>
                    <a:pt x="102" y="732"/>
                  </a:lnTo>
                  <a:lnTo>
                    <a:pt x="88" y="692"/>
                  </a:lnTo>
                  <a:lnTo>
                    <a:pt x="80" y="661"/>
                  </a:lnTo>
                  <a:lnTo>
                    <a:pt x="71" y="621"/>
                  </a:lnTo>
                  <a:lnTo>
                    <a:pt x="62" y="595"/>
                  </a:lnTo>
                  <a:lnTo>
                    <a:pt x="57" y="559"/>
                  </a:lnTo>
                  <a:lnTo>
                    <a:pt x="57" y="519"/>
                  </a:lnTo>
                  <a:lnTo>
                    <a:pt x="53" y="488"/>
                  </a:lnTo>
                  <a:lnTo>
                    <a:pt x="57" y="453"/>
                  </a:lnTo>
                  <a:lnTo>
                    <a:pt x="62" y="413"/>
                  </a:lnTo>
                  <a:lnTo>
                    <a:pt x="66" y="381"/>
                  </a:lnTo>
                  <a:lnTo>
                    <a:pt x="75" y="350"/>
                  </a:lnTo>
                  <a:lnTo>
                    <a:pt x="88" y="323"/>
                  </a:lnTo>
                  <a:lnTo>
                    <a:pt x="102" y="292"/>
                  </a:lnTo>
                  <a:lnTo>
                    <a:pt x="111" y="261"/>
                  </a:lnTo>
                  <a:lnTo>
                    <a:pt x="124" y="235"/>
                  </a:lnTo>
                  <a:lnTo>
                    <a:pt x="143" y="208"/>
                  </a:lnTo>
                  <a:lnTo>
                    <a:pt x="156" y="181"/>
                  </a:lnTo>
                  <a:lnTo>
                    <a:pt x="178" y="164"/>
                  </a:lnTo>
                  <a:lnTo>
                    <a:pt x="205" y="137"/>
                  </a:lnTo>
                  <a:lnTo>
                    <a:pt x="218" y="119"/>
                  </a:lnTo>
                  <a:lnTo>
                    <a:pt x="245" y="106"/>
                  </a:lnTo>
                  <a:lnTo>
                    <a:pt x="272" y="93"/>
                  </a:lnTo>
                  <a:lnTo>
                    <a:pt x="294" y="79"/>
                  </a:lnTo>
                  <a:lnTo>
                    <a:pt x="321" y="70"/>
                  </a:lnTo>
                  <a:lnTo>
                    <a:pt x="347" y="62"/>
                  </a:lnTo>
                  <a:lnTo>
                    <a:pt x="374" y="57"/>
                  </a:lnTo>
                  <a:lnTo>
                    <a:pt x="405" y="53"/>
                  </a:lnTo>
                  <a:lnTo>
                    <a:pt x="437" y="57"/>
                  </a:lnTo>
                  <a:lnTo>
                    <a:pt x="468" y="57"/>
                  </a:lnTo>
                  <a:lnTo>
                    <a:pt x="499" y="66"/>
                  </a:lnTo>
                  <a:lnTo>
                    <a:pt x="539" y="75"/>
                  </a:lnTo>
                  <a:lnTo>
                    <a:pt x="548" y="26"/>
                  </a:lnTo>
                  <a:lnTo>
                    <a:pt x="513" y="13"/>
                  </a:lnTo>
                  <a:lnTo>
                    <a:pt x="473" y="4"/>
                  </a:lnTo>
                  <a:lnTo>
                    <a:pt x="437" y="4"/>
                  </a:lnTo>
                  <a:lnTo>
                    <a:pt x="401" y="0"/>
                  </a:lnTo>
                  <a:lnTo>
                    <a:pt x="365" y="4"/>
                  </a:lnTo>
                  <a:lnTo>
                    <a:pt x="329" y="8"/>
                  </a:lnTo>
                  <a:lnTo>
                    <a:pt x="294" y="22"/>
                  </a:lnTo>
                  <a:lnTo>
                    <a:pt x="272" y="31"/>
                  </a:lnTo>
                  <a:lnTo>
                    <a:pt x="241" y="44"/>
                  </a:lnTo>
                  <a:lnTo>
                    <a:pt x="205" y="57"/>
                  </a:lnTo>
                  <a:lnTo>
                    <a:pt x="178" y="84"/>
                  </a:lnTo>
                  <a:lnTo>
                    <a:pt x="161" y="101"/>
                  </a:lnTo>
                  <a:lnTo>
                    <a:pt x="133" y="124"/>
                  </a:lnTo>
                  <a:lnTo>
                    <a:pt x="115" y="146"/>
                  </a:lnTo>
                  <a:lnTo>
                    <a:pt x="93" y="177"/>
                  </a:lnTo>
                  <a:lnTo>
                    <a:pt x="75" y="208"/>
                  </a:lnTo>
                  <a:lnTo>
                    <a:pt x="53" y="230"/>
                  </a:lnTo>
                  <a:lnTo>
                    <a:pt x="44" y="270"/>
                  </a:lnTo>
                  <a:lnTo>
                    <a:pt x="31" y="301"/>
                  </a:lnTo>
                  <a:lnTo>
                    <a:pt x="17" y="337"/>
                  </a:lnTo>
                  <a:lnTo>
                    <a:pt x="13" y="363"/>
                  </a:lnTo>
                  <a:lnTo>
                    <a:pt x="4" y="408"/>
                  </a:lnTo>
                  <a:lnTo>
                    <a:pt x="0" y="444"/>
                  </a:lnTo>
                  <a:lnTo>
                    <a:pt x="0" y="479"/>
                  </a:lnTo>
                  <a:lnTo>
                    <a:pt x="0" y="515"/>
                  </a:lnTo>
                  <a:lnTo>
                    <a:pt x="4" y="555"/>
                  </a:lnTo>
                  <a:lnTo>
                    <a:pt x="4" y="595"/>
                  </a:lnTo>
                  <a:lnTo>
                    <a:pt x="13" y="635"/>
                  </a:lnTo>
                  <a:lnTo>
                    <a:pt x="26" y="670"/>
                  </a:lnTo>
                  <a:lnTo>
                    <a:pt x="35" y="706"/>
                  </a:lnTo>
                  <a:lnTo>
                    <a:pt x="48" y="745"/>
                  </a:lnTo>
                  <a:lnTo>
                    <a:pt x="71" y="785"/>
                  </a:lnTo>
                  <a:lnTo>
                    <a:pt x="88" y="750"/>
                  </a:lnTo>
                  <a:lnTo>
                    <a:pt x="71" y="785"/>
                  </a:lnTo>
                  <a:lnTo>
                    <a:pt x="80" y="790"/>
                  </a:lnTo>
                  <a:lnTo>
                    <a:pt x="84" y="794"/>
                  </a:lnTo>
                  <a:lnTo>
                    <a:pt x="97" y="799"/>
                  </a:lnTo>
                  <a:lnTo>
                    <a:pt x="106" y="799"/>
                  </a:lnTo>
                  <a:lnTo>
                    <a:pt x="115" y="794"/>
                  </a:lnTo>
                  <a:lnTo>
                    <a:pt x="120" y="785"/>
                  </a:lnTo>
                  <a:lnTo>
                    <a:pt x="124" y="776"/>
                  </a:lnTo>
                  <a:lnTo>
                    <a:pt x="120" y="763"/>
                  </a:lnTo>
                  <a:lnTo>
                    <a:pt x="106" y="7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19200" y="3784680"/>
              <a:ext cx="159120" cy="343440"/>
            </a:xfrm>
            <a:custGeom>
              <a:avLst/>
              <a:gdLst/>
              <a:ahLst/>
              <a:rect l="0" t="0" r="r" b="b"/>
              <a:pathLst>
                <a:path w="442" h="954">
                  <a:moveTo>
                    <a:pt x="156" y="954"/>
                  </a:moveTo>
                  <a:lnTo>
                    <a:pt x="179" y="914"/>
                  </a:lnTo>
                  <a:lnTo>
                    <a:pt x="161" y="883"/>
                  </a:lnTo>
                  <a:lnTo>
                    <a:pt x="139" y="857"/>
                  </a:lnTo>
                  <a:lnTo>
                    <a:pt x="121" y="826"/>
                  </a:lnTo>
                  <a:lnTo>
                    <a:pt x="112" y="795"/>
                  </a:lnTo>
                  <a:lnTo>
                    <a:pt x="93" y="759"/>
                  </a:lnTo>
                  <a:lnTo>
                    <a:pt x="84" y="732"/>
                  </a:lnTo>
                  <a:lnTo>
                    <a:pt x="75" y="700"/>
                  </a:lnTo>
                  <a:lnTo>
                    <a:pt x="66" y="665"/>
                  </a:lnTo>
                  <a:lnTo>
                    <a:pt x="62" y="630"/>
                  </a:lnTo>
                  <a:lnTo>
                    <a:pt x="57" y="594"/>
                  </a:lnTo>
                  <a:lnTo>
                    <a:pt x="57" y="563"/>
                  </a:lnTo>
                  <a:lnTo>
                    <a:pt x="57" y="532"/>
                  </a:lnTo>
                  <a:lnTo>
                    <a:pt x="62" y="501"/>
                  </a:lnTo>
                  <a:lnTo>
                    <a:pt x="66" y="470"/>
                  </a:lnTo>
                  <a:lnTo>
                    <a:pt x="75" y="435"/>
                  </a:lnTo>
                  <a:lnTo>
                    <a:pt x="75" y="399"/>
                  </a:lnTo>
                  <a:lnTo>
                    <a:pt x="93" y="373"/>
                  </a:lnTo>
                  <a:lnTo>
                    <a:pt x="102" y="342"/>
                  </a:lnTo>
                  <a:lnTo>
                    <a:pt x="116" y="311"/>
                  </a:lnTo>
                  <a:lnTo>
                    <a:pt x="130" y="280"/>
                  </a:lnTo>
                  <a:lnTo>
                    <a:pt x="147" y="253"/>
                  </a:lnTo>
                  <a:lnTo>
                    <a:pt x="170" y="225"/>
                  </a:lnTo>
                  <a:lnTo>
                    <a:pt x="188" y="203"/>
                  </a:lnTo>
                  <a:lnTo>
                    <a:pt x="210" y="181"/>
                  </a:lnTo>
                  <a:lnTo>
                    <a:pt x="232" y="159"/>
                  </a:lnTo>
                  <a:lnTo>
                    <a:pt x="259" y="137"/>
                  </a:lnTo>
                  <a:lnTo>
                    <a:pt x="286" y="119"/>
                  </a:lnTo>
                  <a:lnTo>
                    <a:pt x="312" y="97"/>
                  </a:lnTo>
                  <a:lnTo>
                    <a:pt x="344" y="88"/>
                  </a:lnTo>
                  <a:lnTo>
                    <a:pt x="376" y="70"/>
                  </a:lnTo>
                  <a:lnTo>
                    <a:pt x="411" y="62"/>
                  </a:lnTo>
                  <a:lnTo>
                    <a:pt x="442" y="48"/>
                  </a:lnTo>
                  <a:lnTo>
                    <a:pt x="425" y="0"/>
                  </a:lnTo>
                  <a:lnTo>
                    <a:pt x="389" y="8"/>
                  </a:lnTo>
                  <a:lnTo>
                    <a:pt x="349" y="22"/>
                  </a:lnTo>
                  <a:lnTo>
                    <a:pt x="312" y="35"/>
                  </a:lnTo>
                  <a:lnTo>
                    <a:pt x="281" y="53"/>
                  </a:lnTo>
                  <a:lnTo>
                    <a:pt x="245" y="70"/>
                  </a:lnTo>
                  <a:lnTo>
                    <a:pt x="223" y="93"/>
                  </a:lnTo>
                  <a:lnTo>
                    <a:pt x="192" y="115"/>
                  </a:lnTo>
                  <a:lnTo>
                    <a:pt x="165" y="137"/>
                  </a:lnTo>
                  <a:lnTo>
                    <a:pt x="143" y="168"/>
                  </a:lnTo>
                  <a:lnTo>
                    <a:pt x="116" y="194"/>
                  </a:lnTo>
                  <a:lnTo>
                    <a:pt x="102" y="221"/>
                  </a:lnTo>
                  <a:lnTo>
                    <a:pt x="80" y="249"/>
                  </a:lnTo>
                  <a:lnTo>
                    <a:pt x="66" y="280"/>
                  </a:lnTo>
                  <a:lnTo>
                    <a:pt x="48" y="315"/>
                  </a:lnTo>
                  <a:lnTo>
                    <a:pt x="40" y="350"/>
                  </a:lnTo>
                  <a:lnTo>
                    <a:pt x="26" y="381"/>
                  </a:lnTo>
                  <a:lnTo>
                    <a:pt x="13" y="417"/>
                  </a:lnTo>
                  <a:lnTo>
                    <a:pt x="8" y="452"/>
                  </a:lnTo>
                  <a:lnTo>
                    <a:pt x="4" y="488"/>
                  </a:lnTo>
                  <a:lnTo>
                    <a:pt x="0" y="523"/>
                  </a:lnTo>
                  <a:lnTo>
                    <a:pt x="0" y="559"/>
                  </a:lnTo>
                  <a:lnTo>
                    <a:pt x="0" y="594"/>
                  </a:lnTo>
                  <a:lnTo>
                    <a:pt x="4" y="630"/>
                  </a:lnTo>
                  <a:lnTo>
                    <a:pt x="13" y="665"/>
                  </a:lnTo>
                  <a:lnTo>
                    <a:pt x="22" y="705"/>
                  </a:lnTo>
                  <a:lnTo>
                    <a:pt x="31" y="741"/>
                  </a:lnTo>
                  <a:lnTo>
                    <a:pt x="40" y="777"/>
                  </a:lnTo>
                  <a:lnTo>
                    <a:pt x="53" y="812"/>
                  </a:lnTo>
                  <a:lnTo>
                    <a:pt x="75" y="843"/>
                  </a:lnTo>
                  <a:lnTo>
                    <a:pt x="89" y="874"/>
                  </a:lnTo>
                  <a:lnTo>
                    <a:pt x="112" y="910"/>
                  </a:lnTo>
                  <a:lnTo>
                    <a:pt x="139" y="945"/>
                  </a:lnTo>
                  <a:lnTo>
                    <a:pt x="161" y="901"/>
                  </a:lnTo>
                  <a:lnTo>
                    <a:pt x="139" y="945"/>
                  </a:lnTo>
                  <a:lnTo>
                    <a:pt x="147" y="950"/>
                  </a:lnTo>
                  <a:lnTo>
                    <a:pt x="156" y="954"/>
                  </a:lnTo>
                  <a:lnTo>
                    <a:pt x="165" y="950"/>
                  </a:lnTo>
                  <a:lnTo>
                    <a:pt x="179" y="950"/>
                  </a:lnTo>
                  <a:lnTo>
                    <a:pt x="183" y="941"/>
                  </a:lnTo>
                  <a:lnTo>
                    <a:pt x="192" y="936"/>
                  </a:lnTo>
                  <a:lnTo>
                    <a:pt x="183" y="923"/>
                  </a:lnTo>
                  <a:lnTo>
                    <a:pt x="179" y="914"/>
                  </a:lnTo>
                  <a:lnTo>
                    <a:pt x="156" y="9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95560" y="4100400"/>
              <a:ext cx="383040" cy="489240"/>
            </a:xfrm>
            <a:custGeom>
              <a:avLst/>
              <a:gdLst/>
              <a:ahLst/>
              <a:rect l="0" t="0" r="r" b="b"/>
              <a:pathLst>
                <a:path w="1064" h="1359">
                  <a:moveTo>
                    <a:pt x="110" y="1354"/>
                  </a:moveTo>
                  <a:lnTo>
                    <a:pt x="119" y="1328"/>
                  </a:lnTo>
                  <a:lnTo>
                    <a:pt x="97" y="1253"/>
                  </a:lnTo>
                  <a:lnTo>
                    <a:pt x="79" y="1177"/>
                  </a:lnTo>
                  <a:lnTo>
                    <a:pt x="70" y="1107"/>
                  </a:lnTo>
                  <a:lnTo>
                    <a:pt x="57" y="1040"/>
                  </a:lnTo>
                  <a:lnTo>
                    <a:pt x="57" y="969"/>
                  </a:lnTo>
                  <a:lnTo>
                    <a:pt x="61" y="903"/>
                  </a:lnTo>
                  <a:lnTo>
                    <a:pt x="61" y="837"/>
                  </a:lnTo>
                  <a:lnTo>
                    <a:pt x="75" y="775"/>
                  </a:lnTo>
                  <a:lnTo>
                    <a:pt x="88" y="717"/>
                  </a:lnTo>
                  <a:lnTo>
                    <a:pt x="106" y="659"/>
                  </a:lnTo>
                  <a:lnTo>
                    <a:pt x="128" y="597"/>
                  </a:lnTo>
                  <a:lnTo>
                    <a:pt x="154" y="544"/>
                  </a:lnTo>
                  <a:lnTo>
                    <a:pt x="181" y="495"/>
                  </a:lnTo>
                  <a:lnTo>
                    <a:pt x="212" y="442"/>
                  </a:lnTo>
                  <a:lnTo>
                    <a:pt x="247" y="402"/>
                  </a:lnTo>
                  <a:lnTo>
                    <a:pt x="279" y="358"/>
                  </a:lnTo>
                  <a:lnTo>
                    <a:pt x="319" y="318"/>
                  </a:lnTo>
                  <a:lnTo>
                    <a:pt x="364" y="278"/>
                  </a:lnTo>
                  <a:lnTo>
                    <a:pt x="408" y="243"/>
                  </a:lnTo>
                  <a:lnTo>
                    <a:pt x="448" y="207"/>
                  </a:lnTo>
                  <a:lnTo>
                    <a:pt x="496" y="176"/>
                  </a:lnTo>
                  <a:lnTo>
                    <a:pt x="541" y="154"/>
                  </a:lnTo>
                  <a:lnTo>
                    <a:pt x="589" y="132"/>
                  </a:lnTo>
                  <a:lnTo>
                    <a:pt x="643" y="106"/>
                  </a:lnTo>
                  <a:lnTo>
                    <a:pt x="691" y="97"/>
                  </a:lnTo>
                  <a:lnTo>
                    <a:pt x="744" y="79"/>
                  </a:lnTo>
                  <a:lnTo>
                    <a:pt x="803" y="66"/>
                  </a:lnTo>
                  <a:lnTo>
                    <a:pt x="852" y="61"/>
                  </a:lnTo>
                  <a:lnTo>
                    <a:pt x="905" y="57"/>
                  </a:lnTo>
                  <a:lnTo>
                    <a:pt x="958" y="57"/>
                  </a:lnTo>
                  <a:lnTo>
                    <a:pt x="1011" y="61"/>
                  </a:lnTo>
                  <a:lnTo>
                    <a:pt x="1060" y="70"/>
                  </a:lnTo>
                  <a:lnTo>
                    <a:pt x="1064" y="17"/>
                  </a:lnTo>
                  <a:lnTo>
                    <a:pt x="1011" y="8"/>
                  </a:lnTo>
                  <a:lnTo>
                    <a:pt x="954" y="4"/>
                  </a:lnTo>
                  <a:lnTo>
                    <a:pt x="900" y="0"/>
                  </a:lnTo>
                  <a:lnTo>
                    <a:pt x="843" y="8"/>
                  </a:lnTo>
                  <a:lnTo>
                    <a:pt x="784" y="17"/>
                  </a:lnTo>
                  <a:lnTo>
                    <a:pt x="727" y="26"/>
                  </a:lnTo>
                  <a:lnTo>
                    <a:pt x="669" y="39"/>
                  </a:lnTo>
                  <a:lnTo>
                    <a:pt x="616" y="57"/>
                  </a:lnTo>
                  <a:lnTo>
                    <a:pt x="567" y="79"/>
                  </a:lnTo>
                  <a:lnTo>
                    <a:pt x="514" y="101"/>
                  </a:lnTo>
                  <a:lnTo>
                    <a:pt x="465" y="132"/>
                  </a:lnTo>
                  <a:lnTo>
                    <a:pt x="408" y="163"/>
                  </a:lnTo>
                  <a:lnTo>
                    <a:pt x="368" y="199"/>
                  </a:lnTo>
                  <a:lnTo>
                    <a:pt x="324" y="238"/>
                  </a:lnTo>
                  <a:lnTo>
                    <a:pt x="275" y="274"/>
                  </a:lnTo>
                  <a:lnTo>
                    <a:pt x="234" y="318"/>
                  </a:lnTo>
                  <a:lnTo>
                    <a:pt x="199" y="362"/>
                  </a:lnTo>
                  <a:lnTo>
                    <a:pt x="163" y="411"/>
                  </a:lnTo>
                  <a:lnTo>
                    <a:pt x="128" y="464"/>
                  </a:lnTo>
                  <a:lnTo>
                    <a:pt x="101" y="513"/>
                  </a:lnTo>
                  <a:lnTo>
                    <a:pt x="75" y="575"/>
                  </a:lnTo>
                  <a:lnTo>
                    <a:pt x="53" y="632"/>
                  </a:lnTo>
                  <a:lnTo>
                    <a:pt x="30" y="695"/>
                  </a:lnTo>
                  <a:lnTo>
                    <a:pt x="22" y="757"/>
                  </a:lnTo>
                  <a:lnTo>
                    <a:pt x="8" y="828"/>
                  </a:lnTo>
                  <a:lnTo>
                    <a:pt x="0" y="890"/>
                  </a:lnTo>
                  <a:lnTo>
                    <a:pt x="4" y="965"/>
                  </a:lnTo>
                  <a:lnTo>
                    <a:pt x="4" y="1036"/>
                  </a:lnTo>
                  <a:lnTo>
                    <a:pt x="8" y="1107"/>
                  </a:lnTo>
                  <a:lnTo>
                    <a:pt x="22" y="1186"/>
                  </a:lnTo>
                  <a:lnTo>
                    <a:pt x="44" y="1257"/>
                  </a:lnTo>
                  <a:lnTo>
                    <a:pt x="66" y="1337"/>
                  </a:lnTo>
                  <a:lnTo>
                    <a:pt x="75" y="1310"/>
                  </a:lnTo>
                  <a:lnTo>
                    <a:pt x="66" y="1337"/>
                  </a:lnTo>
                  <a:lnTo>
                    <a:pt x="70" y="1350"/>
                  </a:lnTo>
                  <a:lnTo>
                    <a:pt x="75" y="1359"/>
                  </a:lnTo>
                  <a:lnTo>
                    <a:pt x="84" y="1354"/>
                  </a:lnTo>
                  <a:lnTo>
                    <a:pt x="101" y="1359"/>
                  </a:lnTo>
                  <a:lnTo>
                    <a:pt x="106" y="1354"/>
                  </a:lnTo>
                  <a:lnTo>
                    <a:pt x="115" y="1350"/>
                  </a:lnTo>
                  <a:lnTo>
                    <a:pt x="119" y="1341"/>
                  </a:lnTo>
                  <a:lnTo>
                    <a:pt x="119" y="1328"/>
                  </a:lnTo>
                  <a:lnTo>
                    <a:pt x="110" y="1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57400" y="4570560"/>
              <a:ext cx="79560" cy="190800"/>
            </a:xfrm>
            <a:custGeom>
              <a:avLst/>
              <a:gdLst/>
              <a:ahLst/>
              <a:rect l="0" t="0" r="r" b="b"/>
              <a:pathLst>
                <a:path w="221" h="530">
                  <a:moveTo>
                    <a:pt x="117" y="525"/>
                  </a:moveTo>
                  <a:lnTo>
                    <a:pt x="126" y="485"/>
                  </a:lnTo>
                  <a:lnTo>
                    <a:pt x="113" y="463"/>
                  </a:lnTo>
                  <a:lnTo>
                    <a:pt x="94" y="436"/>
                  </a:lnTo>
                  <a:lnTo>
                    <a:pt x="80" y="414"/>
                  </a:lnTo>
                  <a:lnTo>
                    <a:pt x="71" y="387"/>
                  </a:lnTo>
                  <a:lnTo>
                    <a:pt x="58" y="356"/>
                  </a:lnTo>
                  <a:lnTo>
                    <a:pt x="58" y="330"/>
                  </a:lnTo>
                  <a:lnTo>
                    <a:pt x="58" y="303"/>
                  </a:lnTo>
                  <a:lnTo>
                    <a:pt x="67" y="281"/>
                  </a:lnTo>
                  <a:lnTo>
                    <a:pt x="67" y="253"/>
                  </a:lnTo>
                  <a:lnTo>
                    <a:pt x="80" y="222"/>
                  </a:lnTo>
                  <a:lnTo>
                    <a:pt x="89" y="195"/>
                  </a:lnTo>
                  <a:lnTo>
                    <a:pt x="113" y="164"/>
                  </a:lnTo>
                  <a:lnTo>
                    <a:pt x="126" y="137"/>
                  </a:lnTo>
                  <a:lnTo>
                    <a:pt x="162" y="106"/>
                  </a:lnTo>
                  <a:lnTo>
                    <a:pt x="189" y="75"/>
                  </a:lnTo>
                  <a:lnTo>
                    <a:pt x="221" y="44"/>
                  </a:lnTo>
                  <a:lnTo>
                    <a:pt x="185" y="0"/>
                  </a:lnTo>
                  <a:lnTo>
                    <a:pt x="140" y="35"/>
                  </a:lnTo>
                  <a:lnTo>
                    <a:pt x="113" y="66"/>
                  </a:lnTo>
                  <a:lnTo>
                    <a:pt x="80" y="102"/>
                  </a:lnTo>
                  <a:lnTo>
                    <a:pt x="58" y="133"/>
                  </a:lnTo>
                  <a:lnTo>
                    <a:pt x="40" y="168"/>
                  </a:lnTo>
                  <a:lnTo>
                    <a:pt x="22" y="195"/>
                  </a:lnTo>
                  <a:lnTo>
                    <a:pt x="13" y="231"/>
                  </a:lnTo>
                  <a:lnTo>
                    <a:pt x="8" y="262"/>
                  </a:lnTo>
                  <a:lnTo>
                    <a:pt x="0" y="298"/>
                  </a:lnTo>
                  <a:lnTo>
                    <a:pt x="0" y="334"/>
                  </a:lnTo>
                  <a:lnTo>
                    <a:pt x="8" y="361"/>
                  </a:lnTo>
                  <a:lnTo>
                    <a:pt x="13" y="392"/>
                  </a:lnTo>
                  <a:lnTo>
                    <a:pt x="26" y="427"/>
                  </a:lnTo>
                  <a:lnTo>
                    <a:pt x="40" y="459"/>
                  </a:lnTo>
                  <a:lnTo>
                    <a:pt x="62" y="485"/>
                  </a:lnTo>
                  <a:lnTo>
                    <a:pt x="80" y="512"/>
                  </a:lnTo>
                  <a:lnTo>
                    <a:pt x="94" y="476"/>
                  </a:lnTo>
                  <a:lnTo>
                    <a:pt x="80" y="512"/>
                  </a:lnTo>
                  <a:lnTo>
                    <a:pt x="89" y="525"/>
                  </a:lnTo>
                  <a:lnTo>
                    <a:pt x="103" y="530"/>
                  </a:lnTo>
                  <a:lnTo>
                    <a:pt x="113" y="530"/>
                  </a:lnTo>
                  <a:lnTo>
                    <a:pt x="122" y="521"/>
                  </a:lnTo>
                  <a:lnTo>
                    <a:pt x="131" y="521"/>
                  </a:lnTo>
                  <a:lnTo>
                    <a:pt x="131" y="507"/>
                  </a:lnTo>
                  <a:lnTo>
                    <a:pt x="135" y="494"/>
                  </a:lnTo>
                  <a:lnTo>
                    <a:pt x="126" y="485"/>
                  </a:lnTo>
                  <a:lnTo>
                    <a:pt x="117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17720" y="4740120"/>
              <a:ext cx="182880" cy="518040"/>
            </a:xfrm>
            <a:custGeom>
              <a:avLst/>
              <a:gdLst/>
              <a:ahLst/>
              <a:rect l="0" t="0" r="r" b="b"/>
              <a:pathLst>
                <a:path w="508" h="1439">
                  <a:moveTo>
                    <a:pt x="494" y="1426"/>
                  </a:moveTo>
                  <a:lnTo>
                    <a:pt x="481" y="1390"/>
                  </a:lnTo>
                  <a:lnTo>
                    <a:pt x="419" y="1342"/>
                  </a:lnTo>
                  <a:lnTo>
                    <a:pt x="365" y="1302"/>
                  </a:lnTo>
                  <a:lnTo>
                    <a:pt x="312" y="1253"/>
                  </a:lnTo>
                  <a:lnTo>
                    <a:pt x="267" y="1205"/>
                  </a:lnTo>
                  <a:lnTo>
                    <a:pt x="226" y="1160"/>
                  </a:lnTo>
                  <a:lnTo>
                    <a:pt x="191" y="1107"/>
                  </a:lnTo>
                  <a:lnTo>
                    <a:pt x="160" y="1058"/>
                  </a:lnTo>
                  <a:lnTo>
                    <a:pt x="133" y="1009"/>
                  </a:lnTo>
                  <a:lnTo>
                    <a:pt x="111" y="952"/>
                  </a:lnTo>
                  <a:lnTo>
                    <a:pt x="93" y="903"/>
                  </a:lnTo>
                  <a:lnTo>
                    <a:pt x="75" y="850"/>
                  </a:lnTo>
                  <a:lnTo>
                    <a:pt x="71" y="797"/>
                  </a:lnTo>
                  <a:lnTo>
                    <a:pt x="62" y="744"/>
                  </a:lnTo>
                  <a:lnTo>
                    <a:pt x="57" y="695"/>
                  </a:lnTo>
                  <a:lnTo>
                    <a:pt x="57" y="642"/>
                  </a:lnTo>
                  <a:lnTo>
                    <a:pt x="62" y="598"/>
                  </a:lnTo>
                  <a:lnTo>
                    <a:pt x="71" y="545"/>
                  </a:lnTo>
                  <a:lnTo>
                    <a:pt x="80" y="496"/>
                  </a:lnTo>
                  <a:lnTo>
                    <a:pt x="93" y="452"/>
                  </a:lnTo>
                  <a:lnTo>
                    <a:pt x="111" y="399"/>
                  </a:lnTo>
                  <a:lnTo>
                    <a:pt x="133" y="363"/>
                  </a:lnTo>
                  <a:lnTo>
                    <a:pt x="155" y="318"/>
                  </a:lnTo>
                  <a:lnTo>
                    <a:pt x="177" y="283"/>
                  </a:lnTo>
                  <a:lnTo>
                    <a:pt x="204" y="238"/>
                  </a:lnTo>
                  <a:lnTo>
                    <a:pt x="240" y="207"/>
                  </a:lnTo>
                  <a:lnTo>
                    <a:pt x="267" y="176"/>
                  </a:lnTo>
                  <a:lnTo>
                    <a:pt x="307" y="145"/>
                  </a:lnTo>
                  <a:lnTo>
                    <a:pt x="339" y="123"/>
                  </a:lnTo>
                  <a:lnTo>
                    <a:pt x="379" y="97"/>
                  </a:lnTo>
                  <a:lnTo>
                    <a:pt x="419" y="75"/>
                  </a:lnTo>
                  <a:lnTo>
                    <a:pt x="459" y="61"/>
                  </a:lnTo>
                  <a:lnTo>
                    <a:pt x="508" y="48"/>
                  </a:lnTo>
                  <a:lnTo>
                    <a:pt x="485" y="0"/>
                  </a:lnTo>
                  <a:lnTo>
                    <a:pt x="436" y="8"/>
                  </a:lnTo>
                  <a:lnTo>
                    <a:pt x="392" y="30"/>
                  </a:lnTo>
                  <a:lnTo>
                    <a:pt x="347" y="48"/>
                  </a:lnTo>
                  <a:lnTo>
                    <a:pt x="303" y="70"/>
                  </a:lnTo>
                  <a:lnTo>
                    <a:pt x="263" y="101"/>
                  </a:lnTo>
                  <a:lnTo>
                    <a:pt x="226" y="132"/>
                  </a:lnTo>
                  <a:lnTo>
                    <a:pt x="195" y="172"/>
                  </a:lnTo>
                  <a:lnTo>
                    <a:pt x="160" y="203"/>
                  </a:lnTo>
                  <a:lnTo>
                    <a:pt x="129" y="247"/>
                  </a:lnTo>
                  <a:lnTo>
                    <a:pt x="102" y="291"/>
                  </a:lnTo>
                  <a:lnTo>
                    <a:pt x="80" y="331"/>
                  </a:lnTo>
                  <a:lnTo>
                    <a:pt x="57" y="381"/>
                  </a:lnTo>
                  <a:lnTo>
                    <a:pt x="44" y="425"/>
                  </a:lnTo>
                  <a:lnTo>
                    <a:pt x="26" y="478"/>
                  </a:lnTo>
                  <a:lnTo>
                    <a:pt x="13" y="531"/>
                  </a:lnTo>
                  <a:lnTo>
                    <a:pt x="4" y="580"/>
                  </a:lnTo>
                  <a:lnTo>
                    <a:pt x="0" y="637"/>
                  </a:lnTo>
                  <a:lnTo>
                    <a:pt x="0" y="691"/>
                  </a:lnTo>
                  <a:lnTo>
                    <a:pt x="4" y="744"/>
                  </a:lnTo>
                  <a:lnTo>
                    <a:pt x="8" y="801"/>
                  </a:lnTo>
                  <a:lnTo>
                    <a:pt x="22" y="859"/>
                  </a:lnTo>
                  <a:lnTo>
                    <a:pt x="35" y="912"/>
                  </a:lnTo>
                  <a:lnTo>
                    <a:pt x="62" y="969"/>
                  </a:lnTo>
                  <a:lnTo>
                    <a:pt x="84" y="1022"/>
                  </a:lnTo>
                  <a:lnTo>
                    <a:pt x="115" y="1081"/>
                  </a:lnTo>
                  <a:lnTo>
                    <a:pt x="146" y="1134"/>
                  </a:lnTo>
                  <a:lnTo>
                    <a:pt x="182" y="1187"/>
                  </a:lnTo>
                  <a:lnTo>
                    <a:pt x="226" y="1240"/>
                  </a:lnTo>
                  <a:lnTo>
                    <a:pt x="276" y="1289"/>
                  </a:lnTo>
                  <a:lnTo>
                    <a:pt x="325" y="1337"/>
                  </a:lnTo>
                  <a:lnTo>
                    <a:pt x="388" y="1386"/>
                  </a:lnTo>
                  <a:lnTo>
                    <a:pt x="450" y="1435"/>
                  </a:lnTo>
                  <a:lnTo>
                    <a:pt x="436" y="1395"/>
                  </a:lnTo>
                  <a:lnTo>
                    <a:pt x="450" y="1435"/>
                  </a:lnTo>
                  <a:lnTo>
                    <a:pt x="463" y="1435"/>
                  </a:lnTo>
                  <a:lnTo>
                    <a:pt x="472" y="1439"/>
                  </a:lnTo>
                  <a:lnTo>
                    <a:pt x="481" y="1435"/>
                  </a:lnTo>
                  <a:lnTo>
                    <a:pt x="490" y="1430"/>
                  </a:lnTo>
                  <a:lnTo>
                    <a:pt x="494" y="1421"/>
                  </a:lnTo>
                  <a:lnTo>
                    <a:pt x="494" y="1408"/>
                  </a:lnTo>
                  <a:lnTo>
                    <a:pt x="490" y="1399"/>
                  </a:lnTo>
                  <a:lnTo>
                    <a:pt x="481" y="1390"/>
                  </a:lnTo>
                  <a:lnTo>
                    <a:pt x="494" y="1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68560" y="5240160"/>
              <a:ext cx="168480" cy="194040"/>
            </a:xfrm>
            <a:custGeom>
              <a:avLst/>
              <a:gdLst/>
              <a:ahLst/>
              <a:rect l="0" t="0" r="r" b="b"/>
              <a:pathLst>
                <a:path w="468" h="539">
                  <a:moveTo>
                    <a:pt x="463" y="499"/>
                  </a:moveTo>
                  <a:lnTo>
                    <a:pt x="441" y="482"/>
                  </a:lnTo>
                  <a:lnTo>
                    <a:pt x="406" y="477"/>
                  </a:lnTo>
                  <a:lnTo>
                    <a:pt x="361" y="464"/>
                  </a:lnTo>
                  <a:lnTo>
                    <a:pt x="321" y="442"/>
                  </a:lnTo>
                  <a:lnTo>
                    <a:pt x="281" y="419"/>
                  </a:lnTo>
                  <a:lnTo>
                    <a:pt x="245" y="392"/>
                  </a:lnTo>
                  <a:lnTo>
                    <a:pt x="204" y="361"/>
                  </a:lnTo>
                  <a:lnTo>
                    <a:pt x="173" y="330"/>
                  </a:lnTo>
                  <a:lnTo>
                    <a:pt x="142" y="298"/>
                  </a:lnTo>
                  <a:lnTo>
                    <a:pt x="115" y="258"/>
                  </a:lnTo>
                  <a:lnTo>
                    <a:pt x="97" y="223"/>
                  </a:lnTo>
                  <a:lnTo>
                    <a:pt x="75" y="187"/>
                  </a:lnTo>
                  <a:lnTo>
                    <a:pt x="66" y="152"/>
                  </a:lnTo>
                  <a:lnTo>
                    <a:pt x="57" y="115"/>
                  </a:lnTo>
                  <a:lnTo>
                    <a:pt x="57" y="84"/>
                  </a:lnTo>
                  <a:lnTo>
                    <a:pt x="57" y="53"/>
                  </a:lnTo>
                  <a:lnTo>
                    <a:pt x="71" y="31"/>
                  </a:lnTo>
                  <a:lnTo>
                    <a:pt x="13" y="0"/>
                  </a:lnTo>
                  <a:lnTo>
                    <a:pt x="0" y="35"/>
                  </a:lnTo>
                  <a:lnTo>
                    <a:pt x="0" y="75"/>
                  </a:lnTo>
                  <a:lnTo>
                    <a:pt x="4" y="115"/>
                  </a:lnTo>
                  <a:lnTo>
                    <a:pt x="4" y="161"/>
                  </a:lnTo>
                  <a:lnTo>
                    <a:pt x="22" y="201"/>
                  </a:lnTo>
                  <a:lnTo>
                    <a:pt x="44" y="245"/>
                  </a:lnTo>
                  <a:lnTo>
                    <a:pt x="71" y="285"/>
                  </a:lnTo>
                  <a:lnTo>
                    <a:pt x="102" y="330"/>
                  </a:lnTo>
                  <a:lnTo>
                    <a:pt x="133" y="365"/>
                  </a:lnTo>
                  <a:lnTo>
                    <a:pt x="169" y="401"/>
                  </a:lnTo>
                  <a:lnTo>
                    <a:pt x="213" y="433"/>
                  </a:lnTo>
                  <a:lnTo>
                    <a:pt x="250" y="464"/>
                  </a:lnTo>
                  <a:lnTo>
                    <a:pt x="299" y="491"/>
                  </a:lnTo>
                  <a:lnTo>
                    <a:pt x="348" y="513"/>
                  </a:lnTo>
                  <a:lnTo>
                    <a:pt x="392" y="526"/>
                  </a:lnTo>
                  <a:lnTo>
                    <a:pt x="441" y="539"/>
                  </a:lnTo>
                  <a:lnTo>
                    <a:pt x="419" y="522"/>
                  </a:lnTo>
                  <a:lnTo>
                    <a:pt x="441" y="539"/>
                  </a:lnTo>
                  <a:lnTo>
                    <a:pt x="450" y="539"/>
                  </a:lnTo>
                  <a:lnTo>
                    <a:pt x="459" y="535"/>
                  </a:lnTo>
                  <a:lnTo>
                    <a:pt x="468" y="526"/>
                  </a:lnTo>
                  <a:lnTo>
                    <a:pt x="468" y="517"/>
                  </a:lnTo>
                  <a:lnTo>
                    <a:pt x="463" y="504"/>
                  </a:lnTo>
                  <a:lnTo>
                    <a:pt x="459" y="495"/>
                  </a:lnTo>
                  <a:lnTo>
                    <a:pt x="455" y="486"/>
                  </a:lnTo>
                  <a:lnTo>
                    <a:pt x="441" y="482"/>
                  </a:lnTo>
                  <a:lnTo>
                    <a:pt x="463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17600" y="5418000"/>
              <a:ext cx="528840" cy="186120"/>
            </a:xfrm>
            <a:custGeom>
              <a:avLst/>
              <a:gdLst/>
              <a:ahLst/>
              <a:rect l="0" t="0" r="r" b="b"/>
              <a:pathLst>
                <a:path w="1469" h="517">
                  <a:moveTo>
                    <a:pt x="1442" y="111"/>
                  </a:moveTo>
                  <a:lnTo>
                    <a:pt x="1416" y="128"/>
                  </a:lnTo>
                  <a:lnTo>
                    <a:pt x="1398" y="174"/>
                  </a:lnTo>
                  <a:lnTo>
                    <a:pt x="1367" y="223"/>
                  </a:lnTo>
                  <a:lnTo>
                    <a:pt x="1341" y="258"/>
                  </a:lnTo>
                  <a:lnTo>
                    <a:pt x="1301" y="294"/>
                  </a:lnTo>
                  <a:lnTo>
                    <a:pt x="1274" y="330"/>
                  </a:lnTo>
                  <a:lnTo>
                    <a:pt x="1230" y="356"/>
                  </a:lnTo>
                  <a:lnTo>
                    <a:pt x="1199" y="379"/>
                  </a:lnTo>
                  <a:lnTo>
                    <a:pt x="1155" y="402"/>
                  </a:lnTo>
                  <a:lnTo>
                    <a:pt x="1111" y="420"/>
                  </a:lnTo>
                  <a:lnTo>
                    <a:pt x="1066" y="433"/>
                  </a:lnTo>
                  <a:lnTo>
                    <a:pt x="1022" y="446"/>
                  </a:lnTo>
                  <a:lnTo>
                    <a:pt x="974" y="455"/>
                  </a:lnTo>
                  <a:lnTo>
                    <a:pt x="925" y="460"/>
                  </a:lnTo>
                  <a:lnTo>
                    <a:pt x="876" y="460"/>
                  </a:lnTo>
                  <a:lnTo>
                    <a:pt x="828" y="460"/>
                  </a:lnTo>
                  <a:lnTo>
                    <a:pt x="779" y="455"/>
                  </a:lnTo>
                  <a:lnTo>
                    <a:pt x="729" y="442"/>
                  </a:lnTo>
                  <a:lnTo>
                    <a:pt x="672" y="437"/>
                  </a:lnTo>
                  <a:lnTo>
                    <a:pt x="623" y="424"/>
                  </a:lnTo>
                  <a:lnTo>
                    <a:pt x="574" y="406"/>
                  </a:lnTo>
                  <a:lnTo>
                    <a:pt x="521" y="379"/>
                  </a:lnTo>
                  <a:lnTo>
                    <a:pt x="477" y="356"/>
                  </a:lnTo>
                  <a:lnTo>
                    <a:pt x="420" y="334"/>
                  </a:lnTo>
                  <a:lnTo>
                    <a:pt x="375" y="307"/>
                  </a:lnTo>
                  <a:lnTo>
                    <a:pt x="327" y="276"/>
                  </a:lnTo>
                  <a:lnTo>
                    <a:pt x="283" y="245"/>
                  </a:lnTo>
                  <a:lnTo>
                    <a:pt x="238" y="210"/>
                  </a:lnTo>
                  <a:lnTo>
                    <a:pt x="194" y="174"/>
                  </a:lnTo>
                  <a:lnTo>
                    <a:pt x="159" y="128"/>
                  </a:lnTo>
                  <a:lnTo>
                    <a:pt x="114" y="88"/>
                  </a:lnTo>
                  <a:lnTo>
                    <a:pt x="79" y="44"/>
                  </a:lnTo>
                  <a:lnTo>
                    <a:pt x="44" y="0"/>
                  </a:lnTo>
                  <a:lnTo>
                    <a:pt x="0" y="22"/>
                  </a:lnTo>
                  <a:lnTo>
                    <a:pt x="39" y="75"/>
                  </a:lnTo>
                  <a:lnTo>
                    <a:pt x="75" y="120"/>
                  </a:lnTo>
                  <a:lnTo>
                    <a:pt x="114" y="165"/>
                  </a:lnTo>
                  <a:lnTo>
                    <a:pt x="163" y="205"/>
                  </a:lnTo>
                  <a:lnTo>
                    <a:pt x="203" y="250"/>
                  </a:lnTo>
                  <a:lnTo>
                    <a:pt x="247" y="285"/>
                  </a:lnTo>
                  <a:lnTo>
                    <a:pt x="300" y="321"/>
                  </a:lnTo>
                  <a:lnTo>
                    <a:pt x="344" y="352"/>
                  </a:lnTo>
                  <a:lnTo>
                    <a:pt x="402" y="383"/>
                  </a:lnTo>
                  <a:lnTo>
                    <a:pt x="455" y="411"/>
                  </a:lnTo>
                  <a:lnTo>
                    <a:pt x="504" y="437"/>
                  </a:lnTo>
                  <a:lnTo>
                    <a:pt x="561" y="455"/>
                  </a:lnTo>
                  <a:lnTo>
                    <a:pt x="614" y="473"/>
                  </a:lnTo>
                  <a:lnTo>
                    <a:pt x="667" y="486"/>
                  </a:lnTo>
                  <a:lnTo>
                    <a:pt x="725" y="504"/>
                  </a:lnTo>
                  <a:lnTo>
                    <a:pt x="775" y="513"/>
                  </a:lnTo>
                  <a:lnTo>
                    <a:pt x="832" y="517"/>
                  </a:lnTo>
                  <a:lnTo>
                    <a:pt x="881" y="517"/>
                  </a:lnTo>
                  <a:lnTo>
                    <a:pt x="934" y="513"/>
                  </a:lnTo>
                  <a:lnTo>
                    <a:pt x="987" y="509"/>
                  </a:lnTo>
                  <a:lnTo>
                    <a:pt x="1040" y="500"/>
                  </a:lnTo>
                  <a:lnTo>
                    <a:pt x="1089" y="482"/>
                  </a:lnTo>
                  <a:lnTo>
                    <a:pt x="1137" y="477"/>
                  </a:lnTo>
                  <a:lnTo>
                    <a:pt x="1181" y="455"/>
                  </a:lnTo>
                  <a:lnTo>
                    <a:pt x="1230" y="428"/>
                  </a:lnTo>
                  <a:lnTo>
                    <a:pt x="1270" y="406"/>
                  </a:lnTo>
                  <a:lnTo>
                    <a:pt x="1310" y="370"/>
                  </a:lnTo>
                  <a:lnTo>
                    <a:pt x="1345" y="334"/>
                  </a:lnTo>
                  <a:lnTo>
                    <a:pt x="1380" y="298"/>
                  </a:lnTo>
                  <a:lnTo>
                    <a:pt x="1411" y="254"/>
                  </a:lnTo>
                  <a:lnTo>
                    <a:pt x="1447" y="205"/>
                  </a:lnTo>
                  <a:lnTo>
                    <a:pt x="1469" y="156"/>
                  </a:lnTo>
                  <a:lnTo>
                    <a:pt x="1447" y="165"/>
                  </a:lnTo>
                  <a:lnTo>
                    <a:pt x="1469" y="156"/>
                  </a:lnTo>
                  <a:lnTo>
                    <a:pt x="1469" y="143"/>
                  </a:lnTo>
                  <a:lnTo>
                    <a:pt x="1469" y="138"/>
                  </a:lnTo>
                  <a:lnTo>
                    <a:pt x="1460" y="124"/>
                  </a:lnTo>
                  <a:lnTo>
                    <a:pt x="1456" y="120"/>
                  </a:lnTo>
                  <a:lnTo>
                    <a:pt x="1447" y="111"/>
                  </a:lnTo>
                  <a:lnTo>
                    <a:pt x="1434" y="115"/>
                  </a:lnTo>
                  <a:lnTo>
                    <a:pt x="1425" y="120"/>
                  </a:lnTo>
                  <a:lnTo>
                    <a:pt x="1416" y="128"/>
                  </a:lnTo>
                  <a:lnTo>
                    <a:pt x="1442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35280" y="5307120"/>
              <a:ext cx="168480" cy="174960"/>
            </a:xfrm>
            <a:custGeom>
              <a:avLst/>
              <a:gdLst/>
              <a:ahLst/>
              <a:rect l="0" t="0" r="r" b="b"/>
              <a:pathLst>
                <a:path w="468" h="486">
                  <a:moveTo>
                    <a:pt x="432" y="0"/>
                  </a:moveTo>
                  <a:lnTo>
                    <a:pt x="406" y="26"/>
                  </a:lnTo>
                  <a:lnTo>
                    <a:pt x="410" y="80"/>
                  </a:lnTo>
                  <a:lnTo>
                    <a:pt x="415" y="124"/>
                  </a:lnTo>
                  <a:lnTo>
                    <a:pt x="406" y="169"/>
                  </a:lnTo>
                  <a:lnTo>
                    <a:pt x="401" y="209"/>
                  </a:lnTo>
                  <a:lnTo>
                    <a:pt x="388" y="240"/>
                  </a:lnTo>
                  <a:lnTo>
                    <a:pt x="370" y="276"/>
                  </a:lnTo>
                  <a:lnTo>
                    <a:pt x="352" y="308"/>
                  </a:lnTo>
                  <a:lnTo>
                    <a:pt x="325" y="339"/>
                  </a:lnTo>
                  <a:lnTo>
                    <a:pt x="303" y="357"/>
                  </a:lnTo>
                  <a:lnTo>
                    <a:pt x="268" y="379"/>
                  </a:lnTo>
                  <a:lnTo>
                    <a:pt x="231" y="397"/>
                  </a:lnTo>
                  <a:lnTo>
                    <a:pt x="200" y="405"/>
                  </a:lnTo>
                  <a:lnTo>
                    <a:pt x="155" y="414"/>
                  </a:lnTo>
                  <a:lnTo>
                    <a:pt x="106" y="423"/>
                  </a:lnTo>
                  <a:lnTo>
                    <a:pt x="57" y="428"/>
                  </a:lnTo>
                  <a:lnTo>
                    <a:pt x="0" y="423"/>
                  </a:lnTo>
                  <a:lnTo>
                    <a:pt x="4" y="477"/>
                  </a:lnTo>
                  <a:lnTo>
                    <a:pt x="62" y="486"/>
                  </a:lnTo>
                  <a:lnTo>
                    <a:pt x="120" y="481"/>
                  </a:lnTo>
                  <a:lnTo>
                    <a:pt x="173" y="472"/>
                  </a:lnTo>
                  <a:lnTo>
                    <a:pt x="218" y="459"/>
                  </a:lnTo>
                  <a:lnTo>
                    <a:pt x="263" y="446"/>
                  </a:lnTo>
                  <a:lnTo>
                    <a:pt x="303" y="428"/>
                  </a:lnTo>
                  <a:lnTo>
                    <a:pt x="339" y="405"/>
                  </a:lnTo>
                  <a:lnTo>
                    <a:pt x="370" y="379"/>
                  </a:lnTo>
                  <a:lnTo>
                    <a:pt x="397" y="339"/>
                  </a:lnTo>
                  <a:lnTo>
                    <a:pt x="423" y="308"/>
                  </a:lnTo>
                  <a:lnTo>
                    <a:pt x="441" y="268"/>
                  </a:lnTo>
                  <a:lnTo>
                    <a:pt x="450" y="226"/>
                  </a:lnTo>
                  <a:lnTo>
                    <a:pt x="463" y="182"/>
                  </a:lnTo>
                  <a:lnTo>
                    <a:pt x="468" y="133"/>
                  </a:lnTo>
                  <a:lnTo>
                    <a:pt x="468" y="84"/>
                  </a:lnTo>
                  <a:lnTo>
                    <a:pt x="463" y="31"/>
                  </a:lnTo>
                  <a:lnTo>
                    <a:pt x="441" y="53"/>
                  </a:lnTo>
                  <a:lnTo>
                    <a:pt x="463" y="31"/>
                  </a:lnTo>
                  <a:lnTo>
                    <a:pt x="459" y="17"/>
                  </a:lnTo>
                  <a:lnTo>
                    <a:pt x="459" y="8"/>
                  </a:lnTo>
                  <a:lnTo>
                    <a:pt x="446" y="0"/>
                  </a:lnTo>
                  <a:lnTo>
                    <a:pt x="437" y="0"/>
                  </a:lnTo>
                  <a:lnTo>
                    <a:pt x="423" y="4"/>
                  </a:lnTo>
                  <a:lnTo>
                    <a:pt x="415" y="8"/>
                  </a:lnTo>
                  <a:lnTo>
                    <a:pt x="406" y="17"/>
                  </a:lnTo>
                  <a:lnTo>
                    <a:pt x="406" y="26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89000" y="4950000"/>
              <a:ext cx="311400" cy="378360"/>
            </a:xfrm>
            <a:custGeom>
              <a:avLst/>
              <a:gdLst/>
              <a:ahLst/>
              <a:rect l="0" t="0" r="r" b="b"/>
              <a:pathLst>
                <a:path w="865" h="1051">
                  <a:moveTo>
                    <a:pt x="803" y="0"/>
                  </a:moveTo>
                  <a:lnTo>
                    <a:pt x="789" y="30"/>
                  </a:lnTo>
                  <a:lnTo>
                    <a:pt x="794" y="79"/>
                  </a:lnTo>
                  <a:lnTo>
                    <a:pt x="798" y="123"/>
                  </a:lnTo>
                  <a:lnTo>
                    <a:pt x="803" y="168"/>
                  </a:lnTo>
                  <a:lnTo>
                    <a:pt x="807" y="212"/>
                  </a:lnTo>
                  <a:lnTo>
                    <a:pt x="807" y="261"/>
                  </a:lnTo>
                  <a:lnTo>
                    <a:pt x="807" y="302"/>
                  </a:lnTo>
                  <a:lnTo>
                    <a:pt x="803" y="346"/>
                  </a:lnTo>
                  <a:lnTo>
                    <a:pt x="789" y="386"/>
                  </a:lnTo>
                  <a:lnTo>
                    <a:pt x="781" y="426"/>
                  </a:lnTo>
                  <a:lnTo>
                    <a:pt x="767" y="470"/>
                  </a:lnTo>
                  <a:lnTo>
                    <a:pt x="754" y="505"/>
                  </a:lnTo>
                  <a:lnTo>
                    <a:pt x="741" y="545"/>
                  </a:lnTo>
                  <a:lnTo>
                    <a:pt x="723" y="581"/>
                  </a:lnTo>
                  <a:lnTo>
                    <a:pt x="701" y="620"/>
                  </a:lnTo>
                  <a:lnTo>
                    <a:pt x="683" y="656"/>
                  </a:lnTo>
                  <a:lnTo>
                    <a:pt x="656" y="687"/>
                  </a:lnTo>
                  <a:lnTo>
                    <a:pt x="630" y="722"/>
                  </a:lnTo>
                  <a:lnTo>
                    <a:pt x="599" y="749"/>
                  </a:lnTo>
                  <a:lnTo>
                    <a:pt x="572" y="780"/>
                  </a:lnTo>
                  <a:lnTo>
                    <a:pt x="537" y="807"/>
                  </a:lnTo>
                  <a:lnTo>
                    <a:pt x="506" y="830"/>
                  </a:lnTo>
                  <a:lnTo>
                    <a:pt x="470" y="856"/>
                  </a:lnTo>
                  <a:lnTo>
                    <a:pt x="435" y="883"/>
                  </a:lnTo>
                  <a:lnTo>
                    <a:pt x="390" y="905"/>
                  </a:lnTo>
                  <a:lnTo>
                    <a:pt x="350" y="918"/>
                  </a:lnTo>
                  <a:lnTo>
                    <a:pt x="305" y="936"/>
                  </a:lnTo>
                  <a:lnTo>
                    <a:pt x="257" y="949"/>
                  </a:lnTo>
                  <a:lnTo>
                    <a:pt x="208" y="967"/>
                  </a:lnTo>
                  <a:lnTo>
                    <a:pt x="159" y="976"/>
                  </a:lnTo>
                  <a:lnTo>
                    <a:pt x="110" y="985"/>
                  </a:lnTo>
                  <a:lnTo>
                    <a:pt x="53" y="993"/>
                  </a:lnTo>
                  <a:lnTo>
                    <a:pt x="0" y="998"/>
                  </a:lnTo>
                  <a:lnTo>
                    <a:pt x="8" y="1051"/>
                  </a:lnTo>
                  <a:lnTo>
                    <a:pt x="70" y="1051"/>
                  </a:lnTo>
                  <a:lnTo>
                    <a:pt x="124" y="1038"/>
                  </a:lnTo>
                  <a:lnTo>
                    <a:pt x="177" y="1029"/>
                  </a:lnTo>
                  <a:lnTo>
                    <a:pt x="230" y="1020"/>
                  </a:lnTo>
                  <a:lnTo>
                    <a:pt x="279" y="1011"/>
                  </a:lnTo>
                  <a:lnTo>
                    <a:pt x="332" y="989"/>
                  </a:lnTo>
                  <a:lnTo>
                    <a:pt x="376" y="971"/>
                  </a:lnTo>
                  <a:lnTo>
                    <a:pt x="416" y="949"/>
                  </a:lnTo>
                  <a:lnTo>
                    <a:pt x="466" y="927"/>
                  </a:lnTo>
                  <a:lnTo>
                    <a:pt x="501" y="900"/>
                  </a:lnTo>
                  <a:lnTo>
                    <a:pt x="546" y="883"/>
                  </a:lnTo>
                  <a:lnTo>
                    <a:pt x="581" y="852"/>
                  </a:lnTo>
                  <a:lnTo>
                    <a:pt x="617" y="821"/>
                  </a:lnTo>
                  <a:lnTo>
                    <a:pt x="643" y="794"/>
                  </a:lnTo>
                  <a:lnTo>
                    <a:pt x="679" y="758"/>
                  </a:lnTo>
                  <a:lnTo>
                    <a:pt x="705" y="722"/>
                  </a:lnTo>
                  <a:lnTo>
                    <a:pt x="727" y="687"/>
                  </a:lnTo>
                  <a:lnTo>
                    <a:pt x="754" y="647"/>
                  </a:lnTo>
                  <a:lnTo>
                    <a:pt x="776" y="612"/>
                  </a:lnTo>
                  <a:lnTo>
                    <a:pt x="798" y="572"/>
                  </a:lnTo>
                  <a:lnTo>
                    <a:pt x="812" y="532"/>
                  </a:lnTo>
                  <a:lnTo>
                    <a:pt x="829" y="492"/>
                  </a:lnTo>
                  <a:lnTo>
                    <a:pt x="838" y="448"/>
                  </a:lnTo>
                  <a:lnTo>
                    <a:pt x="847" y="403"/>
                  </a:lnTo>
                  <a:lnTo>
                    <a:pt x="856" y="359"/>
                  </a:lnTo>
                  <a:lnTo>
                    <a:pt x="860" y="310"/>
                  </a:lnTo>
                  <a:lnTo>
                    <a:pt x="865" y="266"/>
                  </a:lnTo>
                  <a:lnTo>
                    <a:pt x="865" y="216"/>
                  </a:lnTo>
                  <a:lnTo>
                    <a:pt x="860" y="172"/>
                  </a:lnTo>
                  <a:lnTo>
                    <a:pt x="856" y="123"/>
                  </a:lnTo>
                  <a:lnTo>
                    <a:pt x="852" y="75"/>
                  </a:lnTo>
                  <a:lnTo>
                    <a:pt x="838" y="22"/>
                  </a:lnTo>
                  <a:lnTo>
                    <a:pt x="820" y="53"/>
                  </a:lnTo>
                  <a:lnTo>
                    <a:pt x="838" y="22"/>
                  </a:lnTo>
                  <a:lnTo>
                    <a:pt x="834" y="13"/>
                  </a:lnTo>
                  <a:lnTo>
                    <a:pt x="829" y="4"/>
                  </a:lnTo>
                  <a:lnTo>
                    <a:pt x="816" y="0"/>
                  </a:lnTo>
                  <a:lnTo>
                    <a:pt x="807" y="4"/>
                  </a:lnTo>
                  <a:lnTo>
                    <a:pt x="794" y="4"/>
                  </a:lnTo>
                  <a:lnTo>
                    <a:pt x="785" y="8"/>
                  </a:lnTo>
                  <a:lnTo>
                    <a:pt x="785" y="17"/>
                  </a:lnTo>
                  <a:lnTo>
                    <a:pt x="789" y="30"/>
                  </a:lnTo>
                  <a:lnTo>
                    <a:pt x="8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76640" y="4392720"/>
              <a:ext cx="321120" cy="578160"/>
            </a:xfrm>
            <a:custGeom>
              <a:avLst/>
              <a:gdLst/>
              <a:ahLst/>
              <a:rect l="0" t="0" r="r" b="b"/>
              <a:pathLst>
                <a:path w="892" h="1606">
                  <a:moveTo>
                    <a:pt x="733" y="4"/>
                  </a:moveTo>
                  <a:lnTo>
                    <a:pt x="733" y="39"/>
                  </a:lnTo>
                  <a:lnTo>
                    <a:pt x="755" y="79"/>
                  </a:lnTo>
                  <a:lnTo>
                    <a:pt x="777" y="128"/>
                  </a:lnTo>
                  <a:lnTo>
                    <a:pt x="790" y="176"/>
                  </a:lnTo>
                  <a:lnTo>
                    <a:pt x="808" y="229"/>
                  </a:lnTo>
                  <a:lnTo>
                    <a:pt x="821" y="282"/>
                  </a:lnTo>
                  <a:lnTo>
                    <a:pt x="830" y="331"/>
                  </a:lnTo>
                  <a:lnTo>
                    <a:pt x="839" y="393"/>
                  </a:lnTo>
                  <a:lnTo>
                    <a:pt x="835" y="451"/>
                  </a:lnTo>
                  <a:lnTo>
                    <a:pt x="835" y="508"/>
                  </a:lnTo>
                  <a:lnTo>
                    <a:pt x="826" y="570"/>
                  </a:lnTo>
                  <a:lnTo>
                    <a:pt x="817" y="632"/>
                  </a:lnTo>
                  <a:lnTo>
                    <a:pt x="812" y="694"/>
                  </a:lnTo>
                  <a:lnTo>
                    <a:pt x="799" y="751"/>
                  </a:lnTo>
                  <a:lnTo>
                    <a:pt x="781" y="814"/>
                  </a:lnTo>
                  <a:lnTo>
                    <a:pt x="759" y="872"/>
                  </a:lnTo>
                  <a:lnTo>
                    <a:pt x="737" y="934"/>
                  </a:lnTo>
                  <a:lnTo>
                    <a:pt x="711" y="991"/>
                  </a:lnTo>
                  <a:lnTo>
                    <a:pt x="684" y="1048"/>
                  </a:lnTo>
                  <a:lnTo>
                    <a:pt x="652" y="1102"/>
                  </a:lnTo>
                  <a:lnTo>
                    <a:pt x="617" y="1155"/>
                  </a:lnTo>
                  <a:lnTo>
                    <a:pt x="581" y="1208"/>
                  </a:lnTo>
                  <a:lnTo>
                    <a:pt x="541" y="1256"/>
                  </a:lnTo>
                  <a:lnTo>
                    <a:pt x="497" y="1305"/>
                  </a:lnTo>
                  <a:lnTo>
                    <a:pt x="448" y="1345"/>
                  </a:lnTo>
                  <a:lnTo>
                    <a:pt x="404" y="1385"/>
                  </a:lnTo>
                  <a:lnTo>
                    <a:pt x="355" y="1420"/>
                  </a:lnTo>
                  <a:lnTo>
                    <a:pt x="302" y="1451"/>
                  </a:lnTo>
                  <a:lnTo>
                    <a:pt x="249" y="1486"/>
                  </a:lnTo>
                  <a:lnTo>
                    <a:pt x="190" y="1504"/>
                  </a:lnTo>
                  <a:lnTo>
                    <a:pt x="128" y="1526"/>
                  </a:lnTo>
                  <a:lnTo>
                    <a:pt x="66" y="1539"/>
                  </a:lnTo>
                  <a:lnTo>
                    <a:pt x="0" y="1553"/>
                  </a:lnTo>
                  <a:lnTo>
                    <a:pt x="17" y="1606"/>
                  </a:lnTo>
                  <a:lnTo>
                    <a:pt x="84" y="1597"/>
                  </a:lnTo>
                  <a:lnTo>
                    <a:pt x="150" y="1579"/>
                  </a:lnTo>
                  <a:lnTo>
                    <a:pt x="212" y="1561"/>
                  </a:lnTo>
                  <a:lnTo>
                    <a:pt x="280" y="1526"/>
                  </a:lnTo>
                  <a:lnTo>
                    <a:pt x="333" y="1500"/>
                  </a:lnTo>
                  <a:lnTo>
                    <a:pt x="395" y="1469"/>
                  </a:lnTo>
                  <a:lnTo>
                    <a:pt x="444" y="1429"/>
                  </a:lnTo>
                  <a:lnTo>
                    <a:pt x="497" y="1389"/>
                  </a:lnTo>
                  <a:lnTo>
                    <a:pt x="541" y="1345"/>
                  </a:lnTo>
                  <a:lnTo>
                    <a:pt x="581" y="1292"/>
                  </a:lnTo>
                  <a:lnTo>
                    <a:pt x="625" y="1243"/>
                  </a:lnTo>
                  <a:lnTo>
                    <a:pt x="665" y="1190"/>
                  </a:lnTo>
                  <a:lnTo>
                    <a:pt x="697" y="1132"/>
                  </a:lnTo>
                  <a:lnTo>
                    <a:pt x="733" y="1075"/>
                  </a:lnTo>
                  <a:lnTo>
                    <a:pt x="764" y="1018"/>
                  </a:lnTo>
                  <a:lnTo>
                    <a:pt x="795" y="960"/>
                  </a:lnTo>
                  <a:lnTo>
                    <a:pt x="817" y="898"/>
                  </a:lnTo>
                  <a:lnTo>
                    <a:pt x="835" y="832"/>
                  </a:lnTo>
                  <a:lnTo>
                    <a:pt x="852" y="764"/>
                  </a:lnTo>
                  <a:lnTo>
                    <a:pt x="866" y="707"/>
                  </a:lnTo>
                  <a:lnTo>
                    <a:pt x="879" y="645"/>
                  </a:lnTo>
                  <a:lnTo>
                    <a:pt x="883" y="579"/>
                  </a:lnTo>
                  <a:lnTo>
                    <a:pt x="892" y="517"/>
                  </a:lnTo>
                  <a:lnTo>
                    <a:pt x="892" y="455"/>
                  </a:lnTo>
                  <a:lnTo>
                    <a:pt x="892" y="389"/>
                  </a:lnTo>
                  <a:lnTo>
                    <a:pt x="888" y="336"/>
                  </a:lnTo>
                  <a:lnTo>
                    <a:pt x="879" y="274"/>
                  </a:lnTo>
                  <a:lnTo>
                    <a:pt x="866" y="221"/>
                  </a:lnTo>
                  <a:lnTo>
                    <a:pt x="852" y="168"/>
                  </a:lnTo>
                  <a:lnTo>
                    <a:pt x="830" y="110"/>
                  </a:lnTo>
                  <a:lnTo>
                    <a:pt x="808" y="66"/>
                  </a:lnTo>
                  <a:lnTo>
                    <a:pt x="781" y="13"/>
                  </a:lnTo>
                  <a:lnTo>
                    <a:pt x="777" y="44"/>
                  </a:lnTo>
                  <a:lnTo>
                    <a:pt x="781" y="13"/>
                  </a:lnTo>
                  <a:lnTo>
                    <a:pt x="773" y="4"/>
                  </a:lnTo>
                  <a:lnTo>
                    <a:pt x="759" y="0"/>
                  </a:lnTo>
                  <a:lnTo>
                    <a:pt x="750" y="0"/>
                  </a:lnTo>
                  <a:lnTo>
                    <a:pt x="742" y="4"/>
                  </a:lnTo>
                  <a:lnTo>
                    <a:pt x="733" y="8"/>
                  </a:lnTo>
                  <a:lnTo>
                    <a:pt x="724" y="17"/>
                  </a:lnTo>
                  <a:lnTo>
                    <a:pt x="724" y="26"/>
                  </a:lnTo>
                  <a:lnTo>
                    <a:pt x="733" y="39"/>
                  </a:lnTo>
                  <a:lnTo>
                    <a:pt x="73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"/>
          <p:cNvSpPr txBox="1"/>
          <p:nvPr/>
        </p:nvSpPr>
        <p:spPr>
          <a:xfrm>
            <a:off x="1219320" y="3984480"/>
            <a:ext cx="143676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59080" y="2598840"/>
            <a:ext cx="446040" cy="982440"/>
          </a:xfrm>
          <a:prstGeom prst="line">
            <a:avLst/>
          </a:prstGeom>
          <a:ln w="101520">
            <a:solidFill>
              <a:srgbClr val="5f5f5f"/>
            </a:solidFill>
            <a:custDash>
              <a:ds d="400355" sp="400355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100240" y="4229280"/>
            <a:ext cx="984240" cy="368280"/>
          </a:xfrm>
          <a:prstGeom prst="line">
            <a:avLst/>
          </a:prstGeom>
          <a:ln w="101520">
            <a:solidFill>
              <a:srgbClr val="5f5f5f"/>
            </a:solidFill>
            <a:custDash>
              <a:ds d="400355" sp="400355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41640" y="3176640"/>
            <a:ext cx="508320" cy="555840"/>
          </a:xfrm>
          <a:custGeom>
            <a:avLst/>
            <a:gdLst/>
            <a:ahLst/>
            <a:rect l="0" t="0" r="r" b="b"/>
            <a:pathLst>
              <a:path w="1412" h="1544">
                <a:moveTo>
                  <a:pt x="0" y="26"/>
                </a:moveTo>
                <a:lnTo>
                  <a:pt x="35" y="128"/>
                </a:lnTo>
                <a:lnTo>
                  <a:pt x="57" y="176"/>
                </a:lnTo>
                <a:lnTo>
                  <a:pt x="79" y="234"/>
                </a:lnTo>
                <a:lnTo>
                  <a:pt x="110" y="283"/>
                </a:lnTo>
                <a:lnTo>
                  <a:pt x="137" y="336"/>
                </a:lnTo>
                <a:lnTo>
                  <a:pt x="163" y="384"/>
                </a:lnTo>
                <a:lnTo>
                  <a:pt x="194" y="428"/>
                </a:lnTo>
                <a:lnTo>
                  <a:pt x="230" y="477"/>
                </a:lnTo>
                <a:lnTo>
                  <a:pt x="274" y="535"/>
                </a:lnTo>
                <a:lnTo>
                  <a:pt x="318" y="583"/>
                </a:lnTo>
                <a:lnTo>
                  <a:pt x="358" y="632"/>
                </a:lnTo>
                <a:lnTo>
                  <a:pt x="406" y="681"/>
                </a:lnTo>
                <a:lnTo>
                  <a:pt x="460" y="729"/>
                </a:lnTo>
                <a:lnTo>
                  <a:pt x="508" y="774"/>
                </a:lnTo>
                <a:lnTo>
                  <a:pt x="557" y="810"/>
                </a:lnTo>
                <a:lnTo>
                  <a:pt x="606" y="854"/>
                </a:lnTo>
                <a:lnTo>
                  <a:pt x="650" y="889"/>
                </a:lnTo>
                <a:lnTo>
                  <a:pt x="698" y="925"/>
                </a:lnTo>
                <a:lnTo>
                  <a:pt x="753" y="965"/>
                </a:lnTo>
                <a:lnTo>
                  <a:pt x="810" y="1000"/>
                </a:lnTo>
                <a:lnTo>
                  <a:pt x="859" y="1031"/>
                </a:lnTo>
                <a:lnTo>
                  <a:pt x="921" y="1062"/>
                </a:lnTo>
                <a:lnTo>
                  <a:pt x="974" y="1088"/>
                </a:lnTo>
                <a:lnTo>
                  <a:pt x="1027" y="1119"/>
                </a:lnTo>
                <a:lnTo>
                  <a:pt x="1080" y="1133"/>
                </a:lnTo>
                <a:lnTo>
                  <a:pt x="1129" y="1146"/>
                </a:lnTo>
                <a:lnTo>
                  <a:pt x="1173" y="1155"/>
                </a:lnTo>
                <a:lnTo>
                  <a:pt x="1288" y="1544"/>
                </a:lnTo>
                <a:lnTo>
                  <a:pt x="1288" y="1473"/>
                </a:lnTo>
                <a:lnTo>
                  <a:pt x="1288" y="1420"/>
                </a:lnTo>
                <a:lnTo>
                  <a:pt x="1288" y="1354"/>
                </a:lnTo>
                <a:lnTo>
                  <a:pt x="1297" y="1305"/>
                </a:lnTo>
                <a:lnTo>
                  <a:pt x="1301" y="1261"/>
                </a:lnTo>
                <a:lnTo>
                  <a:pt x="1301" y="1221"/>
                </a:lnTo>
                <a:lnTo>
                  <a:pt x="1310" y="1181"/>
                </a:lnTo>
                <a:lnTo>
                  <a:pt x="1319" y="1141"/>
                </a:lnTo>
                <a:lnTo>
                  <a:pt x="1332" y="1097"/>
                </a:lnTo>
                <a:lnTo>
                  <a:pt x="1345" y="1044"/>
                </a:lnTo>
                <a:lnTo>
                  <a:pt x="1359" y="996"/>
                </a:lnTo>
                <a:lnTo>
                  <a:pt x="1376" y="951"/>
                </a:lnTo>
                <a:lnTo>
                  <a:pt x="1394" y="903"/>
                </a:lnTo>
                <a:lnTo>
                  <a:pt x="1412" y="863"/>
                </a:lnTo>
                <a:lnTo>
                  <a:pt x="1389" y="836"/>
                </a:lnTo>
                <a:lnTo>
                  <a:pt x="1359" y="819"/>
                </a:lnTo>
                <a:lnTo>
                  <a:pt x="1332" y="792"/>
                </a:lnTo>
                <a:lnTo>
                  <a:pt x="1301" y="760"/>
                </a:lnTo>
                <a:lnTo>
                  <a:pt x="1270" y="729"/>
                </a:lnTo>
                <a:lnTo>
                  <a:pt x="1244" y="703"/>
                </a:lnTo>
                <a:lnTo>
                  <a:pt x="1217" y="672"/>
                </a:lnTo>
                <a:lnTo>
                  <a:pt x="1190" y="641"/>
                </a:lnTo>
                <a:lnTo>
                  <a:pt x="1164" y="610"/>
                </a:lnTo>
                <a:lnTo>
                  <a:pt x="1133" y="570"/>
                </a:lnTo>
                <a:lnTo>
                  <a:pt x="1106" y="539"/>
                </a:lnTo>
                <a:lnTo>
                  <a:pt x="1084" y="504"/>
                </a:lnTo>
                <a:lnTo>
                  <a:pt x="1058" y="468"/>
                </a:lnTo>
                <a:lnTo>
                  <a:pt x="1036" y="437"/>
                </a:lnTo>
                <a:lnTo>
                  <a:pt x="1013" y="402"/>
                </a:lnTo>
                <a:lnTo>
                  <a:pt x="983" y="367"/>
                </a:lnTo>
                <a:lnTo>
                  <a:pt x="952" y="313"/>
                </a:lnTo>
                <a:lnTo>
                  <a:pt x="1058" y="725"/>
                </a:lnTo>
                <a:lnTo>
                  <a:pt x="996" y="720"/>
                </a:lnTo>
                <a:lnTo>
                  <a:pt x="943" y="711"/>
                </a:lnTo>
                <a:lnTo>
                  <a:pt x="845" y="689"/>
                </a:lnTo>
                <a:lnTo>
                  <a:pt x="801" y="672"/>
                </a:lnTo>
                <a:lnTo>
                  <a:pt x="753" y="654"/>
                </a:lnTo>
                <a:lnTo>
                  <a:pt x="672" y="619"/>
                </a:lnTo>
                <a:lnTo>
                  <a:pt x="623" y="601"/>
                </a:lnTo>
                <a:lnTo>
                  <a:pt x="575" y="570"/>
                </a:lnTo>
                <a:lnTo>
                  <a:pt x="530" y="543"/>
                </a:lnTo>
                <a:lnTo>
                  <a:pt x="499" y="521"/>
                </a:lnTo>
                <a:lnTo>
                  <a:pt x="464" y="504"/>
                </a:lnTo>
                <a:lnTo>
                  <a:pt x="420" y="473"/>
                </a:lnTo>
                <a:lnTo>
                  <a:pt x="376" y="442"/>
                </a:lnTo>
                <a:lnTo>
                  <a:pt x="340" y="415"/>
                </a:lnTo>
                <a:lnTo>
                  <a:pt x="309" y="384"/>
                </a:lnTo>
                <a:lnTo>
                  <a:pt x="265" y="336"/>
                </a:lnTo>
                <a:lnTo>
                  <a:pt x="238" y="300"/>
                </a:lnTo>
                <a:lnTo>
                  <a:pt x="199" y="243"/>
                </a:lnTo>
                <a:lnTo>
                  <a:pt x="163" y="203"/>
                </a:lnTo>
                <a:lnTo>
                  <a:pt x="132" y="150"/>
                </a:lnTo>
                <a:lnTo>
                  <a:pt x="57" y="0"/>
                </a:lnTo>
                <a:lnTo>
                  <a:pt x="0" y="26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82920" y="3278160"/>
            <a:ext cx="70200" cy="152640"/>
          </a:xfrm>
          <a:custGeom>
            <a:avLst/>
            <a:gdLst/>
            <a:ahLst/>
            <a:rect l="0" t="0" r="r" b="b"/>
            <a:pathLst>
              <a:path w="195" h="424">
                <a:moveTo>
                  <a:pt x="0" y="35"/>
                </a:moveTo>
                <a:lnTo>
                  <a:pt x="85" y="0"/>
                </a:lnTo>
                <a:lnTo>
                  <a:pt x="195" y="410"/>
                </a:lnTo>
                <a:lnTo>
                  <a:pt x="149" y="424"/>
                </a:lnTo>
                <a:lnTo>
                  <a:pt x="94" y="410"/>
                </a:lnTo>
                <a:lnTo>
                  <a:pt x="0" y="35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361040" y="3581280"/>
            <a:ext cx="73440" cy="154440"/>
          </a:xfrm>
          <a:custGeom>
            <a:avLst/>
            <a:gdLst/>
            <a:ahLst/>
            <a:rect l="0" t="0" r="r" b="b"/>
            <a:pathLst>
              <a:path w="204" h="429">
                <a:moveTo>
                  <a:pt x="118" y="429"/>
                </a:moveTo>
                <a:lnTo>
                  <a:pt x="204" y="389"/>
                </a:lnTo>
                <a:lnTo>
                  <a:pt x="100" y="0"/>
                </a:lnTo>
                <a:lnTo>
                  <a:pt x="0" y="44"/>
                </a:lnTo>
                <a:lnTo>
                  <a:pt x="118" y="42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63960" y="3192480"/>
            <a:ext cx="519480" cy="543240"/>
          </a:xfrm>
          <a:custGeom>
            <a:avLst/>
            <a:gdLst/>
            <a:ahLst/>
            <a:rect l="0" t="0" r="r" b="b"/>
            <a:pathLst>
              <a:path w="1443" h="1509">
                <a:moveTo>
                  <a:pt x="0" y="0"/>
                </a:moveTo>
                <a:lnTo>
                  <a:pt x="35" y="97"/>
                </a:lnTo>
                <a:lnTo>
                  <a:pt x="53" y="145"/>
                </a:lnTo>
                <a:lnTo>
                  <a:pt x="79" y="203"/>
                </a:lnTo>
                <a:lnTo>
                  <a:pt x="110" y="252"/>
                </a:lnTo>
                <a:lnTo>
                  <a:pt x="137" y="309"/>
                </a:lnTo>
                <a:lnTo>
                  <a:pt x="168" y="358"/>
                </a:lnTo>
                <a:lnTo>
                  <a:pt x="194" y="402"/>
                </a:lnTo>
                <a:lnTo>
                  <a:pt x="230" y="451"/>
                </a:lnTo>
                <a:lnTo>
                  <a:pt x="274" y="508"/>
                </a:lnTo>
                <a:lnTo>
                  <a:pt x="318" y="552"/>
                </a:lnTo>
                <a:lnTo>
                  <a:pt x="363" y="601"/>
                </a:lnTo>
                <a:lnTo>
                  <a:pt x="412" y="650"/>
                </a:lnTo>
                <a:lnTo>
                  <a:pt x="461" y="694"/>
                </a:lnTo>
                <a:lnTo>
                  <a:pt x="514" y="743"/>
                </a:lnTo>
                <a:lnTo>
                  <a:pt x="562" y="779"/>
                </a:lnTo>
                <a:lnTo>
                  <a:pt x="615" y="823"/>
                </a:lnTo>
                <a:lnTo>
                  <a:pt x="660" y="854"/>
                </a:lnTo>
                <a:lnTo>
                  <a:pt x="713" y="894"/>
                </a:lnTo>
                <a:lnTo>
                  <a:pt x="761" y="929"/>
                </a:lnTo>
                <a:lnTo>
                  <a:pt x="823" y="965"/>
                </a:lnTo>
                <a:lnTo>
                  <a:pt x="872" y="996"/>
                </a:lnTo>
                <a:lnTo>
                  <a:pt x="934" y="1027"/>
                </a:lnTo>
                <a:lnTo>
                  <a:pt x="991" y="1058"/>
                </a:lnTo>
                <a:lnTo>
                  <a:pt x="1044" y="1084"/>
                </a:lnTo>
                <a:lnTo>
                  <a:pt x="1103" y="1097"/>
                </a:lnTo>
                <a:lnTo>
                  <a:pt x="1147" y="1111"/>
                </a:lnTo>
                <a:lnTo>
                  <a:pt x="1196" y="1115"/>
                </a:lnTo>
                <a:lnTo>
                  <a:pt x="1311" y="1509"/>
                </a:lnTo>
                <a:lnTo>
                  <a:pt x="1311" y="1438"/>
                </a:lnTo>
                <a:lnTo>
                  <a:pt x="1315" y="1385"/>
                </a:lnTo>
                <a:lnTo>
                  <a:pt x="1311" y="1318"/>
                </a:lnTo>
                <a:lnTo>
                  <a:pt x="1320" y="1270"/>
                </a:lnTo>
                <a:lnTo>
                  <a:pt x="1324" y="1221"/>
                </a:lnTo>
                <a:lnTo>
                  <a:pt x="1328" y="1186"/>
                </a:lnTo>
                <a:lnTo>
                  <a:pt x="1337" y="1142"/>
                </a:lnTo>
                <a:lnTo>
                  <a:pt x="1346" y="1102"/>
                </a:lnTo>
                <a:lnTo>
                  <a:pt x="1355" y="1058"/>
                </a:lnTo>
                <a:lnTo>
                  <a:pt x="1373" y="1009"/>
                </a:lnTo>
                <a:lnTo>
                  <a:pt x="1386" y="956"/>
                </a:lnTo>
                <a:lnTo>
                  <a:pt x="1404" y="912"/>
                </a:lnTo>
                <a:lnTo>
                  <a:pt x="1426" y="858"/>
                </a:lnTo>
                <a:lnTo>
                  <a:pt x="1443" y="819"/>
                </a:lnTo>
                <a:lnTo>
                  <a:pt x="1421" y="797"/>
                </a:lnTo>
                <a:lnTo>
                  <a:pt x="1390" y="774"/>
                </a:lnTo>
                <a:lnTo>
                  <a:pt x="1364" y="751"/>
                </a:lnTo>
                <a:lnTo>
                  <a:pt x="1328" y="720"/>
                </a:lnTo>
                <a:lnTo>
                  <a:pt x="1298" y="694"/>
                </a:lnTo>
                <a:lnTo>
                  <a:pt x="1271" y="663"/>
                </a:lnTo>
                <a:lnTo>
                  <a:pt x="1249" y="632"/>
                </a:lnTo>
                <a:lnTo>
                  <a:pt x="1218" y="601"/>
                </a:lnTo>
                <a:lnTo>
                  <a:pt x="1191" y="566"/>
                </a:lnTo>
                <a:lnTo>
                  <a:pt x="1160" y="530"/>
                </a:lnTo>
                <a:lnTo>
                  <a:pt x="1138" y="499"/>
                </a:lnTo>
                <a:lnTo>
                  <a:pt x="1112" y="468"/>
                </a:lnTo>
                <a:lnTo>
                  <a:pt x="1085" y="433"/>
                </a:lnTo>
                <a:lnTo>
                  <a:pt x="1058" y="398"/>
                </a:lnTo>
                <a:lnTo>
                  <a:pt x="1036" y="367"/>
                </a:lnTo>
                <a:lnTo>
                  <a:pt x="1009" y="327"/>
                </a:lnTo>
                <a:lnTo>
                  <a:pt x="978" y="278"/>
                </a:lnTo>
                <a:lnTo>
                  <a:pt x="1080" y="685"/>
                </a:lnTo>
                <a:lnTo>
                  <a:pt x="1013" y="685"/>
                </a:lnTo>
                <a:lnTo>
                  <a:pt x="960" y="676"/>
                </a:lnTo>
                <a:lnTo>
                  <a:pt x="863" y="650"/>
                </a:lnTo>
                <a:lnTo>
                  <a:pt x="814" y="636"/>
                </a:lnTo>
                <a:lnTo>
                  <a:pt x="770" y="619"/>
                </a:lnTo>
                <a:lnTo>
                  <a:pt x="686" y="588"/>
                </a:lnTo>
                <a:lnTo>
                  <a:pt x="637" y="566"/>
                </a:lnTo>
                <a:lnTo>
                  <a:pt x="580" y="543"/>
                </a:lnTo>
                <a:lnTo>
                  <a:pt x="536" y="517"/>
                </a:lnTo>
                <a:lnTo>
                  <a:pt x="491" y="495"/>
                </a:lnTo>
                <a:lnTo>
                  <a:pt x="452" y="477"/>
                </a:lnTo>
                <a:lnTo>
                  <a:pt x="412" y="451"/>
                </a:lnTo>
                <a:lnTo>
                  <a:pt x="368" y="420"/>
                </a:lnTo>
                <a:lnTo>
                  <a:pt x="327" y="389"/>
                </a:lnTo>
                <a:lnTo>
                  <a:pt x="283" y="358"/>
                </a:lnTo>
                <a:lnTo>
                  <a:pt x="243" y="318"/>
                </a:lnTo>
                <a:lnTo>
                  <a:pt x="203" y="274"/>
                </a:lnTo>
                <a:lnTo>
                  <a:pt x="168" y="229"/>
                </a:lnTo>
                <a:lnTo>
                  <a:pt x="132" y="185"/>
                </a:lnTo>
                <a:lnTo>
                  <a:pt x="92" y="137"/>
                </a:lnTo>
                <a:lnTo>
                  <a:pt x="57" y="84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70440" y="4129200"/>
            <a:ext cx="379800" cy="284400"/>
          </a:xfrm>
          <a:custGeom>
            <a:avLst/>
            <a:gdLst/>
            <a:ahLst/>
            <a:rect l="0" t="0" r="r" b="b"/>
            <a:pathLst>
              <a:path w="1055" h="790">
                <a:moveTo>
                  <a:pt x="0" y="768"/>
                </a:moveTo>
                <a:lnTo>
                  <a:pt x="44" y="790"/>
                </a:lnTo>
                <a:lnTo>
                  <a:pt x="88" y="719"/>
                </a:lnTo>
                <a:lnTo>
                  <a:pt x="132" y="657"/>
                </a:lnTo>
                <a:lnTo>
                  <a:pt x="177" y="604"/>
                </a:lnTo>
                <a:lnTo>
                  <a:pt x="216" y="550"/>
                </a:lnTo>
                <a:lnTo>
                  <a:pt x="261" y="502"/>
                </a:lnTo>
                <a:lnTo>
                  <a:pt x="302" y="466"/>
                </a:lnTo>
                <a:lnTo>
                  <a:pt x="337" y="431"/>
                </a:lnTo>
                <a:lnTo>
                  <a:pt x="377" y="385"/>
                </a:lnTo>
                <a:lnTo>
                  <a:pt x="417" y="359"/>
                </a:lnTo>
                <a:lnTo>
                  <a:pt x="470" y="319"/>
                </a:lnTo>
                <a:lnTo>
                  <a:pt x="514" y="292"/>
                </a:lnTo>
                <a:lnTo>
                  <a:pt x="563" y="266"/>
                </a:lnTo>
                <a:lnTo>
                  <a:pt x="607" y="243"/>
                </a:lnTo>
                <a:lnTo>
                  <a:pt x="665" y="217"/>
                </a:lnTo>
                <a:lnTo>
                  <a:pt x="731" y="186"/>
                </a:lnTo>
                <a:lnTo>
                  <a:pt x="771" y="168"/>
                </a:lnTo>
                <a:lnTo>
                  <a:pt x="821" y="155"/>
                </a:lnTo>
                <a:lnTo>
                  <a:pt x="865" y="137"/>
                </a:lnTo>
                <a:lnTo>
                  <a:pt x="905" y="124"/>
                </a:lnTo>
                <a:lnTo>
                  <a:pt x="971" y="110"/>
                </a:lnTo>
                <a:lnTo>
                  <a:pt x="1024" y="110"/>
                </a:lnTo>
                <a:lnTo>
                  <a:pt x="1055" y="0"/>
                </a:lnTo>
                <a:lnTo>
                  <a:pt x="967" y="4"/>
                </a:lnTo>
                <a:lnTo>
                  <a:pt x="874" y="26"/>
                </a:lnTo>
                <a:lnTo>
                  <a:pt x="784" y="57"/>
                </a:lnTo>
                <a:lnTo>
                  <a:pt x="687" y="101"/>
                </a:lnTo>
                <a:lnTo>
                  <a:pt x="554" y="159"/>
                </a:lnTo>
                <a:lnTo>
                  <a:pt x="426" y="230"/>
                </a:lnTo>
                <a:lnTo>
                  <a:pt x="310" y="319"/>
                </a:lnTo>
                <a:lnTo>
                  <a:pt x="230" y="400"/>
                </a:lnTo>
                <a:lnTo>
                  <a:pt x="137" y="510"/>
                </a:lnTo>
                <a:lnTo>
                  <a:pt x="79" y="608"/>
                </a:lnTo>
                <a:lnTo>
                  <a:pt x="0" y="768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13240" y="3843360"/>
            <a:ext cx="93960" cy="262440"/>
          </a:xfrm>
          <a:custGeom>
            <a:avLst/>
            <a:gdLst/>
            <a:ahLst/>
            <a:rect l="0" t="0" r="r" b="b"/>
            <a:pathLst>
              <a:path w="261" h="729">
                <a:moveTo>
                  <a:pt x="149" y="685"/>
                </a:moveTo>
                <a:lnTo>
                  <a:pt x="261" y="725"/>
                </a:lnTo>
                <a:lnTo>
                  <a:pt x="238" y="694"/>
                </a:lnTo>
                <a:lnTo>
                  <a:pt x="220" y="658"/>
                </a:lnTo>
                <a:lnTo>
                  <a:pt x="202" y="614"/>
                </a:lnTo>
                <a:lnTo>
                  <a:pt x="184" y="561"/>
                </a:lnTo>
                <a:lnTo>
                  <a:pt x="166" y="506"/>
                </a:lnTo>
                <a:lnTo>
                  <a:pt x="149" y="453"/>
                </a:lnTo>
                <a:lnTo>
                  <a:pt x="131" y="409"/>
                </a:lnTo>
                <a:lnTo>
                  <a:pt x="116" y="364"/>
                </a:lnTo>
                <a:lnTo>
                  <a:pt x="107" y="320"/>
                </a:lnTo>
                <a:lnTo>
                  <a:pt x="98" y="271"/>
                </a:lnTo>
                <a:lnTo>
                  <a:pt x="89" y="218"/>
                </a:lnTo>
                <a:lnTo>
                  <a:pt x="89" y="168"/>
                </a:lnTo>
                <a:lnTo>
                  <a:pt x="89" y="124"/>
                </a:lnTo>
                <a:lnTo>
                  <a:pt x="89" y="70"/>
                </a:lnTo>
                <a:lnTo>
                  <a:pt x="85" y="31"/>
                </a:lnTo>
                <a:lnTo>
                  <a:pt x="4" y="0"/>
                </a:lnTo>
                <a:lnTo>
                  <a:pt x="0" y="66"/>
                </a:lnTo>
                <a:lnTo>
                  <a:pt x="0" y="164"/>
                </a:lnTo>
                <a:lnTo>
                  <a:pt x="0" y="293"/>
                </a:lnTo>
                <a:lnTo>
                  <a:pt x="17" y="395"/>
                </a:lnTo>
                <a:lnTo>
                  <a:pt x="58" y="497"/>
                </a:lnTo>
                <a:lnTo>
                  <a:pt x="89" y="596"/>
                </a:lnTo>
                <a:lnTo>
                  <a:pt x="125" y="676"/>
                </a:lnTo>
                <a:lnTo>
                  <a:pt x="256" y="729"/>
                </a:lnTo>
                <a:lnTo>
                  <a:pt x="256" y="725"/>
                </a:lnTo>
                <a:lnTo>
                  <a:pt x="149" y="685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08480" y="4086360"/>
            <a:ext cx="197280" cy="217800"/>
          </a:xfrm>
          <a:custGeom>
            <a:avLst/>
            <a:gdLst/>
            <a:ahLst/>
            <a:rect l="0" t="0" r="r" b="b"/>
            <a:pathLst>
              <a:path w="548" h="605">
                <a:moveTo>
                  <a:pt x="0" y="565"/>
                </a:moveTo>
                <a:lnTo>
                  <a:pt x="88" y="605"/>
                </a:lnTo>
                <a:lnTo>
                  <a:pt x="111" y="565"/>
                </a:lnTo>
                <a:lnTo>
                  <a:pt x="138" y="525"/>
                </a:lnTo>
                <a:lnTo>
                  <a:pt x="161" y="489"/>
                </a:lnTo>
                <a:lnTo>
                  <a:pt x="187" y="454"/>
                </a:lnTo>
                <a:lnTo>
                  <a:pt x="218" y="409"/>
                </a:lnTo>
                <a:lnTo>
                  <a:pt x="254" y="365"/>
                </a:lnTo>
                <a:lnTo>
                  <a:pt x="298" y="303"/>
                </a:lnTo>
                <a:lnTo>
                  <a:pt x="343" y="248"/>
                </a:lnTo>
                <a:lnTo>
                  <a:pt x="369" y="213"/>
                </a:lnTo>
                <a:lnTo>
                  <a:pt x="409" y="168"/>
                </a:lnTo>
                <a:lnTo>
                  <a:pt x="455" y="128"/>
                </a:lnTo>
                <a:lnTo>
                  <a:pt x="499" y="84"/>
                </a:lnTo>
                <a:lnTo>
                  <a:pt x="526" y="57"/>
                </a:lnTo>
                <a:lnTo>
                  <a:pt x="548" y="44"/>
                </a:lnTo>
                <a:lnTo>
                  <a:pt x="437" y="0"/>
                </a:lnTo>
                <a:lnTo>
                  <a:pt x="392" y="26"/>
                </a:lnTo>
                <a:lnTo>
                  <a:pt x="321" y="93"/>
                </a:lnTo>
                <a:lnTo>
                  <a:pt x="245" y="168"/>
                </a:lnTo>
                <a:lnTo>
                  <a:pt x="187" y="244"/>
                </a:lnTo>
                <a:lnTo>
                  <a:pt x="120" y="329"/>
                </a:lnTo>
                <a:lnTo>
                  <a:pt x="62" y="423"/>
                </a:lnTo>
                <a:lnTo>
                  <a:pt x="31" y="485"/>
                </a:lnTo>
                <a:lnTo>
                  <a:pt x="0" y="565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71880" y="3843360"/>
            <a:ext cx="495720" cy="565560"/>
          </a:xfrm>
          <a:custGeom>
            <a:avLst/>
            <a:gdLst/>
            <a:ahLst/>
            <a:rect l="0" t="0" r="r" b="b"/>
            <a:pathLst>
              <a:path w="1377" h="1571">
                <a:moveTo>
                  <a:pt x="0" y="1571"/>
                </a:moveTo>
                <a:lnTo>
                  <a:pt x="26" y="1465"/>
                </a:lnTo>
                <a:lnTo>
                  <a:pt x="48" y="1417"/>
                </a:lnTo>
                <a:lnTo>
                  <a:pt x="70" y="1364"/>
                </a:lnTo>
                <a:lnTo>
                  <a:pt x="97" y="1310"/>
                </a:lnTo>
                <a:lnTo>
                  <a:pt x="123" y="1253"/>
                </a:lnTo>
                <a:lnTo>
                  <a:pt x="150" y="1204"/>
                </a:lnTo>
                <a:lnTo>
                  <a:pt x="181" y="1155"/>
                </a:lnTo>
                <a:lnTo>
                  <a:pt x="212" y="1106"/>
                </a:lnTo>
                <a:lnTo>
                  <a:pt x="252" y="1049"/>
                </a:lnTo>
                <a:lnTo>
                  <a:pt x="296" y="1000"/>
                </a:lnTo>
                <a:lnTo>
                  <a:pt x="336" y="951"/>
                </a:lnTo>
                <a:lnTo>
                  <a:pt x="381" y="898"/>
                </a:lnTo>
                <a:lnTo>
                  <a:pt x="430" y="850"/>
                </a:lnTo>
                <a:lnTo>
                  <a:pt x="478" y="801"/>
                </a:lnTo>
                <a:lnTo>
                  <a:pt x="527" y="761"/>
                </a:lnTo>
                <a:lnTo>
                  <a:pt x="571" y="717"/>
                </a:lnTo>
                <a:lnTo>
                  <a:pt x="615" y="682"/>
                </a:lnTo>
                <a:lnTo>
                  <a:pt x="669" y="642"/>
                </a:lnTo>
                <a:lnTo>
                  <a:pt x="717" y="602"/>
                </a:lnTo>
                <a:lnTo>
                  <a:pt x="775" y="562"/>
                </a:lnTo>
                <a:lnTo>
                  <a:pt x="819" y="527"/>
                </a:lnTo>
                <a:lnTo>
                  <a:pt x="876" y="496"/>
                </a:lnTo>
                <a:lnTo>
                  <a:pt x="930" y="465"/>
                </a:lnTo>
                <a:lnTo>
                  <a:pt x="983" y="438"/>
                </a:lnTo>
                <a:lnTo>
                  <a:pt x="1037" y="421"/>
                </a:lnTo>
                <a:lnTo>
                  <a:pt x="1085" y="403"/>
                </a:lnTo>
                <a:lnTo>
                  <a:pt x="1125" y="394"/>
                </a:lnTo>
                <a:lnTo>
                  <a:pt x="1231" y="0"/>
                </a:lnTo>
                <a:lnTo>
                  <a:pt x="1236" y="61"/>
                </a:lnTo>
                <a:lnTo>
                  <a:pt x="1236" y="132"/>
                </a:lnTo>
                <a:lnTo>
                  <a:pt x="1240" y="190"/>
                </a:lnTo>
                <a:lnTo>
                  <a:pt x="1245" y="234"/>
                </a:lnTo>
                <a:lnTo>
                  <a:pt x="1245" y="287"/>
                </a:lnTo>
                <a:lnTo>
                  <a:pt x="1253" y="327"/>
                </a:lnTo>
                <a:lnTo>
                  <a:pt x="1262" y="362"/>
                </a:lnTo>
                <a:lnTo>
                  <a:pt x="1276" y="403"/>
                </a:lnTo>
                <a:lnTo>
                  <a:pt x="1284" y="447"/>
                </a:lnTo>
                <a:lnTo>
                  <a:pt x="1302" y="496"/>
                </a:lnTo>
                <a:lnTo>
                  <a:pt x="1320" y="544"/>
                </a:lnTo>
                <a:lnTo>
                  <a:pt x="1338" y="589"/>
                </a:lnTo>
                <a:lnTo>
                  <a:pt x="1355" y="642"/>
                </a:lnTo>
                <a:lnTo>
                  <a:pt x="1377" y="682"/>
                </a:lnTo>
                <a:lnTo>
                  <a:pt x="1351" y="704"/>
                </a:lnTo>
                <a:lnTo>
                  <a:pt x="1324" y="730"/>
                </a:lnTo>
                <a:lnTo>
                  <a:pt x="1298" y="752"/>
                </a:lnTo>
                <a:lnTo>
                  <a:pt x="1267" y="783"/>
                </a:lnTo>
                <a:lnTo>
                  <a:pt x="1236" y="814"/>
                </a:lnTo>
                <a:lnTo>
                  <a:pt x="1209" y="845"/>
                </a:lnTo>
                <a:lnTo>
                  <a:pt x="1187" y="872"/>
                </a:lnTo>
                <a:lnTo>
                  <a:pt x="1161" y="907"/>
                </a:lnTo>
                <a:lnTo>
                  <a:pt x="1134" y="942"/>
                </a:lnTo>
                <a:lnTo>
                  <a:pt x="1107" y="978"/>
                </a:lnTo>
                <a:lnTo>
                  <a:pt x="1081" y="1013"/>
                </a:lnTo>
                <a:lnTo>
                  <a:pt x="1054" y="1044"/>
                </a:lnTo>
                <a:lnTo>
                  <a:pt x="1037" y="1084"/>
                </a:lnTo>
                <a:lnTo>
                  <a:pt x="1009" y="1119"/>
                </a:lnTo>
                <a:lnTo>
                  <a:pt x="987" y="1150"/>
                </a:lnTo>
                <a:lnTo>
                  <a:pt x="960" y="1191"/>
                </a:lnTo>
                <a:lnTo>
                  <a:pt x="934" y="1244"/>
                </a:lnTo>
                <a:lnTo>
                  <a:pt x="1022" y="827"/>
                </a:lnTo>
                <a:lnTo>
                  <a:pt x="960" y="832"/>
                </a:lnTo>
                <a:lnTo>
                  <a:pt x="912" y="845"/>
                </a:lnTo>
                <a:lnTo>
                  <a:pt x="819" y="872"/>
                </a:lnTo>
                <a:lnTo>
                  <a:pt x="770" y="894"/>
                </a:lnTo>
                <a:lnTo>
                  <a:pt x="726" y="911"/>
                </a:lnTo>
                <a:lnTo>
                  <a:pt x="646" y="947"/>
                </a:lnTo>
                <a:lnTo>
                  <a:pt x="602" y="973"/>
                </a:lnTo>
                <a:lnTo>
                  <a:pt x="545" y="1000"/>
                </a:lnTo>
                <a:lnTo>
                  <a:pt x="500" y="1022"/>
                </a:lnTo>
                <a:lnTo>
                  <a:pt x="461" y="1049"/>
                </a:lnTo>
                <a:lnTo>
                  <a:pt x="421" y="1066"/>
                </a:lnTo>
                <a:lnTo>
                  <a:pt x="385" y="1097"/>
                </a:lnTo>
                <a:lnTo>
                  <a:pt x="340" y="1128"/>
                </a:lnTo>
                <a:lnTo>
                  <a:pt x="305" y="1164"/>
                </a:lnTo>
                <a:lnTo>
                  <a:pt x="265" y="1195"/>
                </a:lnTo>
                <a:lnTo>
                  <a:pt x="225" y="1240"/>
                </a:lnTo>
                <a:lnTo>
                  <a:pt x="190" y="1279"/>
                </a:lnTo>
                <a:lnTo>
                  <a:pt x="154" y="1333"/>
                </a:lnTo>
                <a:lnTo>
                  <a:pt x="119" y="1377"/>
                </a:lnTo>
                <a:lnTo>
                  <a:pt x="84" y="1430"/>
                </a:lnTo>
                <a:lnTo>
                  <a:pt x="53" y="1483"/>
                </a:lnTo>
                <a:lnTo>
                  <a:pt x="0" y="1571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716960" y="2158920"/>
            <a:ext cx="55404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18080" y="3400560"/>
            <a:ext cx="141912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407280" y="2671920"/>
            <a:ext cx="141912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6105600" y="3281400"/>
            <a:ext cx="957240" cy="9320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3605040" y="1150920"/>
            <a:ext cx="1862280" cy="8254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 flipH="1" flipV="1">
            <a:off x="4446720" y="1820880"/>
            <a:ext cx="118800" cy="922320"/>
          </a:xfrm>
          <a:prstGeom prst="line">
            <a:avLst/>
          </a:prstGeom>
          <a:ln w="101520">
            <a:solidFill>
              <a:srgbClr val="5f5f5f"/>
            </a:solidFill>
            <a:custDash>
              <a:ds d="400355" sp="400355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52480" y="6129360"/>
            <a:ext cx="170172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124160" y="1004760"/>
            <a:ext cx="115092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FIPA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FIPA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Propose standards by Oct.’97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Ag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Agent/Agent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Agent/Software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Validation in ‘98 via field trial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Personal Trave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Personal As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Audio-Video Entertainment &amp; Broa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Network Management and Provis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1600200"/>
            <a:ext cx="7772400" cy="7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ccff"/>
                </a:solidFill>
                <a:latin typeface="Arial"/>
                <a:ea typeface="Arial"/>
              </a:rPr>
              <a:t>General FIPA Organ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762120" y="1714680"/>
            <a:ext cx="770904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nald Steiner</dc:creator>
  <dc:description/>
  <dc:language>en-US</dc:language>
  <cp:lastModifiedBy>chiariglione</cp:lastModifiedBy>
  <cp:revision>0</cp:revision>
  <dc:subject/>
  <dc:title>Issues in Agent Interaction</dc:title>
</cp:coreProperties>
</file>