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843120"/>
            <a:ext cx="2895840" cy="6018480"/>
          </a:xfrm>
          <a:custGeom>
            <a:avLst/>
            <a:gdLst/>
            <a:ahLst/>
            <a:rect l="0" t="0" r="r" b="b"/>
            <a:pathLst>
              <a:path w="8044" h="16718">
                <a:moveTo>
                  <a:pt x="0" y="16718"/>
                </a:moveTo>
                <a:lnTo>
                  <a:pt x="8044" y="16718"/>
                </a:lnTo>
                <a:lnTo>
                  <a:pt x="8044" y="16718"/>
                </a:lnTo>
                <a:lnTo>
                  <a:pt x="8044" y="16718"/>
                </a:lnTo>
                <a:cubicBezTo>
                  <a:pt x="8044" y="13783"/>
                  <a:pt x="7672" y="10900"/>
                  <a:pt x="6966" y="8359"/>
                </a:cubicBezTo>
                <a:cubicBezTo>
                  <a:pt x="6260" y="5818"/>
                  <a:pt x="5245" y="3707"/>
                  <a:pt x="4022" y="2240"/>
                </a:cubicBezTo>
                <a:cubicBezTo>
                  <a:pt x="2802" y="775"/>
                  <a:pt x="1417" y="3"/>
                  <a:pt x="8" y="0"/>
                </a:cubicBezTo>
                <a:lnTo>
                  <a:pt x="0" y="16718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440" y="1708200"/>
            <a:ext cx="9145800" cy="0"/>
          </a:xfrm>
          <a:prstGeom prst="line">
            <a:avLst/>
          </a:prstGeom>
          <a:ln w="12600">
            <a:solidFill>
              <a:srgbClr val="0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43120"/>
            <a:ext cx="2895840" cy="6018480"/>
          </a:xfrm>
          <a:custGeom>
            <a:avLst/>
            <a:gdLst/>
            <a:ahLst/>
            <a:rect l="0" t="0" r="r" b="b"/>
            <a:pathLst>
              <a:path w="8044" h="16718">
                <a:moveTo>
                  <a:pt x="0" y="16718"/>
                </a:moveTo>
                <a:lnTo>
                  <a:pt x="8044" y="16718"/>
                </a:lnTo>
                <a:lnTo>
                  <a:pt x="8044" y="16718"/>
                </a:lnTo>
                <a:lnTo>
                  <a:pt x="8044" y="16718"/>
                </a:lnTo>
                <a:cubicBezTo>
                  <a:pt x="8044" y="13783"/>
                  <a:pt x="7672" y="10900"/>
                  <a:pt x="6966" y="8359"/>
                </a:cubicBezTo>
                <a:cubicBezTo>
                  <a:pt x="6260" y="5818"/>
                  <a:pt x="5245" y="3707"/>
                  <a:pt x="4022" y="2240"/>
                </a:cubicBezTo>
                <a:cubicBezTo>
                  <a:pt x="2802" y="775"/>
                  <a:pt x="1417" y="3"/>
                  <a:pt x="8" y="0"/>
                </a:cubicBezTo>
                <a:lnTo>
                  <a:pt x="0" y="16718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743200" y="426960"/>
            <a:ext cx="6399360" cy="15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  <a:ea typeface="Arial Narrow"/>
              </a:rPr>
              <a:t>Intelligent Agents and Journalis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191120" y="1752480"/>
            <a:ext cx="4572000" cy="188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John V. Pavl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The Center for New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The Graduate School of Journ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Columbia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819520" y="10270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0000"/>
              </a:lnSpc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  <a:ea typeface="Arial Narrow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81952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66"/>
              </a:buClr>
              <a:buSzPct val="50000"/>
              <a:buFont typeface="Monotype Sorts"/>
              <a:buChar char=""/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Ubiquitou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66"/>
              </a:buClr>
              <a:buSzPct val="50000"/>
              <a:buFont typeface="Monotype Sorts"/>
              <a:buChar char=""/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Agents as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66"/>
              </a:buClr>
              <a:buSzPct val="50000"/>
              <a:buFont typeface="Monotype Sorts"/>
              <a:buChar char=""/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Potential problems of agents in journ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819520" y="10288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0000"/>
              </a:lnSpc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  <a:ea typeface="Arial Narrow"/>
              </a:rPr>
              <a:t>Four Areas of Impa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81952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66"/>
              </a:buClr>
              <a:buSzPct val="50000"/>
              <a:buFont typeface="Monotype Sorts"/>
              <a:buChar char=""/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How journalists do thei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66"/>
              </a:buClr>
              <a:buSzPct val="50000"/>
              <a:buFont typeface="Monotype Sorts"/>
              <a:buChar char=""/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The content of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66"/>
              </a:buClr>
              <a:buSzPct val="50000"/>
              <a:buFont typeface="Monotype Sorts"/>
              <a:buChar char=""/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The structure and management of the newsroom,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66"/>
              </a:buClr>
              <a:buSzPct val="50000"/>
              <a:buFont typeface="Monotype Sorts"/>
              <a:buChar char=""/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The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19520" y="10270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0000"/>
              </a:lnSpc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  <a:ea typeface="Arial Narrow"/>
              </a:rPr>
              <a:t>How Journalists do their 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1952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66"/>
              </a:buClr>
              <a:buSzPct val="50000"/>
              <a:buFont typeface="Monotype Sorts"/>
              <a:buChar char=""/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Information Access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336699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  <a:ea typeface="Arial"/>
              </a:rPr>
              <a:t>Mail and messsa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336699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  <a:ea typeface="Arial"/>
              </a:rPr>
              <a:t>Filtering newsgroups, use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66"/>
              </a:buClr>
              <a:buSzPct val="50000"/>
              <a:buFont typeface="Monotype Sorts"/>
              <a:buChar char=""/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Mobile Journalist Work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66"/>
              </a:buClr>
              <a:buSzPct val="50000"/>
              <a:buFont typeface="Monotype Sorts"/>
              <a:buChar char=""/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Columbia Digital New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819520" y="1025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0000"/>
              </a:lnSpc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  <a:ea typeface="Arial Narrow"/>
              </a:rPr>
              <a:t>Reshaping News Cont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1952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66"/>
              </a:buClr>
              <a:buSzPct val="50000"/>
              <a:buFont typeface="Monotype Sorts"/>
              <a:buChar char=""/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Specialized, customized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66"/>
              </a:buClr>
              <a:buSzPct val="50000"/>
              <a:buFont typeface="Monotype Sorts"/>
              <a:buChar char=""/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Identifying, retrieving new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66"/>
              </a:buClr>
              <a:buSzPct val="50000"/>
              <a:buFont typeface="Monotype Sorts"/>
              <a:buChar char=""/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Potential for ce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819520" y="10270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0000"/>
              </a:lnSpc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  <a:ea typeface="Arial Narrow"/>
              </a:rPr>
              <a:t>Newsroom Structure and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81952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66"/>
              </a:buClr>
              <a:buSzPct val="50000"/>
              <a:buFont typeface="Monotype Sorts"/>
              <a:buChar char=""/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News sources becoming news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66"/>
              </a:buClr>
              <a:buSzPct val="50000"/>
              <a:buFont typeface="Monotype Sorts"/>
              <a:buChar char=""/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Newsroo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66"/>
              </a:buClr>
              <a:buSzPct val="50000"/>
              <a:buFont typeface="Monotype Sorts"/>
              <a:buChar char=""/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Computer networ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66"/>
              </a:buClr>
              <a:buSzPct val="50000"/>
              <a:buFont typeface="Monotype Sorts"/>
              <a:buChar char=""/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Mobile access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66"/>
              </a:buClr>
              <a:buSzPct val="50000"/>
              <a:buFont typeface="Monotype Sorts"/>
              <a:buChar char=""/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E-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336699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  <a:ea typeface="Arial"/>
              </a:rPr>
              <a:t>Filters facilitate efficient e-comme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336699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  <a:ea typeface="Arial"/>
              </a:rPr>
              <a:t>Privacy threat, US vs.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819520" y="10098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0000"/>
              </a:lnSpc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  <a:ea typeface="Arial Narrow"/>
              </a:rPr>
              <a:t>Audience Im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1952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66"/>
              </a:buClr>
              <a:buSzPct val="50000"/>
              <a:buFont typeface="Monotype Sorts"/>
              <a:buChar char=""/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Potential audience 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66"/>
              </a:buClr>
              <a:buSzPct val="50000"/>
              <a:buFont typeface="Monotype Sorts"/>
              <a:buChar char=""/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Adaptive user interfaces: beyond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819520" y="10270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0000"/>
              </a:lnSpc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  <a:ea typeface="Arial Narrow"/>
              </a:rPr>
              <a:t>The Fu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81952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66"/>
              </a:buClr>
              <a:buSzPct val="50000"/>
              <a:buFont typeface="Monotype Sorts"/>
              <a:buChar char=""/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Integrating agent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9966"/>
              </a:buClr>
              <a:buSzPct val="50000"/>
              <a:buFont typeface="Monotype Sorts"/>
              <a:buChar char=""/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Balancing commercial imperatives, journalists need to know, privacy and ce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ac</dc:creator>
  <dc:description/>
  <dc:language>en-US</dc:language>
  <cp:lastModifiedBy>fac</cp:lastModifiedBy>
  <cp:revision>0</cp:revision>
  <dc:subject/>
  <dc:title>Intelligent Agents and Journalism</dc:title>
</cp:coreProperties>
</file>