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059360" cy="30481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2666880" y="5334120"/>
            <a:ext cx="3886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1996 by Paramount Pi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3808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o Control “DATA”, or A Legal Perspective on the Use and Applications of Intelligent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5715000"/>
            <a:ext cx="4648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ra K. Gi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09480" y="0"/>
            <a:ext cx="617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urisdiction ove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an ta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an impose custom du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common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09480" y="0"/>
            <a:ext cx="617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form Commercia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d facilitate electronic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validity of electronic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ttribution of data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4267080"/>
            <a:ext cx="49528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ITRAL Mode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CC Artic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Limitation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Quality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Specific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mitation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Safeguards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Participation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0"/>
            <a:ext cx="4648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ECD Privac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9480" y="0"/>
            <a:ext cx="617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ensure consumer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elf-regulation must be stepped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-In” vs. “Opt-Out”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/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repudi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Audit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 of Secu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0"/>
            <a:ext cx="4724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curit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09480" y="0"/>
            <a:ext cx="617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“key” system for ope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key and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keys remain 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of Certification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09480" y="0"/>
            <a:ext cx="617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of “specialized industr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ternet insurance to prevent “hac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ternet insurance for electronic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of things to 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67652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ary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ous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 of interes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, gathering and filter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commerc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765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/workflow control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suppor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ssistan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integration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or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, planning and resource allocation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tool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2240" y="5546880"/>
            <a:ext cx="3849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 Society (http://www.agent.org/pub/metaview.html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0"/>
            <a:ext cx="6095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486640" cy="3882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5105520"/>
            <a:ext cx="5837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H. Guttman et al., Agent-mediated Electronic Commerce:  A Survey (MIT Media Laborator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 Systems as Mediators in Electronic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75248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39720" indent="-1082520">
              <a:lnSpc>
                <a:spcPct val="100000"/>
              </a:lnSpc>
              <a:spcBef>
                <a:spcPts val="479"/>
              </a:spcBef>
              <a:tabLst>
                <a:tab algn="l" pos="155412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arrow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mpasses electronic business transactions and selling and buying over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39720" indent="-1082520">
              <a:lnSpc>
                <a:spcPct val="100000"/>
              </a:lnSpc>
              <a:spcBef>
                <a:spcPts val="479"/>
              </a:spcBef>
              <a:tabLst>
                <a:tab algn="l" pos="155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39720" indent="-1082520">
              <a:lnSpc>
                <a:spcPct val="100000"/>
              </a:lnSpc>
              <a:spcBef>
                <a:spcPts val="479"/>
              </a:spcBef>
              <a:tabLst>
                <a:tab algn="l" pos="155412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roa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ned with the electronic marketplace, the emerging market economy where producers, intermediaries and consumers interact electronically or digi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5228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finitions of Electronic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743880" cy="46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47920" y="5715000"/>
            <a:ext cx="4800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yberatlas (http://www.cyberatlas.com/market/size/historical_data.ht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owth Of The Internet - Histor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830240"/>
            <a:ext cx="8196120" cy="2660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62120" y="3962520"/>
            <a:ext cx="4632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beratlas (http://www.cyberatlas.com/segments/retail/market_forecast.html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52280"/>
            <a:ext cx="8305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owth of Electronic Commerce 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9360" y="342900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175428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393840" cy="10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027320" y="2514600"/>
            <a:ext cx="2004840" cy="1536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0" y="304812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6760" y="342900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06760" y="358128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75428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477120" y="2666880"/>
            <a:ext cx="1612800" cy="1612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945040" y="3429000"/>
            <a:ext cx="532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86600" y="4419720"/>
            <a:ext cx="393840" cy="1003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flipV="1">
            <a:off x="5945040" y="3963960"/>
            <a:ext cx="1065240" cy="988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6560" y="4952880"/>
            <a:ext cx="5103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858000" y="3048120"/>
            <a:ext cx="76356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490680" y="3157560"/>
            <a:ext cx="84924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838080" y="0"/>
            <a:ext cx="5867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urisdiction ove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23320" cy="3594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0"/>
            <a:ext cx="556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urisdiction ove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52920" y="1824120"/>
            <a:ext cx="2219400" cy="2295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622440" cy="62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622440" cy="62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05520" y="2743200"/>
            <a:ext cx="622440" cy="62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6960" y="236376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92560" y="236232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7480" y="297180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85880" y="3424320"/>
            <a:ext cx="2219400" cy="206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622440" cy="62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819520" y="4343400"/>
            <a:ext cx="622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038480" y="4343400"/>
            <a:ext cx="622440" cy="62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40280" y="396396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25880" y="396252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440" y="457200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9600" y="3424320"/>
            <a:ext cx="2219400" cy="206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5486400" y="3581280"/>
            <a:ext cx="622440" cy="62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876920" y="4343400"/>
            <a:ext cx="622440" cy="62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095880" y="4343400"/>
            <a:ext cx="622440" cy="622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7680" y="396396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83280" y="396252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7840" y="457200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40280" y="38098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7840" y="3354480"/>
            <a:ext cx="227160" cy="226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87640" y="3354480"/>
            <a:ext cx="303480" cy="226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9760" y="45720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6019920"/>
            <a:ext cx="9142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617220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EngraversGothic BT"/>
                <a:ea typeface="EngraversGothic BT"/>
              </a:rPr>
              <a:t>Coudert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0"/>
            <a:ext cx="617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urisdiction ove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4340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76720" y="5486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257800" y="54864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a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ise West</dc:creator>
  <dc:description/>
  <dc:language>en-US</dc:language>
  <cp:lastModifiedBy>Denise West</cp:lastModifiedBy>
  <cp:revision>0</cp:revision>
  <dc:subject/>
  <dc:title>Electronic Commerce Definitions</dc:title>
</cp:coreProperties>
</file>